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791700" cy="1418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174-B026-4AF4-9C31-7058B3B7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88B-7346-446C-80B6-389E63EF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268-D95E-4494-AA39-86CDC622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D4E-3984-4D50-91F9-1AF6C376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4D1-D2EC-43AE-BC45-FA0AA40C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139-1F49-4402-83FB-3975FFCF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27A-158A-473B-BF2B-7E56AE09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7C7-24F9-445D-9952-5BE4EAEC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986-9023-4906-A9E4-44A0478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685-3B0E-49F4-B749-73D21BEB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B97-3C9E-4248-9362-F5EADB94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D11-39D7-449E-8096-CAA2BFB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0D13-ED1B-48F8-A0B6-7B7239869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35040" y="2490480"/>
            <a:ext cx="0" cy="11350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1960" y="1744560"/>
            <a:ext cx="615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Op 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1744560"/>
            <a:ext cx="509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Op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8850240" y="2224080"/>
            <a:ext cx="69840" cy="1015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957840" y="2969280"/>
            <a:ext cx="6840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9250200" y="3484080"/>
            <a:ext cx="69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601560" y="2982600"/>
            <a:ext cx="6840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55760" y="3160800"/>
            <a:ext cx="6840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9120" y="3219480"/>
            <a:ext cx="526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1880" y="2736720"/>
            <a:ext cx="6840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9000" y="2381400"/>
            <a:ext cx="625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03520" y="1869840"/>
            <a:ext cx="63360" cy="41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649760" y="2214720"/>
            <a:ext cx="7920" cy="7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03680" y="1855440"/>
            <a:ext cx="0" cy="1112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1880" y="1542960"/>
            <a:ext cx="6840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03800" y="3067200"/>
            <a:ext cx="625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6013440" y="1596600"/>
            <a:ext cx="6840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6013440" y="2263320"/>
            <a:ext cx="6840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2652840"/>
            <a:ext cx="22320" cy="7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24520" y="2825640"/>
            <a:ext cx="54000" cy="19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8120" y="2867040"/>
            <a:ext cx="44640" cy="131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1840" y="2797200"/>
            <a:ext cx="54000" cy="205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92840" y="2797200"/>
            <a:ext cx="33480" cy="41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46760" y="2390760"/>
            <a:ext cx="87480" cy="87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40440" y="2865600"/>
            <a:ext cx="144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715080" y="2166840"/>
            <a:ext cx="1800" cy="487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0400" y="2166840"/>
            <a:ext cx="417600" cy="18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908760" y="2166480"/>
            <a:ext cx="388800" cy="18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020000" y="2110320"/>
            <a:ext cx="6840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2363760"/>
            <a:ext cx="79560" cy="73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72520" y="2565360"/>
            <a:ext cx="39600" cy="176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75400" y="2608200"/>
            <a:ext cx="27000" cy="208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575560" y="2325600"/>
            <a:ext cx="23760" cy="79560"/>
            <a:chOff x="8575560" y="2325600"/>
            <a:chExt cx="23760" cy="79560"/>
          </a:xfrm>
        </p:grpSpPr>
        <p:sp>
          <p:nvSpPr>
            <p:cNvPr id="74" name=""/>
            <p:cNvSpPr/>
            <p:nvPr/>
          </p:nvSpPr>
          <p:spPr>
            <a:xfrm>
              <a:off x="8575560" y="2325600"/>
              <a:ext cx="23760" cy="79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87800" y="2327040"/>
              <a:ext cx="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369280" y="2541600"/>
            <a:ext cx="31680" cy="126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94560" y="2573280"/>
            <a:ext cx="39960" cy="95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13640" y="2573280"/>
            <a:ext cx="32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408880" y="2271600"/>
            <a:ext cx="0" cy="2224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3720" y="3095640"/>
            <a:ext cx="625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04200" y="2279520"/>
            <a:ext cx="8892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2120" y="2166840"/>
            <a:ext cx="2206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9680" y="2151000"/>
            <a:ext cx="3240" cy="106560"/>
          </a:xfrm>
          <a:custGeom>
            <a:avLst/>
            <a:gdLst/>
            <a:ahLst/>
            <a:rect l="l" t="t" r="r" b="b"/>
            <a:pathLst>
              <a:path w="11" h="382">
                <a:moveTo>
                  <a:pt x="10" y="0"/>
                </a:moveTo>
                <a:lnTo>
                  <a:pt x="0" y="38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0000" y="2494080"/>
            <a:ext cx="2984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6400" y="4008600"/>
            <a:ext cx="625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1240" y="3676680"/>
            <a:ext cx="2775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03360" y="3676680"/>
            <a:ext cx="2779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1560" y="3672000"/>
            <a:ext cx="0" cy="5554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22240" y="2371680"/>
            <a:ext cx="2235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6240" y="2279520"/>
            <a:ext cx="59040" cy="399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93960" y="1960560"/>
            <a:ext cx="230040" cy="93600"/>
          </a:xfrm>
          <a:prstGeom prst="roundRect">
            <a:avLst>
              <a:gd name="adj" fmla="val 16648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880" bIns="388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1550880" y="1936440"/>
            <a:ext cx="66960" cy="320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 vert="eaVert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5380920" y="1312560"/>
            <a:ext cx="6840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2800" y="2160720"/>
            <a:ext cx="0" cy="3873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53360" y="2332080"/>
            <a:ext cx="1392120" cy="388800"/>
          </a:xfrm>
          <a:custGeom>
            <a:avLst/>
            <a:gdLst/>
            <a:ahLst/>
            <a:rect l="l" t="t" r="r" b="b"/>
            <a:pathLst>
              <a:path w="5505" h="1539">
                <a:moveTo>
                  <a:pt x="479" y="608"/>
                </a:moveTo>
                <a:lnTo>
                  <a:pt x="2272" y="608"/>
                </a:lnTo>
                <a:lnTo>
                  <a:pt x="2272" y="0"/>
                </a:lnTo>
                <a:lnTo>
                  <a:pt x="2716" y="0"/>
                </a:lnTo>
                <a:lnTo>
                  <a:pt x="2716" y="598"/>
                </a:lnTo>
                <a:lnTo>
                  <a:pt x="2716" y="608"/>
                </a:lnTo>
                <a:lnTo>
                  <a:pt x="3669" y="608"/>
                </a:lnTo>
                <a:lnTo>
                  <a:pt x="3669" y="23"/>
                </a:lnTo>
                <a:lnTo>
                  <a:pt x="4053" y="23"/>
                </a:lnTo>
                <a:lnTo>
                  <a:pt x="4053" y="642"/>
                </a:lnTo>
                <a:lnTo>
                  <a:pt x="5504" y="642"/>
                </a:lnTo>
                <a:lnTo>
                  <a:pt x="5504" y="872"/>
                </a:lnTo>
                <a:lnTo>
                  <a:pt x="4053" y="872"/>
                </a:lnTo>
                <a:lnTo>
                  <a:pt x="4053" y="1461"/>
                </a:lnTo>
                <a:lnTo>
                  <a:pt x="3705" y="1461"/>
                </a:lnTo>
                <a:lnTo>
                  <a:pt x="3705" y="867"/>
                </a:lnTo>
                <a:lnTo>
                  <a:pt x="3369" y="867"/>
                </a:lnTo>
                <a:lnTo>
                  <a:pt x="3366" y="1537"/>
                </a:lnTo>
                <a:lnTo>
                  <a:pt x="3374" y="1533"/>
                </a:lnTo>
                <a:lnTo>
                  <a:pt x="3368" y="1538"/>
                </a:lnTo>
                <a:lnTo>
                  <a:pt x="3369" y="1446"/>
                </a:lnTo>
                <a:lnTo>
                  <a:pt x="3368" y="1481"/>
                </a:lnTo>
                <a:lnTo>
                  <a:pt x="3370" y="1530"/>
                </a:lnTo>
                <a:lnTo>
                  <a:pt x="3374" y="1531"/>
                </a:lnTo>
                <a:lnTo>
                  <a:pt x="3373" y="1534"/>
                </a:lnTo>
                <a:lnTo>
                  <a:pt x="3365" y="1534"/>
                </a:lnTo>
                <a:lnTo>
                  <a:pt x="3009" y="1533"/>
                </a:lnTo>
                <a:lnTo>
                  <a:pt x="3009" y="852"/>
                </a:lnTo>
                <a:lnTo>
                  <a:pt x="2710" y="852"/>
                </a:lnTo>
                <a:lnTo>
                  <a:pt x="2710" y="1538"/>
                </a:lnTo>
                <a:lnTo>
                  <a:pt x="2344" y="1538"/>
                </a:lnTo>
                <a:lnTo>
                  <a:pt x="2344" y="852"/>
                </a:lnTo>
                <a:lnTo>
                  <a:pt x="2074" y="852"/>
                </a:lnTo>
                <a:lnTo>
                  <a:pt x="2074" y="1533"/>
                </a:lnTo>
                <a:lnTo>
                  <a:pt x="1654" y="1533"/>
                </a:lnTo>
                <a:lnTo>
                  <a:pt x="1654" y="848"/>
                </a:lnTo>
                <a:lnTo>
                  <a:pt x="1390" y="848"/>
                </a:lnTo>
                <a:lnTo>
                  <a:pt x="1390" y="1533"/>
                </a:lnTo>
                <a:lnTo>
                  <a:pt x="995" y="1533"/>
                </a:lnTo>
                <a:lnTo>
                  <a:pt x="995" y="843"/>
                </a:lnTo>
                <a:lnTo>
                  <a:pt x="0" y="843"/>
                </a:lnTo>
                <a:lnTo>
                  <a:pt x="0" y="608"/>
                </a:lnTo>
                <a:lnTo>
                  <a:pt x="479" y="608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29160" y="3025800"/>
            <a:ext cx="12776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06800" y="1363680"/>
            <a:ext cx="0" cy="16732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4476600" y="1666800"/>
            <a:ext cx="619200" cy="647640"/>
          </a:xfrm>
          <a:custGeom>
            <a:avLst/>
            <a:gdLst/>
            <a:ahLst/>
            <a:rect l="l" t="t" r="r" b="b"/>
            <a:pathLst>
              <a:path w="1577" h="1649">
                <a:moveTo>
                  <a:pt x="1128" y="1647"/>
                </a:moveTo>
                <a:lnTo>
                  <a:pt x="1128" y="638"/>
                </a:lnTo>
                <a:lnTo>
                  <a:pt x="1450" y="638"/>
                </a:lnTo>
                <a:lnTo>
                  <a:pt x="1450" y="540"/>
                </a:lnTo>
                <a:lnTo>
                  <a:pt x="1576" y="540"/>
                </a:lnTo>
                <a:lnTo>
                  <a:pt x="1576" y="435"/>
                </a:lnTo>
                <a:lnTo>
                  <a:pt x="1443" y="435"/>
                </a:lnTo>
                <a:lnTo>
                  <a:pt x="1443" y="0"/>
                </a:lnTo>
                <a:lnTo>
                  <a:pt x="140" y="0"/>
                </a:lnTo>
                <a:lnTo>
                  <a:pt x="140" y="435"/>
                </a:lnTo>
                <a:lnTo>
                  <a:pt x="0" y="435"/>
                </a:lnTo>
                <a:lnTo>
                  <a:pt x="0" y="540"/>
                </a:lnTo>
                <a:lnTo>
                  <a:pt x="133" y="540"/>
                </a:lnTo>
                <a:lnTo>
                  <a:pt x="133" y="645"/>
                </a:lnTo>
                <a:lnTo>
                  <a:pt x="532" y="645"/>
                </a:lnTo>
                <a:lnTo>
                  <a:pt x="532" y="792"/>
                </a:lnTo>
                <a:lnTo>
                  <a:pt x="308" y="792"/>
                </a:lnTo>
                <a:lnTo>
                  <a:pt x="308" y="876"/>
                </a:lnTo>
                <a:lnTo>
                  <a:pt x="497" y="876"/>
                </a:lnTo>
                <a:lnTo>
                  <a:pt x="497" y="939"/>
                </a:lnTo>
                <a:lnTo>
                  <a:pt x="287" y="939"/>
                </a:lnTo>
                <a:lnTo>
                  <a:pt x="287" y="1318"/>
                </a:lnTo>
                <a:lnTo>
                  <a:pt x="619" y="1648"/>
                </a:lnTo>
                <a:lnTo>
                  <a:pt x="1128" y="1647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49800" y="1370160"/>
            <a:ext cx="0" cy="12776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0080" y="2374920"/>
            <a:ext cx="876240" cy="576360"/>
          </a:xfrm>
          <a:custGeom>
            <a:avLst/>
            <a:gdLst/>
            <a:ahLst/>
            <a:rect l="l" t="t" r="r" b="b"/>
            <a:pathLst>
              <a:path w="3361" h="2209">
                <a:moveTo>
                  <a:pt x="32" y="897"/>
                </a:moveTo>
                <a:lnTo>
                  <a:pt x="1088" y="897"/>
                </a:lnTo>
                <a:lnTo>
                  <a:pt x="1088" y="0"/>
                </a:lnTo>
                <a:lnTo>
                  <a:pt x="1536" y="0"/>
                </a:lnTo>
                <a:lnTo>
                  <a:pt x="1536" y="897"/>
                </a:lnTo>
                <a:lnTo>
                  <a:pt x="1888" y="897"/>
                </a:lnTo>
                <a:lnTo>
                  <a:pt x="1888" y="103"/>
                </a:lnTo>
                <a:lnTo>
                  <a:pt x="2272" y="103"/>
                </a:lnTo>
                <a:lnTo>
                  <a:pt x="2272" y="897"/>
                </a:lnTo>
                <a:lnTo>
                  <a:pt x="3360" y="897"/>
                </a:lnTo>
                <a:lnTo>
                  <a:pt x="3360" y="1276"/>
                </a:lnTo>
                <a:lnTo>
                  <a:pt x="2688" y="1276"/>
                </a:lnTo>
                <a:lnTo>
                  <a:pt x="2688" y="2139"/>
                </a:lnTo>
                <a:lnTo>
                  <a:pt x="2176" y="2139"/>
                </a:lnTo>
                <a:lnTo>
                  <a:pt x="2176" y="1242"/>
                </a:lnTo>
                <a:lnTo>
                  <a:pt x="1888" y="1242"/>
                </a:lnTo>
                <a:lnTo>
                  <a:pt x="1888" y="2208"/>
                </a:lnTo>
                <a:lnTo>
                  <a:pt x="1440" y="2208"/>
                </a:lnTo>
                <a:lnTo>
                  <a:pt x="1440" y="1242"/>
                </a:lnTo>
                <a:lnTo>
                  <a:pt x="1120" y="1242"/>
                </a:lnTo>
                <a:lnTo>
                  <a:pt x="1120" y="2208"/>
                </a:lnTo>
                <a:lnTo>
                  <a:pt x="704" y="2208"/>
                </a:lnTo>
                <a:lnTo>
                  <a:pt x="704" y="1242"/>
                </a:lnTo>
                <a:lnTo>
                  <a:pt x="0" y="1242"/>
                </a:lnTo>
                <a:lnTo>
                  <a:pt x="0" y="897"/>
                </a:lnTo>
                <a:lnTo>
                  <a:pt x="32" y="897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37120" y="2760840"/>
            <a:ext cx="1839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09520" y="2371680"/>
            <a:ext cx="6112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960" y="1881360"/>
            <a:ext cx="629640" cy="656640"/>
            <a:chOff x="777960" y="1881360"/>
            <a:chExt cx="629640" cy="656640"/>
          </a:xfrm>
        </p:grpSpPr>
        <p:grpSp>
          <p:nvGrpSpPr>
            <p:cNvPr id="104" name=""/>
            <p:cNvGrpSpPr/>
            <p:nvPr/>
          </p:nvGrpSpPr>
          <p:grpSpPr>
            <a:xfrm>
              <a:off x="777960" y="1881360"/>
              <a:ext cx="629640" cy="418320"/>
              <a:chOff x="777960" y="1881360"/>
              <a:chExt cx="629640" cy="418320"/>
            </a:xfrm>
          </p:grpSpPr>
          <p:sp>
            <p:nvSpPr>
              <p:cNvPr id="105" name=""/>
              <p:cNvSpPr/>
              <p:nvPr/>
            </p:nvSpPr>
            <p:spPr>
              <a:xfrm>
                <a:off x="777960" y="2259360"/>
                <a:ext cx="58680" cy="403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4240" y="1960920"/>
                <a:ext cx="230040" cy="95040"/>
              </a:xfrm>
              <a:prstGeom prst="roundRect">
                <a:avLst>
                  <a:gd name="adj" fmla="val 16588"/>
                </a:avLst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0320" bIns="4032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0800000">
                <a:off x="1341360" y="1881360"/>
                <a:ext cx="66240" cy="3240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b" vert="eaVert" rot="10800000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94880" y="2075400"/>
              <a:ext cx="443880" cy="462600"/>
            </a:xfrm>
            <a:custGeom>
              <a:avLst/>
              <a:gdLst/>
              <a:ahLst/>
              <a:rect l="l" t="t" r="r" b="b"/>
              <a:pathLst>
                <a:path w="1577" h="1649">
                  <a:moveTo>
                    <a:pt x="448" y="1647"/>
                  </a:moveTo>
                  <a:lnTo>
                    <a:pt x="448" y="638"/>
                  </a:lnTo>
                  <a:lnTo>
                    <a:pt x="126" y="638"/>
                  </a:lnTo>
                  <a:lnTo>
                    <a:pt x="126" y="540"/>
                  </a:lnTo>
                  <a:lnTo>
                    <a:pt x="0" y="540"/>
                  </a:lnTo>
                  <a:lnTo>
                    <a:pt x="0" y="435"/>
                  </a:lnTo>
                  <a:lnTo>
                    <a:pt x="133" y="435"/>
                  </a:lnTo>
                  <a:lnTo>
                    <a:pt x="133" y="0"/>
                  </a:lnTo>
                  <a:lnTo>
                    <a:pt x="1436" y="0"/>
                  </a:lnTo>
                  <a:lnTo>
                    <a:pt x="1436" y="435"/>
                  </a:lnTo>
                  <a:lnTo>
                    <a:pt x="1576" y="435"/>
                  </a:lnTo>
                  <a:lnTo>
                    <a:pt x="1576" y="540"/>
                  </a:lnTo>
                  <a:lnTo>
                    <a:pt x="1443" y="540"/>
                  </a:lnTo>
                  <a:lnTo>
                    <a:pt x="1443" y="645"/>
                  </a:lnTo>
                  <a:lnTo>
                    <a:pt x="1044" y="645"/>
                  </a:lnTo>
                  <a:lnTo>
                    <a:pt x="1044" y="792"/>
                  </a:lnTo>
                  <a:lnTo>
                    <a:pt x="1268" y="792"/>
                  </a:lnTo>
                  <a:lnTo>
                    <a:pt x="1268" y="876"/>
                  </a:lnTo>
                  <a:lnTo>
                    <a:pt x="1079" y="876"/>
                  </a:lnTo>
                  <a:lnTo>
                    <a:pt x="1079" y="939"/>
                  </a:lnTo>
                  <a:lnTo>
                    <a:pt x="1289" y="939"/>
                  </a:lnTo>
                  <a:lnTo>
                    <a:pt x="1289" y="1318"/>
                  </a:lnTo>
                  <a:lnTo>
                    <a:pt x="957" y="1648"/>
                  </a:lnTo>
                  <a:lnTo>
                    <a:pt x="448" y="1647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33240" y="3621240"/>
            <a:ext cx="3891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77600" y="3482640"/>
            <a:ext cx="612720" cy="485640"/>
            <a:chOff x="777600" y="3482640"/>
            <a:chExt cx="612720" cy="485640"/>
          </a:xfrm>
        </p:grpSpPr>
        <p:sp>
          <p:nvSpPr>
            <p:cNvPr id="111" name=""/>
            <p:cNvSpPr/>
            <p:nvPr/>
          </p:nvSpPr>
          <p:spPr>
            <a:xfrm rot="10800000">
              <a:off x="847080" y="3482640"/>
              <a:ext cx="485280" cy="485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777600" y="3754440"/>
              <a:ext cx="61560" cy="81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1332720" y="3621240"/>
              <a:ext cx="57600" cy="99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2259000" y="4595760"/>
            <a:ext cx="69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517760" y="2315880"/>
            <a:ext cx="6660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ibujo 17"/>
          <p:cNvSpPr/>
          <p:nvPr/>
        </p:nvSpPr>
        <p:spPr>
          <a:xfrm>
            <a:off x="3157560" y="2795760"/>
            <a:ext cx="484200" cy="414000"/>
          </a:xfrm>
          <a:custGeom>
            <a:avLst/>
            <a:gdLst/>
            <a:ahLst/>
            <a:rect l="l" t="t" r="r" b="b"/>
            <a:pathLst>
              <a:path w="16384" h="16384">
                <a:moveTo>
                  <a:pt x="0" y="0"/>
                </a:moveTo>
                <a:lnTo>
                  <a:pt x="0" y="16384"/>
                </a:lnTo>
                <a:lnTo>
                  <a:pt x="16384" y="16384"/>
                </a:lnTo>
                <a:lnTo>
                  <a:pt x="16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71560" y="4135320"/>
            <a:ext cx="0" cy="9432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442880" y="5065560"/>
            <a:ext cx="3333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4800" y="5200560"/>
            <a:ext cx="625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00680" y="1368360"/>
            <a:ext cx="11574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85120" y="2282760"/>
            <a:ext cx="0" cy="25210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39080" y="5200560"/>
            <a:ext cx="515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Op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985920" y="5516280"/>
            <a:ext cx="76320" cy="111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5698800" y="5484600"/>
            <a:ext cx="77760" cy="1126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04320" y="4226040"/>
            <a:ext cx="2523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5320" y="5153040"/>
            <a:ext cx="625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170760" y="4815000"/>
            <a:ext cx="0" cy="4888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6383520" y="4735440"/>
            <a:ext cx="1440" cy="100080"/>
          </a:xfrm>
          <a:custGeom>
            <a:avLst/>
            <a:gdLst/>
            <a:ahLst/>
            <a:rect l="l" t="t" r="r" b="b"/>
            <a:pathLst>
              <a:path w="7" h="219">
                <a:moveTo>
                  <a:pt x="0" y="0"/>
                </a:moveTo>
                <a:lnTo>
                  <a:pt x="6" y="2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6280920" y="4942440"/>
            <a:ext cx="60120" cy="36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6643080" y="4543200"/>
            <a:ext cx="38160" cy="114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084360" y="4611600"/>
            <a:ext cx="404640" cy="423720"/>
          </a:xfrm>
          <a:custGeom>
            <a:avLst/>
            <a:gdLst/>
            <a:ahLst/>
            <a:rect l="l" t="t" r="r" b="b"/>
            <a:pathLst>
              <a:path w="901" h="941">
                <a:moveTo>
                  <a:pt x="644" y="940"/>
                </a:moveTo>
                <a:lnTo>
                  <a:pt x="644" y="364"/>
                </a:lnTo>
                <a:lnTo>
                  <a:pt x="828" y="364"/>
                </a:lnTo>
                <a:lnTo>
                  <a:pt x="828" y="308"/>
                </a:lnTo>
                <a:lnTo>
                  <a:pt x="900" y="308"/>
                </a:lnTo>
                <a:lnTo>
                  <a:pt x="900" y="248"/>
                </a:lnTo>
                <a:lnTo>
                  <a:pt x="824" y="248"/>
                </a:lnTo>
                <a:lnTo>
                  <a:pt x="824" y="0"/>
                </a:lnTo>
                <a:lnTo>
                  <a:pt x="80" y="0"/>
                </a:lnTo>
                <a:lnTo>
                  <a:pt x="80" y="248"/>
                </a:lnTo>
                <a:lnTo>
                  <a:pt x="0" y="248"/>
                </a:lnTo>
                <a:lnTo>
                  <a:pt x="0" y="308"/>
                </a:lnTo>
                <a:lnTo>
                  <a:pt x="76" y="308"/>
                </a:lnTo>
                <a:lnTo>
                  <a:pt x="76" y="368"/>
                </a:lnTo>
                <a:lnTo>
                  <a:pt x="304" y="368"/>
                </a:lnTo>
                <a:lnTo>
                  <a:pt x="304" y="452"/>
                </a:lnTo>
                <a:lnTo>
                  <a:pt x="176" y="452"/>
                </a:lnTo>
                <a:lnTo>
                  <a:pt x="176" y="500"/>
                </a:lnTo>
                <a:lnTo>
                  <a:pt x="284" y="500"/>
                </a:lnTo>
                <a:lnTo>
                  <a:pt x="284" y="536"/>
                </a:lnTo>
                <a:lnTo>
                  <a:pt x="164" y="536"/>
                </a:lnTo>
                <a:lnTo>
                  <a:pt x="164" y="752"/>
                </a:lnTo>
                <a:lnTo>
                  <a:pt x="350" y="938"/>
                </a:lnTo>
                <a:lnTo>
                  <a:pt x="644" y="940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81640" y="5342040"/>
            <a:ext cx="0" cy="2253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21240" y="5346720"/>
            <a:ext cx="0" cy="2458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444560" y="5054400"/>
            <a:ext cx="1238400" cy="315720"/>
            <a:chOff x="4444560" y="5054400"/>
            <a:chExt cx="1238400" cy="315720"/>
          </a:xfrm>
        </p:grpSpPr>
        <p:grpSp>
          <p:nvGrpSpPr>
            <p:cNvPr id="135" name=""/>
            <p:cNvGrpSpPr/>
            <p:nvPr/>
          </p:nvGrpSpPr>
          <p:grpSpPr>
            <a:xfrm>
              <a:off x="4444560" y="5137920"/>
              <a:ext cx="317880" cy="137520"/>
              <a:chOff x="4444560" y="5137920"/>
              <a:chExt cx="317880" cy="137520"/>
            </a:xfrm>
          </p:grpSpPr>
          <p:sp>
            <p:nvSpPr>
              <p:cNvPr id="136" name=""/>
              <p:cNvSpPr/>
              <p:nvPr/>
            </p:nvSpPr>
            <p:spPr>
              <a:xfrm rot="10800000">
                <a:off x="4673160" y="5151960"/>
                <a:ext cx="89280" cy="903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0800000">
                <a:off x="4503240" y="5137920"/>
                <a:ext cx="96120" cy="680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21960" bIns="21960" anchor="ctr" rot="10800000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0800000">
                <a:off x="4444560" y="5160960"/>
                <a:ext cx="58680" cy="450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0800000">
                <a:off x="4501440" y="5235120"/>
                <a:ext cx="82440" cy="403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rot="10800000">
              <a:off x="4468680" y="5054400"/>
              <a:ext cx="1214280" cy="315720"/>
            </a:xfrm>
            <a:custGeom>
              <a:avLst/>
              <a:gdLst/>
              <a:ahLst/>
              <a:rect l="l" t="t" r="r" b="b"/>
              <a:pathLst>
                <a:path w="3387" h="881">
                  <a:moveTo>
                    <a:pt x="3360" y="0"/>
                  </a:moveTo>
                  <a:lnTo>
                    <a:pt x="0" y="0"/>
                  </a:lnTo>
                  <a:lnTo>
                    <a:pt x="0" y="220"/>
                  </a:lnTo>
                  <a:lnTo>
                    <a:pt x="764" y="220"/>
                  </a:lnTo>
                  <a:lnTo>
                    <a:pt x="764" y="876"/>
                  </a:lnTo>
                  <a:lnTo>
                    <a:pt x="1084" y="876"/>
                  </a:lnTo>
                  <a:lnTo>
                    <a:pt x="1084" y="228"/>
                  </a:lnTo>
                  <a:lnTo>
                    <a:pt x="1272" y="228"/>
                  </a:lnTo>
                  <a:lnTo>
                    <a:pt x="1272" y="880"/>
                  </a:lnTo>
                  <a:lnTo>
                    <a:pt x="1600" y="880"/>
                  </a:lnTo>
                  <a:lnTo>
                    <a:pt x="1600" y="232"/>
                  </a:lnTo>
                  <a:lnTo>
                    <a:pt x="1820" y="232"/>
                  </a:lnTo>
                  <a:lnTo>
                    <a:pt x="1820" y="788"/>
                  </a:lnTo>
                  <a:lnTo>
                    <a:pt x="2084" y="788"/>
                  </a:lnTo>
                  <a:lnTo>
                    <a:pt x="2084" y="226"/>
                  </a:lnTo>
                  <a:lnTo>
                    <a:pt x="3386" y="228"/>
                  </a:lnTo>
                  <a:lnTo>
                    <a:pt x="3386" y="0"/>
                  </a:lnTo>
                  <a:lnTo>
                    <a:pt x="336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3722400" y="5580000"/>
            <a:ext cx="7952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5610240"/>
            <a:ext cx="760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67080" y="5398920"/>
            <a:ext cx="0" cy="1828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00200" y="4879800"/>
            <a:ext cx="77652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Arial"/>
              </a:rPr>
              <a:t>Op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5760" y="5381640"/>
            <a:ext cx="0" cy="244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433600" y="5103720"/>
            <a:ext cx="1036440" cy="528480"/>
            <a:chOff x="2433600" y="5103720"/>
            <a:chExt cx="1036440" cy="528480"/>
          </a:xfrm>
        </p:grpSpPr>
        <p:sp>
          <p:nvSpPr>
            <p:cNvPr id="147" name=""/>
            <p:cNvSpPr/>
            <p:nvPr/>
          </p:nvSpPr>
          <p:spPr>
            <a:xfrm rot="10800000">
              <a:off x="2633760" y="5288760"/>
              <a:ext cx="3060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3173400" y="5132520"/>
              <a:ext cx="3060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2864160" y="5132880"/>
              <a:ext cx="3168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2965680" y="5580360"/>
              <a:ext cx="339120" cy="51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5760" bIns="5760" anchor="ctr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00000">
              <a:off x="3394800" y="5299560"/>
              <a:ext cx="2988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800000">
              <a:off x="2635920" y="5176800"/>
              <a:ext cx="74880" cy="65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3433680" y="5285880"/>
              <a:ext cx="36360" cy="28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800000">
              <a:off x="2433600" y="5103720"/>
              <a:ext cx="1033920" cy="390960"/>
            </a:xfrm>
            <a:custGeom>
              <a:avLst/>
              <a:gdLst/>
              <a:ahLst/>
              <a:rect l="l" t="t" r="r" b="b"/>
              <a:pathLst>
                <a:path w="2881" h="1087">
                  <a:moveTo>
                    <a:pt x="0" y="0"/>
                  </a:moveTo>
                  <a:lnTo>
                    <a:pt x="2880" y="2"/>
                  </a:lnTo>
                  <a:lnTo>
                    <a:pt x="2880" y="434"/>
                  </a:lnTo>
                  <a:lnTo>
                    <a:pt x="1708" y="434"/>
                  </a:lnTo>
                  <a:lnTo>
                    <a:pt x="1708" y="926"/>
                  </a:lnTo>
                  <a:lnTo>
                    <a:pt x="1556" y="926"/>
                  </a:lnTo>
                  <a:lnTo>
                    <a:pt x="1556" y="1018"/>
                  </a:lnTo>
                  <a:lnTo>
                    <a:pt x="1541" y="1074"/>
                  </a:lnTo>
                  <a:lnTo>
                    <a:pt x="1504" y="1074"/>
                  </a:lnTo>
                  <a:lnTo>
                    <a:pt x="1489" y="1018"/>
                  </a:lnTo>
                  <a:lnTo>
                    <a:pt x="1489" y="926"/>
                  </a:lnTo>
                  <a:lnTo>
                    <a:pt x="1348" y="926"/>
                  </a:lnTo>
                  <a:lnTo>
                    <a:pt x="1348" y="430"/>
                  </a:lnTo>
                  <a:lnTo>
                    <a:pt x="852" y="430"/>
                  </a:lnTo>
                  <a:lnTo>
                    <a:pt x="852" y="926"/>
                  </a:lnTo>
                  <a:lnTo>
                    <a:pt x="708" y="926"/>
                  </a:lnTo>
                  <a:lnTo>
                    <a:pt x="708" y="1030"/>
                  </a:lnTo>
                  <a:lnTo>
                    <a:pt x="693" y="1086"/>
                  </a:lnTo>
                  <a:lnTo>
                    <a:pt x="656" y="1086"/>
                  </a:lnTo>
                  <a:lnTo>
                    <a:pt x="644" y="1041"/>
                  </a:lnTo>
                  <a:lnTo>
                    <a:pt x="644" y="922"/>
                  </a:lnTo>
                  <a:lnTo>
                    <a:pt x="492" y="922"/>
                  </a:lnTo>
                  <a:lnTo>
                    <a:pt x="492" y="430"/>
                  </a:lnTo>
                  <a:lnTo>
                    <a:pt x="0" y="430"/>
                  </a:lnTo>
                  <a:lnTo>
                    <a:pt x="0" y="42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1320" y="5624640"/>
            <a:ext cx="2444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0760" y="5303880"/>
            <a:ext cx="0" cy="2444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381280" y="5548320"/>
            <a:ext cx="7938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363840" y="5580000"/>
            <a:ext cx="4269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53200" y="4757760"/>
            <a:ext cx="9781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9247320" y="4260960"/>
            <a:ext cx="6984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637120" y="4795920"/>
            <a:ext cx="6476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6765840" y="4425840"/>
            <a:ext cx="212760" cy="612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293920" y="2328840"/>
            <a:ext cx="0" cy="32846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063520" y="2328840"/>
            <a:ext cx="2300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76240" y="2093760"/>
            <a:ext cx="441360" cy="460440"/>
          </a:xfrm>
          <a:custGeom>
            <a:avLst/>
            <a:gdLst/>
            <a:ahLst/>
            <a:rect l="l" t="t" r="r" b="b"/>
            <a:pathLst>
              <a:path w="1577" h="1649">
                <a:moveTo>
                  <a:pt x="1128" y="1647"/>
                </a:moveTo>
                <a:lnTo>
                  <a:pt x="1128" y="638"/>
                </a:lnTo>
                <a:lnTo>
                  <a:pt x="1450" y="638"/>
                </a:lnTo>
                <a:lnTo>
                  <a:pt x="1450" y="540"/>
                </a:lnTo>
                <a:lnTo>
                  <a:pt x="1576" y="540"/>
                </a:lnTo>
                <a:lnTo>
                  <a:pt x="1576" y="435"/>
                </a:lnTo>
                <a:lnTo>
                  <a:pt x="1443" y="435"/>
                </a:lnTo>
                <a:lnTo>
                  <a:pt x="1443" y="0"/>
                </a:lnTo>
                <a:lnTo>
                  <a:pt x="140" y="0"/>
                </a:lnTo>
                <a:lnTo>
                  <a:pt x="140" y="435"/>
                </a:lnTo>
                <a:lnTo>
                  <a:pt x="0" y="435"/>
                </a:lnTo>
                <a:lnTo>
                  <a:pt x="0" y="540"/>
                </a:lnTo>
                <a:lnTo>
                  <a:pt x="133" y="540"/>
                </a:lnTo>
                <a:lnTo>
                  <a:pt x="133" y="645"/>
                </a:lnTo>
                <a:lnTo>
                  <a:pt x="532" y="645"/>
                </a:lnTo>
                <a:lnTo>
                  <a:pt x="532" y="792"/>
                </a:lnTo>
                <a:lnTo>
                  <a:pt x="308" y="792"/>
                </a:lnTo>
                <a:lnTo>
                  <a:pt x="308" y="876"/>
                </a:lnTo>
                <a:lnTo>
                  <a:pt x="497" y="876"/>
                </a:lnTo>
                <a:lnTo>
                  <a:pt x="497" y="939"/>
                </a:lnTo>
                <a:lnTo>
                  <a:pt x="287" y="939"/>
                </a:lnTo>
                <a:lnTo>
                  <a:pt x="287" y="1318"/>
                </a:lnTo>
                <a:lnTo>
                  <a:pt x="619" y="1648"/>
                </a:lnTo>
                <a:lnTo>
                  <a:pt x="1128" y="1647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10800000">
            <a:off x="1739880" y="4503240"/>
            <a:ext cx="6840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818560" y="4919760"/>
            <a:ext cx="407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2920" rIns="142920" tIns="71640" bIns="71640" anchor="t">
            <a:noAutofit/>
          </a:bodyPr>
          <a:p>
            <a:pPr>
              <a:tabLst>
                <a:tab algn="l" pos="0"/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15080" y="4641480"/>
            <a:ext cx="1366560" cy="470160"/>
            <a:chOff x="7615080" y="4641480"/>
            <a:chExt cx="1366560" cy="470160"/>
          </a:xfrm>
        </p:grpSpPr>
        <p:grpSp>
          <p:nvGrpSpPr>
            <p:cNvPr id="169" name=""/>
            <p:cNvGrpSpPr/>
            <p:nvPr/>
          </p:nvGrpSpPr>
          <p:grpSpPr>
            <a:xfrm>
              <a:off x="7615080" y="4641480"/>
              <a:ext cx="1183680" cy="470160"/>
              <a:chOff x="7615080" y="4641480"/>
              <a:chExt cx="1183680" cy="470160"/>
            </a:xfrm>
          </p:grpSpPr>
          <p:sp>
            <p:nvSpPr>
              <p:cNvPr id="170" name="Dibujo 7"/>
              <p:cNvSpPr/>
              <p:nvPr/>
            </p:nvSpPr>
            <p:spPr>
              <a:xfrm flipH="1" flipV="1">
                <a:off x="7615080" y="4641120"/>
                <a:ext cx="1169280" cy="444600"/>
              </a:xfrm>
              <a:custGeom>
                <a:avLst/>
                <a:gdLst/>
                <a:ahLst/>
                <a:rect l="l" t="t" r="r" b="b"/>
                <a:pathLst>
                  <a:path w="16384" h="16384">
                    <a:moveTo>
                      <a:pt x="4769" y="5611"/>
                    </a:moveTo>
                    <a:lnTo>
                      <a:pt x="4769" y="5886"/>
                    </a:lnTo>
                    <a:lnTo>
                      <a:pt x="4769" y="6061"/>
                    </a:lnTo>
                    <a:lnTo>
                      <a:pt x="4769" y="6286"/>
                    </a:lnTo>
                    <a:lnTo>
                      <a:pt x="4769" y="6449"/>
                    </a:lnTo>
                    <a:lnTo>
                      <a:pt x="4769" y="6624"/>
                    </a:lnTo>
                    <a:lnTo>
                      <a:pt x="4769" y="6848"/>
                    </a:lnTo>
                    <a:lnTo>
                      <a:pt x="4769" y="6973"/>
                    </a:lnTo>
                    <a:lnTo>
                      <a:pt x="4769" y="8273"/>
                    </a:lnTo>
                    <a:lnTo>
                      <a:pt x="6052" y="8273"/>
                    </a:lnTo>
                    <a:lnTo>
                      <a:pt x="6052" y="5611"/>
                    </a:lnTo>
                    <a:lnTo>
                      <a:pt x="7709" y="5611"/>
                    </a:lnTo>
                    <a:lnTo>
                      <a:pt x="7709" y="8548"/>
                    </a:lnTo>
                    <a:lnTo>
                      <a:pt x="8333" y="8548"/>
                    </a:lnTo>
                    <a:lnTo>
                      <a:pt x="8333" y="0"/>
                    </a:lnTo>
                    <a:lnTo>
                      <a:pt x="10023" y="0"/>
                    </a:lnTo>
                    <a:lnTo>
                      <a:pt x="10023" y="7536"/>
                    </a:lnTo>
                    <a:lnTo>
                      <a:pt x="11074" y="7536"/>
                    </a:lnTo>
                    <a:lnTo>
                      <a:pt x="11074" y="2874"/>
                    </a:lnTo>
                    <a:lnTo>
                      <a:pt x="12087" y="2874"/>
                    </a:lnTo>
                    <a:lnTo>
                      <a:pt x="12087" y="7586"/>
                    </a:lnTo>
                    <a:lnTo>
                      <a:pt x="12871" y="7586"/>
                    </a:lnTo>
                    <a:lnTo>
                      <a:pt x="12871" y="8548"/>
                    </a:lnTo>
                    <a:lnTo>
                      <a:pt x="16384" y="8548"/>
                    </a:lnTo>
                    <a:lnTo>
                      <a:pt x="16384" y="14959"/>
                    </a:lnTo>
                    <a:lnTo>
                      <a:pt x="14939" y="14959"/>
                    </a:lnTo>
                    <a:lnTo>
                      <a:pt x="14939" y="16384"/>
                    </a:lnTo>
                    <a:lnTo>
                      <a:pt x="1205" y="16384"/>
                    </a:lnTo>
                    <a:lnTo>
                      <a:pt x="1205" y="11723"/>
                    </a:lnTo>
                    <a:lnTo>
                      <a:pt x="0" y="11723"/>
                    </a:lnTo>
                    <a:lnTo>
                      <a:pt x="0" y="8323"/>
                    </a:lnTo>
                    <a:lnTo>
                      <a:pt x="3167" y="8323"/>
                    </a:lnTo>
                    <a:lnTo>
                      <a:pt x="3167" y="5611"/>
                    </a:lnTo>
                    <a:lnTo>
                      <a:pt x="4769" y="5611"/>
                    </a:ln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Dibujo 17"/>
              <p:cNvSpPr/>
              <p:nvPr/>
            </p:nvSpPr>
            <p:spPr>
              <a:xfrm>
                <a:off x="8699400" y="4965120"/>
                <a:ext cx="99360" cy="146520"/>
              </a:xfrm>
              <a:custGeom>
                <a:avLst/>
                <a:gdLst/>
                <a:ahLst/>
                <a:rect l="l" t="t" r="r" b="b"/>
                <a:pathLst>
                  <a:path w="16384" h="16384">
                    <a:moveTo>
                      <a:pt x="0" y="0"/>
                    </a:moveTo>
                    <a:lnTo>
                      <a:pt x="0" y="16384"/>
                    </a:lnTo>
                    <a:lnTo>
                      <a:pt x="16384" y="16384"/>
                    </a:lnTo>
                    <a:lnTo>
                      <a:pt x="163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8911440" y="4826880"/>
              <a:ext cx="70200" cy="2311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69600" y="4741560"/>
            <a:ext cx="934920" cy="398520"/>
            <a:chOff x="669600" y="4741560"/>
            <a:chExt cx="934920" cy="398520"/>
          </a:xfrm>
        </p:grpSpPr>
        <p:sp>
          <p:nvSpPr>
            <p:cNvPr id="174" name="Dibujo 110"/>
            <p:cNvSpPr/>
            <p:nvPr/>
          </p:nvSpPr>
          <p:spPr>
            <a:xfrm rot="10800000">
              <a:off x="669600" y="4741560"/>
              <a:ext cx="934920" cy="398520"/>
            </a:xfrm>
            <a:custGeom>
              <a:avLst/>
              <a:gdLst/>
              <a:ahLst/>
              <a:rect l="l" t="t" r="r" b="b"/>
              <a:pathLst>
                <a:path w="16384" h="16384">
                  <a:moveTo>
                    <a:pt x="0" y="0"/>
                  </a:moveTo>
                  <a:lnTo>
                    <a:pt x="16384" y="0"/>
                  </a:lnTo>
                  <a:lnTo>
                    <a:pt x="16384" y="9744"/>
                  </a:lnTo>
                  <a:lnTo>
                    <a:pt x="6428" y="9744"/>
                  </a:lnTo>
                  <a:lnTo>
                    <a:pt x="6428" y="16384"/>
                  </a:lnTo>
                  <a:lnTo>
                    <a:pt x="1446" y="16384"/>
                  </a:lnTo>
                  <a:lnTo>
                    <a:pt x="1446" y="6167"/>
                  </a:lnTo>
                  <a:lnTo>
                    <a:pt x="0" y="6167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1158120" y="4817520"/>
              <a:ext cx="61560" cy="81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0120" y="271440"/>
            <a:ext cx="230508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7 – Máquinas: 1 – Estaciones: carga y des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en entrada y sal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salpicaduras en la unión con el sist. de transp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sellar con Belzona Molec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9600" y="3440160"/>
            <a:ext cx="3168720" cy="7419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8 – Máquinas: 1 – Estaciones: 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bajo la banc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salpicaduras y vapores del canal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instalación de cuñas de estanque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61240" y="2647440"/>
            <a:ext cx="0" cy="792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89600" y="5591160"/>
            <a:ext cx="3311640" cy="901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9 – Máquinas afectadas: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aceite de lubr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aceite de corte sobrante y fugas del circuito hidráulico ensucian la zo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eza frecu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bandejas que cubran toda la superficie de la máquina y conduzcan el aceite sobrante a un depósito externo para facilitar su vaciad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61240" y="4879800"/>
            <a:ext cx="0" cy="7210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00160" y="11350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040" y="3486240"/>
            <a:ext cx="21888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60" y="6"/>
                </a:moveTo>
                <a:cubicBezTo>
                  <a:pt x="50" y="7"/>
                  <a:pt x="38" y="3"/>
                  <a:pt x="30" y="9"/>
                </a:cubicBezTo>
                <a:cubicBezTo>
                  <a:pt x="24" y="13"/>
                  <a:pt x="29" y="23"/>
                  <a:pt x="27" y="30"/>
                </a:cubicBezTo>
                <a:cubicBezTo>
                  <a:pt x="25" y="36"/>
                  <a:pt x="20" y="42"/>
                  <a:pt x="18" y="48"/>
                </a:cubicBezTo>
                <a:cubicBezTo>
                  <a:pt x="13" y="89"/>
                  <a:pt x="15" y="64"/>
                  <a:pt x="0" y="87"/>
                </a:cubicBezTo>
                <a:cubicBezTo>
                  <a:pt x="5" y="131"/>
                  <a:pt x="8" y="123"/>
                  <a:pt x="57" y="126"/>
                </a:cubicBezTo>
                <a:cubicBezTo>
                  <a:pt x="61" y="138"/>
                  <a:pt x="63" y="143"/>
                  <a:pt x="75" y="147"/>
                </a:cubicBezTo>
                <a:cubicBezTo>
                  <a:pt x="125" y="143"/>
                  <a:pt x="125" y="151"/>
                  <a:pt x="120" y="105"/>
                </a:cubicBezTo>
                <a:cubicBezTo>
                  <a:pt x="121" y="99"/>
                  <a:pt x="120" y="92"/>
                  <a:pt x="123" y="87"/>
                </a:cubicBezTo>
                <a:cubicBezTo>
                  <a:pt x="125" y="84"/>
                  <a:pt x="131" y="85"/>
                  <a:pt x="132" y="81"/>
                </a:cubicBezTo>
                <a:cubicBezTo>
                  <a:pt x="138" y="47"/>
                  <a:pt x="117" y="20"/>
                  <a:pt x="90" y="6"/>
                </a:cubicBezTo>
                <a:cubicBezTo>
                  <a:pt x="87" y="4"/>
                  <a:pt x="85" y="0"/>
                  <a:pt x="81" y="0"/>
                </a:cubicBezTo>
                <a:cubicBezTo>
                  <a:pt x="74" y="0"/>
                  <a:pt x="67" y="4"/>
                  <a:pt x="60" y="6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24080" y="3530520"/>
            <a:ext cx="177840" cy="222480"/>
          </a:xfrm>
          <a:custGeom>
            <a:avLst/>
            <a:gdLst/>
            <a:ahLst/>
            <a:rect l="l" t="t" r="r" b="b"/>
            <a:pathLst>
              <a:path w="112" h="140">
                <a:moveTo>
                  <a:pt x="6" y="20"/>
                </a:moveTo>
                <a:cubicBezTo>
                  <a:pt x="30" y="12"/>
                  <a:pt x="18" y="15"/>
                  <a:pt x="42" y="11"/>
                </a:cubicBezTo>
                <a:cubicBezTo>
                  <a:pt x="44" y="10"/>
                  <a:pt x="56" y="0"/>
                  <a:pt x="60" y="2"/>
                </a:cubicBezTo>
                <a:cubicBezTo>
                  <a:pt x="63" y="3"/>
                  <a:pt x="63" y="9"/>
                  <a:pt x="66" y="11"/>
                </a:cubicBezTo>
                <a:cubicBezTo>
                  <a:pt x="75" y="18"/>
                  <a:pt x="88" y="16"/>
                  <a:pt x="99" y="17"/>
                </a:cubicBezTo>
                <a:cubicBezTo>
                  <a:pt x="112" y="37"/>
                  <a:pt x="109" y="61"/>
                  <a:pt x="102" y="83"/>
                </a:cubicBezTo>
                <a:cubicBezTo>
                  <a:pt x="101" y="98"/>
                  <a:pt x="109" y="117"/>
                  <a:pt x="99" y="128"/>
                </a:cubicBezTo>
                <a:cubicBezTo>
                  <a:pt x="89" y="138"/>
                  <a:pt x="71" y="129"/>
                  <a:pt x="57" y="131"/>
                </a:cubicBezTo>
                <a:cubicBezTo>
                  <a:pt x="47" y="132"/>
                  <a:pt x="36" y="137"/>
                  <a:pt x="27" y="140"/>
                </a:cubicBezTo>
                <a:cubicBezTo>
                  <a:pt x="13" y="137"/>
                  <a:pt x="12" y="132"/>
                  <a:pt x="6" y="119"/>
                </a:cubicBezTo>
                <a:cubicBezTo>
                  <a:pt x="3" y="113"/>
                  <a:pt x="0" y="101"/>
                  <a:pt x="0" y="101"/>
                </a:cubicBezTo>
                <a:cubicBezTo>
                  <a:pt x="8" y="37"/>
                  <a:pt x="0" y="117"/>
                  <a:pt x="0" y="53"/>
                </a:cubicBezTo>
                <a:cubicBezTo>
                  <a:pt x="0" y="40"/>
                  <a:pt x="11" y="30"/>
                  <a:pt x="6" y="2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00960" y="4576680"/>
            <a:ext cx="1338120" cy="403200"/>
          </a:xfrm>
          <a:custGeom>
            <a:avLst/>
            <a:gdLst/>
            <a:ahLst/>
            <a:rect l="l" t="t" r="r" b="b"/>
            <a:pathLst>
              <a:path w="843" h="254">
                <a:moveTo>
                  <a:pt x="114" y="15"/>
                </a:moveTo>
                <a:cubicBezTo>
                  <a:pt x="76" y="17"/>
                  <a:pt x="62" y="7"/>
                  <a:pt x="45" y="33"/>
                </a:cubicBezTo>
                <a:cubicBezTo>
                  <a:pt x="39" y="57"/>
                  <a:pt x="34" y="70"/>
                  <a:pt x="9" y="75"/>
                </a:cubicBezTo>
                <a:cubicBezTo>
                  <a:pt x="0" y="89"/>
                  <a:pt x="2" y="109"/>
                  <a:pt x="18" y="114"/>
                </a:cubicBezTo>
                <a:cubicBezTo>
                  <a:pt x="30" y="132"/>
                  <a:pt x="11" y="182"/>
                  <a:pt x="27" y="195"/>
                </a:cubicBezTo>
                <a:cubicBezTo>
                  <a:pt x="30" y="198"/>
                  <a:pt x="51" y="203"/>
                  <a:pt x="57" y="204"/>
                </a:cubicBezTo>
                <a:cubicBezTo>
                  <a:pt x="85" y="202"/>
                  <a:pt x="94" y="205"/>
                  <a:pt x="114" y="192"/>
                </a:cubicBezTo>
                <a:cubicBezTo>
                  <a:pt x="128" y="195"/>
                  <a:pt x="135" y="202"/>
                  <a:pt x="147" y="210"/>
                </a:cubicBezTo>
                <a:cubicBezTo>
                  <a:pt x="198" y="207"/>
                  <a:pt x="208" y="213"/>
                  <a:pt x="255" y="210"/>
                </a:cubicBezTo>
                <a:cubicBezTo>
                  <a:pt x="362" y="215"/>
                  <a:pt x="292" y="220"/>
                  <a:pt x="411" y="228"/>
                </a:cubicBezTo>
                <a:cubicBezTo>
                  <a:pt x="428" y="254"/>
                  <a:pt x="456" y="240"/>
                  <a:pt x="483" y="237"/>
                </a:cubicBezTo>
                <a:cubicBezTo>
                  <a:pt x="489" y="233"/>
                  <a:pt x="496" y="232"/>
                  <a:pt x="501" y="228"/>
                </a:cubicBezTo>
                <a:cubicBezTo>
                  <a:pt x="504" y="226"/>
                  <a:pt x="504" y="222"/>
                  <a:pt x="507" y="219"/>
                </a:cubicBezTo>
                <a:cubicBezTo>
                  <a:pt x="510" y="216"/>
                  <a:pt x="513" y="215"/>
                  <a:pt x="516" y="213"/>
                </a:cubicBezTo>
                <a:cubicBezTo>
                  <a:pt x="610" y="216"/>
                  <a:pt x="623" y="219"/>
                  <a:pt x="723" y="216"/>
                </a:cubicBezTo>
                <a:cubicBezTo>
                  <a:pt x="744" y="202"/>
                  <a:pt x="734" y="206"/>
                  <a:pt x="750" y="201"/>
                </a:cubicBezTo>
                <a:cubicBezTo>
                  <a:pt x="776" y="207"/>
                  <a:pt x="764" y="206"/>
                  <a:pt x="810" y="201"/>
                </a:cubicBezTo>
                <a:cubicBezTo>
                  <a:pt x="820" y="200"/>
                  <a:pt x="837" y="186"/>
                  <a:pt x="837" y="186"/>
                </a:cubicBezTo>
                <a:cubicBezTo>
                  <a:pt x="843" y="168"/>
                  <a:pt x="828" y="158"/>
                  <a:pt x="822" y="141"/>
                </a:cubicBezTo>
                <a:cubicBezTo>
                  <a:pt x="828" y="122"/>
                  <a:pt x="831" y="102"/>
                  <a:pt x="813" y="90"/>
                </a:cubicBezTo>
                <a:cubicBezTo>
                  <a:pt x="807" y="81"/>
                  <a:pt x="804" y="72"/>
                  <a:pt x="798" y="63"/>
                </a:cubicBezTo>
                <a:cubicBezTo>
                  <a:pt x="790" y="32"/>
                  <a:pt x="804" y="72"/>
                  <a:pt x="777" y="48"/>
                </a:cubicBezTo>
                <a:cubicBezTo>
                  <a:pt x="757" y="31"/>
                  <a:pt x="783" y="30"/>
                  <a:pt x="762" y="27"/>
                </a:cubicBezTo>
                <a:cubicBezTo>
                  <a:pt x="751" y="25"/>
                  <a:pt x="740" y="25"/>
                  <a:pt x="729" y="24"/>
                </a:cubicBezTo>
                <a:cubicBezTo>
                  <a:pt x="726" y="23"/>
                  <a:pt x="722" y="23"/>
                  <a:pt x="720" y="21"/>
                </a:cubicBezTo>
                <a:cubicBezTo>
                  <a:pt x="717" y="19"/>
                  <a:pt x="717" y="14"/>
                  <a:pt x="714" y="12"/>
                </a:cubicBezTo>
                <a:cubicBezTo>
                  <a:pt x="709" y="9"/>
                  <a:pt x="696" y="6"/>
                  <a:pt x="696" y="6"/>
                </a:cubicBezTo>
                <a:cubicBezTo>
                  <a:pt x="692" y="6"/>
                  <a:pt x="616" y="10"/>
                  <a:pt x="606" y="12"/>
                </a:cubicBezTo>
                <a:cubicBezTo>
                  <a:pt x="600" y="13"/>
                  <a:pt x="588" y="18"/>
                  <a:pt x="588" y="18"/>
                </a:cubicBezTo>
                <a:cubicBezTo>
                  <a:pt x="578" y="17"/>
                  <a:pt x="568" y="18"/>
                  <a:pt x="558" y="15"/>
                </a:cubicBezTo>
                <a:cubicBezTo>
                  <a:pt x="551" y="13"/>
                  <a:pt x="540" y="3"/>
                  <a:pt x="540" y="3"/>
                </a:cubicBezTo>
                <a:cubicBezTo>
                  <a:pt x="468" y="5"/>
                  <a:pt x="432" y="15"/>
                  <a:pt x="363" y="18"/>
                </a:cubicBezTo>
                <a:cubicBezTo>
                  <a:pt x="353" y="21"/>
                  <a:pt x="330" y="15"/>
                  <a:pt x="330" y="15"/>
                </a:cubicBezTo>
                <a:cubicBezTo>
                  <a:pt x="312" y="17"/>
                  <a:pt x="294" y="21"/>
                  <a:pt x="276" y="15"/>
                </a:cubicBezTo>
                <a:cubicBezTo>
                  <a:pt x="266" y="12"/>
                  <a:pt x="259" y="3"/>
                  <a:pt x="249" y="0"/>
                </a:cubicBezTo>
                <a:cubicBezTo>
                  <a:pt x="210" y="8"/>
                  <a:pt x="208" y="7"/>
                  <a:pt x="150" y="9"/>
                </a:cubicBezTo>
                <a:cubicBezTo>
                  <a:pt x="145" y="30"/>
                  <a:pt x="131" y="24"/>
                  <a:pt x="114" y="15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61240" y="2432160"/>
            <a:ext cx="21888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60" y="6"/>
                </a:moveTo>
                <a:cubicBezTo>
                  <a:pt x="50" y="7"/>
                  <a:pt x="38" y="3"/>
                  <a:pt x="30" y="9"/>
                </a:cubicBezTo>
                <a:cubicBezTo>
                  <a:pt x="24" y="13"/>
                  <a:pt x="29" y="23"/>
                  <a:pt x="27" y="30"/>
                </a:cubicBezTo>
                <a:cubicBezTo>
                  <a:pt x="25" y="36"/>
                  <a:pt x="20" y="42"/>
                  <a:pt x="18" y="48"/>
                </a:cubicBezTo>
                <a:cubicBezTo>
                  <a:pt x="13" y="89"/>
                  <a:pt x="15" y="64"/>
                  <a:pt x="0" y="87"/>
                </a:cubicBezTo>
                <a:cubicBezTo>
                  <a:pt x="5" y="131"/>
                  <a:pt x="8" y="123"/>
                  <a:pt x="57" y="126"/>
                </a:cubicBezTo>
                <a:cubicBezTo>
                  <a:pt x="61" y="138"/>
                  <a:pt x="63" y="143"/>
                  <a:pt x="75" y="147"/>
                </a:cubicBezTo>
                <a:cubicBezTo>
                  <a:pt x="125" y="143"/>
                  <a:pt x="125" y="151"/>
                  <a:pt x="120" y="105"/>
                </a:cubicBezTo>
                <a:cubicBezTo>
                  <a:pt x="121" y="99"/>
                  <a:pt x="120" y="92"/>
                  <a:pt x="123" y="87"/>
                </a:cubicBezTo>
                <a:cubicBezTo>
                  <a:pt x="125" y="84"/>
                  <a:pt x="131" y="85"/>
                  <a:pt x="132" y="81"/>
                </a:cubicBezTo>
                <a:cubicBezTo>
                  <a:pt x="138" y="47"/>
                  <a:pt x="117" y="20"/>
                  <a:pt x="90" y="6"/>
                </a:cubicBezTo>
                <a:cubicBezTo>
                  <a:pt x="87" y="4"/>
                  <a:pt x="85" y="0"/>
                  <a:pt x="81" y="0"/>
                </a:cubicBezTo>
                <a:cubicBezTo>
                  <a:pt x="74" y="0"/>
                  <a:pt x="67" y="4"/>
                  <a:pt x="60" y="6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08880" y="2432160"/>
            <a:ext cx="177840" cy="222120"/>
          </a:xfrm>
          <a:custGeom>
            <a:avLst/>
            <a:gdLst/>
            <a:ahLst/>
            <a:rect l="l" t="t" r="r" b="b"/>
            <a:pathLst>
              <a:path w="112" h="140">
                <a:moveTo>
                  <a:pt x="6" y="20"/>
                </a:moveTo>
                <a:cubicBezTo>
                  <a:pt x="30" y="12"/>
                  <a:pt x="18" y="15"/>
                  <a:pt x="42" y="11"/>
                </a:cubicBezTo>
                <a:cubicBezTo>
                  <a:pt x="44" y="10"/>
                  <a:pt x="56" y="0"/>
                  <a:pt x="60" y="2"/>
                </a:cubicBezTo>
                <a:cubicBezTo>
                  <a:pt x="63" y="3"/>
                  <a:pt x="63" y="9"/>
                  <a:pt x="66" y="11"/>
                </a:cubicBezTo>
                <a:cubicBezTo>
                  <a:pt x="75" y="18"/>
                  <a:pt x="88" y="16"/>
                  <a:pt x="99" y="17"/>
                </a:cubicBezTo>
                <a:cubicBezTo>
                  <a:pt x="112" y="37"/>
                  <a:pt x="109" y="61"/>
                  <a:pt x="102" y="83"/>
                </a:cubicBezTo>
                <a:cubicBezTo>
                  <a:pt x="101" y="98"/>
                  <a:pt x="109" y="117"/>
                  <a:pt x="99" y="128"/>
                </a:cubicBezTo>
                <a:cubicBezTo>
                  <a:pt x="89" y="138"/>
                  <a:pt x="71" y="129"/>
                  <a:pt x="57" y="131"/>
                </a:cubicBezTo>
                <a:cubicBezTo>
                  <a:pt x="47" y="132"/>
                  <a:pt x="36" y="137"/>
                  <a:pt x="27" y="140"/>
                </a:cubicBezTo>
                <a:cubicBezTo>
                  <a:pt x="13" y="137"/>
                  <a:pt x="12" y="132"/>
                  <a:pt x="6" y="119"/>
                </a:cubicBezTo>
                <a:cubicBezTo>
                  <a:pt x="3" y="113"/>
                  <a:pt x="0" y="101"/>
                  <a:pt x="0" y="101"/>
                </a:cubicBezTo>
                <a:cubicBezTo>
                  <a:pt x="8" y="37"/>
                  <a:pt x="0" y="117"/>
                  <a:pt x="0" y="53"/>
                </a:cubicBezTo>
                <a:cubicBezTo>
                  <a:pt x="0" y="40"/>
                  <a:pt x="11" y="30"/>
                  <a:pt x="6" y="2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29600" y="2287440"/>
            <a:ext cx="21888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60" y="6"/>
                </a:moveTo>
                <a:cubicBezTo>
                  <a:pt x="50" y="7"/>
                  <a:pt x="38" y="3"/>
                  <a:pt x="30" y="9"/>
                </a:cubicBezTo>
                <a:cubicBezTo>
                  <a:pt x="24" y="13"/>
                  <a:pt x="29" y="23"/>
                  <a:pt x="27" y="30"/>
                </a:cubicBezTo>
                <a:cubicBezTo>
                  <a:pt x="25" y="36"/>
                  <a:pt x="20" y="42"/>
                  <a:pt x="18" y="48"/>
                </a:cubicBezTo>
                <a:cubicBezTo>
                  <a:pt x="13" y="89"/>
                  <a:pt x="15" y="64"/>
                  <a:pt x="0" y="87"/>
                </a:cubicBezTo>
                <a:cubicBezTo>
                  <a:pt x="5" y="131"/>
                  <a:pt x="8" y="123"/>
                  <a:pt x="57" y="126"/>
                </a:cubicBezTo>
                <a:cubicBezTo>
                  <a:pt x="61" y="138"/>
                  <a:pt x="63" y="143"/>
                  <a:pt x="75" y="147"/>
                </a:cubicBezTo>
                <a:cubicBezTo>
                  <a:pt x="125" y="143"/>
                  <a:pt x="125" y="151"/>
                  <a:pt x="120" y="105"/>
                </a:cubicBezTo>
                <a:cubicBezTo>
                  <a:pt x="121" y="99"/>
                  <a:pt x="120" y="92"/>
                  <a:pt x="123" y="87"/>
                </a:cubicBezTo>
                <a:cubicBezTo>
                  <a:pt x="125" y="84"/>
                  <a:pt x="131" y="85"/>
                  <a:pt x="132" y="81"/>
                </a:cubicBezTo>
                <a:cubicBezTo>
                  <a:pt x="138" y="47"/>
                  <a:pt x="117" y="20"/>
                  <a:pt x="90" y="6"/>
                </a:cubicBezTo>
                <a:cubicBezTo>
                  <a:pt x="87" y="4"/>
                  <a:pt x="85" y="0"/>
                  <a:pt x="81" y="0"/>
                </a:cubicBezTo>
                <a:cubicBezTo>
                  <a:pt x="74" y="0"/>
                  <a:pt x="67" y="4"/>
                  <a:pt x="60" y="6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328600">
            <a:off x="8337600" y="2280960"/>
            <a:ext cx="177840" cy="222120"/>
          </a:xfrm>
          <a:custGeom>
            <a:avLst/>
            <a:gdLst/>
            <a:ahLst/>
            <a:rect l="l" t="t" r="r" b="b"/>
            <a:pathLst>
              <a:path w="112" h="140">
                <a:moveTo>
                  <a:pt x="6" y="20"/>
                </a:moveTo>
                <a:cubicBezTo>
                  <a:pt x="30" y="12"/>
                  <a:pt x="18" y="15"/>
                  <a:pt x="42" y="11"/>
                </a:cubicBezTo>
                <a:cubicBezTo>
                  <a:pt x="44" y="10"/>
                  <a:pt x="56" y="0"/>
                  <a:pt x="60" y="2"/>
                </a:cubicBezTo>
                <a:cubicBezTo>
                  <a:pt x="63" y="3"/>
                  <a:pt x="63" y="9"/>
                  <a:pt x="66" y="11"/>
                </a:cubicBezTo>
                <a:cubicBezTo>
                  <a:pt x="75" y="18"/>
                  <a:pt x="88" y="16"/>
                  <a:pt x="99" y="17"/>
                </a:cubicBezTo>
                <a:cubicBezTo>
                  <a:pt x="112" y="37"/>
                  <a:pt x="109" y="61"/>
                  <a:pt x="102" y="83"/>
                </a:cubicBezTo>
                <a:cubicBezTo>
                  <a:pt x="101" y="98"/>
                  <a:pt x="109" y="117"/>
                  <a:pt x="99" y="128"/>
                </a:cubicBezTo>
                <a:cubicBezTo>
                  <a:pt x="89" y="138"/>
                  <a:pt x="71" y="129"/>
                  <a:pt x="57" y="131"/>
                </a:cubicBezTo>
                <a:cubicBezTo>
                  <a:pt x="47" y="132"/>
                  <a:pt x="36" y="137"/>
                  <a:pt x="27" y="140"/>
                </a:cubicBezTo>
                <a:cubicBezTo>
                  <a:pt x="13" y="137"/>
                  <a:pt x="12" y="132"/>
                  <a:pt x="6" y="119"/>
                </a:cubicBezTo>
                <a:cubicBezTo>
                  <a:pt x="3" y="113"/>
                  <a:pt x="0" y="101"/>
                  <a:pt x="0" y="101"/>
                </a:cubicBezTo>
                <a:cubicBezTo>
                  <a:pt x="8" y="37"/>
                  <a:pt x="0" y="117"/>
                  <a:pt x="0" y="53"/>
                </a:cubicBezTo>
                <a:cubicBezTo>
                  <a:pt x="0" y="40"/>
                  <a:pt x="11" y="30"/>
                  <a:pt x="6" y="2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359080"/>
            <a:ext cx="873000" cy="360360"/>
          </a:xfrm>
          <a:custGeom>
            <a:avLst/>
            <a:gdLst/>
            <a:ahLst/>
            <a:rect l="l" t="t" r="r" b="b"/>
            <a:pathLst>
              <a:path w="550" h="150">
                <a:moveTo>
                  <a:pt x="63" y="30"/>
                </a:moveTo>
                <a:cubicBezTo>
                  <a:pt x="50" y="38"/>
                  <a:pt x="44" y="51"/>
                  <a:pt x="36" y="63"/>
                </a:cubicBezTo>
                <a:cubicBezTo>
                  <a:pt x="32" y="69"/>
                  <a:pt x="24" y="81"/>
                  <a:pt x="24" y="81"/>
                </a:cubicBezTo>
                <a:cubicBezTo>
                  <a:pt x="23" y="88"/>
                  <a:pt x="24" y="96"/>
                  <a:pt x="21" y="102"/>
                </a:cubicBezTo>
                <a:cubicBezTo>
                  <a:pt x="20" y="105"/>
                  <a:pt x="13" y="102"/>
                  <a:pt x="12" y="105"/>
                </a:cubicBezTo>
                <a:cubicBezTo>
                  <a:pt x="0" y="146"/>
                  <a:pt x="95" y="125"/>
                  <a:pt x="138" y="126"/>
                </a:cubicBezTo>
                <a:cubicBezTo>
                  <a:pt x="162" y="150"/>
                  <a:pt x="166" y="141"/>
                  <a:pt x="210" y="138"/>
                </a:cubicBezTo>
                <a:cubicBezTo>
                  <a:pt x="260" y="125"/>
                  <a:pt x="303" y="130"/>
                  <a:pt x="360" y="129"/>
                </a:cubicBezTo>
                <a:cubicBezTo>
                  <a:pt x="455" y="136"/>
                  <a:pt x="386" y="142"/>
                  <a:pt x="549" y="138"/>
                </a:cubicBezTo>
                <a:cubicBezTo>
                  <a:pt x="548" y="122"/>
                  <a:pt x="550" y="106"/>
                  <a:pt x="546" y="90"/>
                </a:cubicBezTo>
                <a:cubicBezTo>
                  <a:pt x="545" y="87"/>
                  <a:pt x="539" y="89"/>
                  <a:pt x="537" y="87"/>
                </a:cubicBezTo>
                <a:cubicBezTo>
                  <a:pt x="530" y="80"/>
                  <a:pt x="530" y="66"/>
                  <a:pt x="522" y="60"/>
                </a:cubicBezTo>
                <a:cubicBezTo>
                  <a:pt x="514" y="54"/>
                  <a:pt x="495" y="51"/>
                  <a:pt x="495" y="51"/>
                </a:cubicBezTo>
                <a:cubicBezTo>
                  <a:pt x="491" y="45"/>
                  <a:pt x="491" y="37"/>
                  <a:pt x="486" y="33"/>
                </a:cubicBezTo>
                <a:cubicBezTo>
                  <a:pt x="481" y="29"/>
                  <a:pt x="468" y="27"/>
                  <a:pt x="468" y="27"/>
                </a:cubicBezTo>
                <a:cubicBezTo>
                  <a:pt x="443" y="30"/>
                  <a:pt x="416" y="35"/>
                  <a:pt x="396" y="15"/>
                </a:cubicBezTo>
                <a:cubicBezTo>
                  <a:pt x="389" y="8"/>
                  <a:pt x="369" y="0"/>
                  <a:pt x="369" y="0"/>
                </a:cubicBezTo>
                <a:cubicBezTo>
                  <a:pt x="339" y="2"/>
                  <a:pt x="309" y="2"/>
                  <a:pt x="279" y="6"/>
                </a:cubicBezTo>
                <a:cubicBezTo>
                  <a:pt x="269" y="7"/>
                  <a:pt x="259" y="18"/>
                  <a:pt x="249" y="21"/>
                </a:cubicBezTo>
                <a:cubicBezTo>
                  <a:pt x="221" y="18"/>
                  <a:pt x="222" y="16"/>
                  <a:pt x="201" y="9"/>
                </a:cubicBezTo>
                <a:cubicBezTo>
                  <a:pt x="162" y="13"/>
                  <a:pt x="136" y="16"/>
                  <a:pt x="93" y="18"/>
                </a:cubicBezTo>
                <a:cubicBezTo>
                  <a:pt x="80" y="27"/>
                  <a:pt x="80" y="34"/>
                  <a:pt x="63" y="3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2" idx="0"/>
            <a:endCxn id="176" idx="2"/>
          </p:cNvCxnSpPr>
          <p:nvPr/>
        </p:nvCxnSpPr>
        <p:spPr>
          <a:xfrm flipH="1" flipV="1" rot="5400000">
            <a:off x="-81720" y="1931760"/>
            <a:ext cx="2402640" cy="725760"/>
          </a:xfrm>
          <a:prstGeom prst="bentConnector3">
            <a:avLst>
              <a:gd name="adj1" fmla="val 50187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91" name=""/>
          <p:cNvCxnSpPr>
            <a:stCxn id="183" idx="0"/>
            <a:endCxn id="176" idx="2"/>
          </p:cNvCxnSpPr>
          <p:nvPr/>
        </p:nvCxnSpPr>
        <p:spPr>
          <a:xfrm flipV="1">
            <a:off x="1481400" y="1093320"/>
            <a:ext cx="1440" cy="2464560"/>
          </a:xfrm>
          <a:prstGeom prst="bentConnector4">
            <a:avLst>
              <a:gd name="adj1" fmla="val 22333333"/>
              <a:gd name="adj2" fmla="val 50489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92" name=""/>
          <p:cNvCxnSpPr>
            <a:stCxn id="185" idx="0"/>
            <a:endCxn id="193" idx="2"/>
          </p:cNvCxnSpPr>
          <p:nvPr/>
        </p:nvCxnSpPr>
        <p:spPr>
          <a:xfrm flipH="1" flipV="1" rot="5400000">
            <a:off x="5376240" y="1604880"/>
            <a:ext cx="1564560" cy="109440"/>
          </a:xfrm>
          <a:prstGeom prst="bentConnector3">
            <a:avLst>
              <a:gd name="adj1" fmla="val 50287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94" name=""/>
          <p:cNvCxnSpPr>
            <a:stCxn id="186" idx="0"/>
            <a:endCxn id="193" idx="2"/>
          </p:cNvCxnSpPr>
          <p:nvPr/>
        </p:nvCxnSpPr>
        <p:spPr>
          <a:xfrm rot="10800000">
            <a:off x="6212880" y="876960"/>
            <a:ext cx="405360" cy="1586880"/>
          </a:xfrm>
          <a:prstGeom prst="bentConnector2">
            <a:avLst/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95" name=""/>
          <p:cNvCxnSpPr>
            <a:stCxn id="187" idx="0"/>
            <a:endCxn id="196" idx="2"/>
          </p:cNvCxnSpPr>
          <p:nvPr/>
        </p:nvCxnSpPr>
        <p:spPr>
          <a:xfrm flipH="1" rot="10800000">
            <a:off x="7372440" y="876960"/>
            <a:ext cx="1181160" cy="1458000"/>
          </a:xfrm>
          <a:prstGeom prst="bentConnector4">
            <a:avLst>
              <a:gd name="adj1" fmla="val -22835"/>
              <a:gd name="adj2" fmla="val 51617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97" name=""/>
          <p:cNvCxnSpPr>
            <a:stCxn id="188" idx="0"/>
            <a:endCxn id="196" idx="2"/>
          </p:cNvCxnSpPr>
          <p:nvPr/>
        </p:nvCxnSpPr>
        <p:spPr>
          <a:xfrm flipV="1">
            <a:off x="8497800" y="877320"/>
            <a:ext cx="55800" cy="1452240"/>
          </a:xfrm>
          <a:prstGeom prst="bentConnector4">
            <a:avLst>
              <a:gd name="adj1" fmla="val 472077"/>
              <a:gd name="adj2" fmla="val 51673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2936880" y="3727440"/>
            <a:ext cx="201600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Derrames de taladrina o aceite de lubricación que puedan provocar accidentes o generar vahos nocivos. Generalmente solucionar un problema de este tipo tendrá un coste elevad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Manchas y salpicaduras que resulten molestas sin llegar a generar un riesgo de accidente o intoxicación. Su corrección no será excesivamente car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29600" y="55440"/>
            <a:ext cx="244764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5 – Máquinas: 1 – Estaciones: carga, descarga y later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en entrada, salida y later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salpicaduras en la unión con el sist. de transp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sellar con Belzona Molec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68880" y="55440"/>
            <a:ext cx="208908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4 – Máquinas: 1 – Estaciones: carga y descar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en entrada y sal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salpicaduras en la unión con el sist. de transp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limpiar con frecu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sellar con Belzona Molec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24000" y="6513480"/>
            <a:ext cx="7184880" cy="276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ncisco Burgada Vilaplan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ágina 1 de 1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emisión: 13/02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W:\PUBLICO\FBurgada\puntos negros paco\layout lineas\bie-2008-1.ppt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revisión: 13/03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9:40:25Z</dcterms:created>
  <dc:creator>jgasco</dc:creator>
  <dc:description/>
  <dc:language>en-US</dc:language>
  <cp:lastModifiedBy>fburgada</cp:lastModifiedBy>
  <cp:lastPrinted>2005-02-10T12:35:31Z</cp:lastPrinted>
  <dcterms:modified xsi:type="dcterms:W3CDTF">2008-06-27T07:13:32Z</dcterms:modified>
  <cp:revision>30</cp:revision>
  <dc:subject/>
  <dc:title>Presentación de PowerPoint</dc:title>
</cp:coreProperties>
</file>