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791700" cy="1418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F10D-29A0-4814-88CA-3ADE15CCF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15C6-AD15-4D3D-B9FC-7EC64693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CEFC-20D6-4AC6-A931-D5A52C8F0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9ECA-A72A-4F2A-9ECE-8299D1BA8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B6BB-4E56-4088-B775-5EFCFCD5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97BD-DB4C-4237-8752-4F62F0D9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AF1C-BDE6-4E0D-92BD-3FEE5582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4ACA-0797-4E6E-9A22-99BDCB8E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AB39-94C4-49A6-ABE9-DD58E5B4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D288-1B12-4095-A956-1CA5817D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01DC-AD88-4924-A1D9-870B7126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9CDF-FED1-4DCF-B7CF-FAF1BEAC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D74E-CF7F-47F7-837E-53A51BD64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8.png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5376960"/>
            <a:ext cx="5076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03520" y="2922480"/>
            <a:ext cx="63792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044800" y="2776680"/>
          <a:ext cx="546120" cy="45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4800" y="2776680"/>
                    <a:ext cx="54612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198440" y="2757600"/>
          <a:ext cx="546120" cy="45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8440" y="2757600"/>
                    <a:ext cx="54612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5904000" y="5830920"/>
            <a:ext cx="343512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3933720" y="2541600"/>
            <a:ext cx="123480" cy="10476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84800" y="1386000"/>
            <a:ext cx="2384280" cy="324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2960" y="5308560"/>
            <a:ext cx="5256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05360" y="3639960"/>
            <a:ext cx="343224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5218200"/>
            <a:ext cx="205884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436920" y="4739760"/>
            <a:ext cx="0" cy="46692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92640" y="4878360"/>
            <a:ext cx="83880" cy="13320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9273960" y="2316240"/>
            <a:ext cx="120600" cy="10944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0800000">
            <a:off x="5748480" y="4719600"/>
            <a:ext cx="118800" cy="10656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4966200" y="3585240"/>
            <a:ext cx="123840" cy="10332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6353280" y="6286680"/>
            <a:ext cx="125280" cy="10296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775280" y="367200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969696"/>
                </a:solidFill>
                <a:latin typeface="Arial"/>
              </a:rPr>
              <a:t>Op 50-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34200" y="367668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969696"/>
                </a:solidFill>
                <a:latin typeface="Arial"/>
              </a:rPr>
              <a:t>Op 50-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59240" y="366876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969696"/>
                </a:solidFill>
                <a:latin typeface="Arial"/>
              </a:rPr>
              <a:t>Op 50-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43280" y="366408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969696"/>
                </a:solidFill>
                <a:latin typeface="Arial"/>
              </a:rPr>
              <a:t>Op 50-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97440" y="367020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969696"/>
                </a:solidFill>
                <a:latin typeface="Arial"/>
              </a:rPr>
              <a:t>Op 60-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56120" y="365760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969696"/>
                </a:solidFill>
                <a:latin typeface="Arial"/>
              </a:rPr>
              <a:t>Op 60-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62680" y="465300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969696"/>
                </a:solidFill>
                <a:latin typeface="Arial"/>
              </a:rPr>
              <a:t>Op 70-</a:t>
            </a:r>
            <a:r>
              <a:rPr b="1" lang="es-ES_tradnl" sz="1000" spc="-1" strike="noStrike">
                <a:solidFill>
                  <a:srgbClr val="969696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67400" y="465300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969696"/>
                </a:solidFill>
                <a:latin typeface="Arial"/>
              </a:rPr>
              <a:t>Op 70-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69240" y="458136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969696"/>
                </a:solidFill>
                <a:latin typeface="Arial"/>
              </a:rPr>
              <a:t>Op 70-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62680" y="595008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c0c0c0"/>
                </a:solidFill>
                <a:latin typeface="Arial"/>
              </a:rPr>
              <a:t>Op 70-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67400" y="595008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c0c0c0"/>
                </a:solidFill>
                <a:latin typeface="Arial"/>
              </a:rPr>
              <a:t>Op 70-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69240" y="5950080"/>
            <a:ext cx="73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c0c0c0"/>
                </a:solidFill>
                <a:latin typeface="Arial"/>
              </a:rPr>
              <a:t>Op 70-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28600" y="6110280"/>
            <a:ext cx="67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c0c0c0"/>
                </a:solidFill>
                <a:latin typeface="Arial"/>
              </a:rPr>
              <a:t>Op 70-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960120" y="2382840"/>
            <a:ext cx="349200" cy="423360"/>
            <a:chOff x="960120" y="2382840"/>
            <a:chExt cx="349200" cy="423360"/>
          </a:xfrm>
        </p:grpSpPr>
        <p:sp>
          <p:nvSpPr>
            <p:cNvPr id="73" name=""/>
            <p:cNvSpPr/>
            <p:nvPr/>
          </p:nvSpPr>
          <p:spPr>
            <a:xfrm rot="5400000">
              <a:off x="1120680" y="2582280"/>
              <a:ext cx="178560" cy="1306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5400000">
              <a:off x="1043640" y="2538720"/>
              <a:ext cx="163440" cy="328680"/>
            </a:xfrm>
            <a:custGeom>
              <a:avLst/>
              <a:gdLst/>
              <a:ahLst/>
              <a:rect l="l" t="t" r="r" b="b"/>
              <a:pathLst>
                <a:path w="889" h="1792">
                  <a:moveTo>
                    <a:pt x="0" y="795"/>
                  </a:moveTo>
                  <a:lnTo>
                    <a:pt x="0" y="1689"/>
                  </a:lnTo>
                  <a:lnTo>
                    <a:pt x="90" y="1791"/>
                  </a:lnTo>
                  <a:lnTo>
                    <a:pt x="774" y="1791"/>
                  </a:lnTo>
                  <a:lnTo>
                    <a:pt x="888" y="1689"/>
                  </a:lnTo>
                  <a:lnTo>
                    <a:pt x="8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5400000">
              <a:off x="1095840" y="2554200"/>
              <a:ext cx="92520" cy="297000"/>
            </a:xfrm>
            <a:custGeom>
              <a:avLst/>
              <a:gdLst/>
              <a:ahLst/>
              <a:rect l="l" t="t" r="r" b="b"/>
              <a:pathLst>
                <a:path w="511" h="1615">
                  <a:moveTo>
                    <a:pt x="0" y="804"/>
                  </a:moveTo>
                  <a:lnTo>
                    <a:pt x="0" y="1560"/>
                  </a:lnTo>
                  <a:lnTo>
                    <a:pt x="42" y="1614"/>
                  </a:lnTo>
                  <a:lnTo>
                    <a:pt x="474" y="1614"/>
                  </a:lnTo>
                  <a:lnTo>
                    <a:pt x="510" y="1566"/>
                  </a:lnTo>
                  <a:lnTo>
                    <a:pt x="51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5400000">
              <a:off x="1095120" y="2361600"/>
              <a:ext cx="65520" cy="1080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 anchorCtr="1" vert="eaVert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1274400" y="2656440"/>
              <a:ext cx="2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1276200" y="2623680"/>
              <a:ext cx="1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5400000">
              <a:off x="1272600" y="2637000"/>
              <a:ext cx="59040" cy="14040"/>
            </a:xfrm>
            <a:custGeom>
              <a:avLst/>
              <a:gdLst/>
              <a:ahLst/>
              <a:rect l="l" t="t" r="r" b="b"/>
              <a:pathLst>
                <a:path w="318" h="78">
                  <a:moveTo>
                    <a:pt x="0" y="0"/>
                  </a:moveTo>
                  <a:cubicBezTo>
                    <a:pt x="23" y="15"/>
                    <a:pt x="39" y="19"/>
                    <a:pt x="66" y="24"/>
                  </a:cubicBezTo>
                  <a:cubicBezTo>
                    <a:pt x="78" y="22"/>
                    <a:pt x="90" y="21"/>
                    <a:pt x="102" y="18"/>
                  </a:cubicBezTo>
                  <a:cubicBezTo>
                    <a:pt x="108" y="17"/>
                    <a:pt x="114" y="11"/>
                    <a:pt x="120" y="12"/>
                  </a:cubicBezTo>
                  <a:cubicBezTo>
                    <a:pt x="133" y="13"/>
                    <a:pt x="156" y="24"/>
                    <a:pt x="156" y="24"/>
                  </a:cubicBezTo>
                  <a:cubicBezTo>
                    <a:pt x="180" y="22"/>
                    <a:pt x="204" y="16"/>
                    <a:pt x="228" y="18"/>
                  </a:cubicBezTo>
                  <a:cubicBezTo>
                    <a:pt x="235" y="18"/>
                    <a:pt x="239" y="27"/>
                    <a:pt x="246" y="30"/>
                  </a:cubicBezTo>
                  <a:cubicBezTo>
                    <a:pt x="265" y="38"/>
                    <a:pt x="286" y="43"/>
                    <a:pt x="306" y="48"/>
                  </a:cubicBezTo>
                  <a:cubicBezTo>
                    <a:pt x="313" y="70"/>
                    <a:pt x="309" y="60"/>
                    <a:pt x="318" y="7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5400000">
              <a:off x="1273320" y="2757960"/>
              <a:ext cx="57960" cy="14040"/>
            </a:xfrm>
            <a:custGeom>
              <a:avLst/>
              <a:gdLst/>
              <a:ahLst/>
              <a:rect l="l" t="t" r="r" b="b"/>
              <a:pathLst>
                <a:path w="318" h="78">
                  <a:moveTo>
                    <a:pt x="0" y="0"/>
                  </a:moveTo>
                  <a:cubicBezTo>
                    <a:pt x="23" y="15"/>
                    <a:pt x="39" y="19"/>
                    <a:pt x="66" y="24"/>
                  </a:cubicBezTo>
                  <a:cubicBezTo>
                    <a:pt x="78" y="22"/>
                    <a:pt x="90" y="21"/>
                    <a:pt x="102" y="18"/>
                  </a:cubicBezTo>
                  <a:cubicBezTo>
                    <a:pt x="108" y="17"/>
                    <a:pt x="114" y="11"/>
                    <a:pt x="120" y="12"/>
                  </a:cubicBezTo>
                  <a:cubicBezTo>
                    <a:pt x="133" y="13"/>
                    <a:pt x="156" y="24"/>
                    <a:pt x="156" y="24"/>
                  </a:cubicBezTo>
                  <a:cubicBezTo>
                    <a:pt x="180" y="22"/>
                    <a:pt x="204" y="16"/>
                    <a:pt x="228" y="18"/>
                  </a:cubicBezTo>
                  <a:cubicBezTo>
                    <a:pt x="235" y="18"/>
                    <a:pt x="239" y="27"/>
                    <a:pt x="246" y="30"/>
                  </a:cubicBezTo>
                  <a:cubicBezTo>
                    <a:pt x="265" y="38"/>
                    <a:pt x="286" y="43"/>
                    <a:pt x="306" y="48"/>
                  </a:cubicBezTo>
                  <a:cubicBezTo>
                    <a:pt x="313" y="70"/>
                    <a:pt x="309" y="60"/>
                    <a:pt x="318" y="7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1274760" y="2623680"/>
              <a:ext cx="2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1273680" y="2785320"/>
              <a:ext cx="2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1274400" y="2749320"/>
              <a:ext cx="2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5400000">
              <a:off x="1000080" y="2511000"/>
              <a:ext cx="254880" cy="33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706320" y="220500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cc"/>
                </a:solidFill>
                <a:latin typeface="Arial"/>
              </a:rPr>
              <a:t>Op 10-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441440" y="2382840"/>
            <a:ext cx="344160" cy="423360"/>
            <a:chOff x="1441440" y="2382840"/>
            <a:chExt cx="344160" cy="423360"/>
          </a:xfrm>
        </p:grpSpPr>
        <p:sp>
          <p:nvSpPr>
            <p:cNvPr id="87" name=""/>
            <p:cNvSpPr/>
            <p:nvPr/>
          </p:nvSpPr>
          <p:spPr>
            <a:xfrm rot="5400000">
              <a:off x="1602720" y="2581920"/>
              <a:ext cx="178560" cy="13104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5400000">
              <a:off x="1525320" y="2538360"/>
              <a:ext cx="163080" cy="329040"/>
            </a:xfrm>
            <a:custGeom>
              <a:avLst/>
              <a:gdLst/>
              <a:ahLst/>
              <a:rect l="l" t="t" r="r" b="b"/>
              <a:pathLst>
                <a:path w="889" h="1792">
                  <a:moveTo>
                    <a:pt x="0" y="795"/>
                  </a:moveTo>
                  <a:lnTo>
                    <a:pt x="0" y="1689"/>
                  </a:lnTo>
                  <a:lnTo>
                    <a:pt x="90" y="1791"/>
                  </a:lnTo>
                  <a:lnTo>
                    <a:pt x="774" y="1791"/>
                  </a:lnTo>
                  <a:lnTo>
                    <a:pt x="888" y="1689"/>
                  </a:lnTo>
                  <a:lnTo>
                    <a:pt x="8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5400000">
              <a:off x="1577520" y="2553840"/>
              <a:ext cx="92520" cy="297360"/>
            </a:xfrm>
            <a:custGeom>
              <a:avLst/>
              <a:gdLst/>
              <a:ahLst/>
              <a:rect l="l" t="t" r="r" b="b"/>
              <a:pathLst>
                <a:path w="511" h="1615">
                  <a:moveTo>
                    <a:pt x="0" y="804"/>
                  </a:moveTo>
                  <a:lnTo>
                    <a:pt x="0" y="1560"/>
                  </a:lnTo>
                  <a:lnTo>
                    <a:pt x="42" y="1614"/>
                  </a:lnTo>
                  <a:lnTo>
                    <a:pt x="474" y="1614"/>
                  </a:lnTo>
                  <a:lnTo>
                    <a:pt x="510" y="1566"/>
                  </a:lnTo>
                  <a:lnTo>
                    <a:pt x="51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5400000">
              <a:off x="1576080" y="2361240"/>
              <a:ext cx="65160" cy="1080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 anchorCtr="1" vert="eaVert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755720" y="2656440"/>
              <a:ext cx="2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1757520" y="2623680"/>
              <a:ext cx="1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756080" y="2623680"/>
              <a:ext cx="2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755000" y="2784960"/>
              <a:ext cx="2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1755720" y="2749320"/>
              <a:ext cx="2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5400000">
              <a:off x="1481760" y="2511000"/>
              <a:ext cx="254880" cy="335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282680" y="220500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cc"/>
                </a:solidFill>
                <a:latin typeface="Arial"/>
              </a:rPr>
              <a:t>Op 10-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947960" y="2230200"/>
            <a:ext cx="553320" cy="422640"/>
            <a:chOff x="1947960" y="2230200"/>
            <a:chExt cx="553320" cy="422640"/>
          </a:xfrm>
        </p:grpSpPr>
        <p:sp>
          <p:nvSpPr>
            <p:cNvPr id="99" name=""/>
            <p:cNvSpPr/>
            <p:nvPr/>
          </p:nvSpPr>
          <p:spPr>
            <a:xfrm rot="10800000">
              <a:off x="1947960" y="2330640"/>
              <a:ext cx="15120" cy="295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0800000">
              <a:off x="2397240" y="2495520"/>
              <a:ext cx="104040" cy="622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69240" y="2613960"/>
              <a:ext cx="7920" cy="28440"/>
            </a:xfrm>
            <a:prstGeom prst="downArrow">
              <a:avLst>
                <a:gd name="adj1" fmla="val 50000"/>
                <a:gd name="adj2" fmla="val 89773"/>
              </a:avLst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0800000">
              <a:off x="2418840" y="2567880"/>
              <a:ext cx="6840" cy="27360"/>
            </a:xfrm>
            <a:prstGeom prst="downArrow">
              <a:avLst>
                <a:gd name="adj1" fmla="val 50000"/>
                <a:gd name="adj2" fmla="val 100000"/>
              </a:avLst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433240" y="223056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2419200" y="2247480"/>
              <a:ext cx="10080" cy="352440"/>
              <a:chOff x="2419200" y="2247480"/>
              <a:chExt cx="10080" cy="352440"/>
            </a:xfrm>
          </p:grpSpPr>
          <p:sp>
            <p:nvSpPr>
              <p:cNvPr id="105" name=""/>
              <p:cNvSpPr/>
              <p:nvPr/>
            </p:nvSpPr>
            <p:spPr>
              <a:xfrm flipV="1">
                <a:off x="2429280" y="2247480"/>
                <a:ext cx="0" cy="35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2419200" y="2247480"/>
                <a:ext cx="0" cy="35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2468160" y="2246400"/>
              <a:ext cx="10080" cy="401400"/>
              <a:chOff x="2468160" y="2246400"/>
              <a:chExt cx="10080" cy="401400"/>
            </a:xfrm>
          </p:grpSpPr>
          <p:sp>
            <p:nvSpPr>
              <p:cNvPr id="108" name=""/>
              <p:cNvSpPr/>
              <p:nvPr/>
            </p:nvSpPr>
            <p:spPr>
              <a:xfrm flipV="1">
                <a:off x="2478240" y="2246400"/>
                <a:ext cx="0" cy="40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2468160" y="2246400"/>
                <a:ext cx="0" cy="40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 flipH="1" flipV="1">
              <a:off x="2462760" y="2239560"/>
              <a:ext cx="6120" cy="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2427840" y="2239560"/>
              <a:ext cx="900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437560" y="2239560"/>
              <a:ext cx="2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2478600" y="2239560"/>
              <a:ext cx="0" cy="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418840" y="2230560"/>
              <a:ext cx="1620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19920" y="224496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2466360" y="2230200"/>
              <a:ext cx="10800" cy="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2026080" y="2299680"/>
              <a:ext cx="374040" cy="219240"/>
            </a:xfrm>
            <a:prstGeom prst="rect">
              <a:avLst/>
            </a:prstGeom>
            <a:solidFill>
              <a:srgbClr val="0099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0800000">
              <a:off x="1965960" y="2304360"/>
              <a:ext cx="44640" cy="1893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0800000">
              <a:off x="2032560" y="2326680"/>
              <a:ext cx="10080" cy="167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0800000">
              <a:off x="2382840" y="2290320"/>
              <a:ext cx="18360" cy="10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0800000">
              <a:off x="2025360" y="2290320"/>
              <a:ext cx="19440" cy="10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0800000">
              <a:off x="2110320" y="2290320"/>
              <a:ext cx="18000" cy="10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2302560" y="2290320"/>
              <a:ext cx="19440" cy="111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0800000">
              <a:off x="2228040" y="2290320"/>
              <a:ext cx="19440" cy="10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0800000">
              <a:off x="2190600" y="2290320"/>
              <a:ext cx="18360" cy="10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0800000">
              <a:off x="2144880" y="2518560"/>
              <a:ext cx="254520" cy="11376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0800000">
              <a:off x="2215440" y="2275200"/>
              <a:ext cx="5040" cy="32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0800000">
              <a:off x="2214360" y="2303280"/>
              <a:ext cx="6840" cy="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0800000">
              <a:off x="2145240" y="2502000"/>
              <a:ext cx="253440" cy="29520"/>
            </a:xfrm>
            <a:custGeom>
              <a:avLst/>
              <a:gdLst/>
              <a:ahLst/>
              <a:rect l="l" t="t" r="r" b="b"/>
              <a:pathLst>
                <a:path w="1388" h="157">
                  <a:moveTo>
                    <a:pt x="15" y="33"/>
                  </a:moveTo>
                  <a:cubicBezTo>
                    <a:pt x="1" y="54"/>
                    <a:pt x="5" y="44"/>
                    <a:pt x="0" y="60"/>
                  </a:cubicBezTo>
                  <a:cubicBezTo>
                    <a:pt x="5" y="97"/>
                    <a:pt x="23" y="91"/>
                    <a:pt x="54" y="96"/>
                  </a:cubicBezTo>
                  <a:cubicBezTo>
                    <a:pt x="72" y="105"/>
                    <a:pt x="85" y="121"/>
                    <a:pt x="105" y="126"/>
                  </a:cubicBezTo>
                  <a:cubicBezTo>
                    <a:pt x="122" y="130"/>
                    <a:pt x="139" y="130"/>
                    <a:pt x="156" y="132"/>
                  </a:cubicBezTo>
                  <a:cubicBezTo>
                    <a:pt x="188" y="148"/>
                    <a:pt x="218" y="142"/>
                    <a:pt x="255" y="144"/>
                  </a:cubicBezTo>
                  <a:cubicBezTo>
                    <a:pt x="320" y="157"/>
                    <a:pt x="432" y="130"/>
                    <a:pt x="492" y="129"/>
                  </a:cubicBezTo>
                  <a:cubicBezTo>
                    <a:pt x="587" y="128"/>
                    <a:pt x="682" y="127"/>
                    <a:pt x="777" y="126"/>
                  </a:cubicBezTo>
                  <a:cubicBezTo>
                    <a:pt x="813" y="122"/>
                    <a:pt x="848" y="117"/>
                    <a:pt x="885" y="114"/>
                  </a:cubicBezTo>
                  <a:cubicBezTo>
                    <a:pt x="1025" y="121"/>
                    <a:pt x="1113" y="113"/>
                    <a:pt x="1269" y="111"/>
                  </a:cubicBezTo>
                  <a:cubicBezTo>
                    <a:pt x="1300" y="101"/>
                    <a:pt x="1323" y="93"/>
                    <a:pt x="1356" y="90"/>
                  </a:cubicBezTo>
                  <a:cubicBezTo>
                    <a:pt x="1381" y="82"/>
                    <a:pt x="1388" y="71"/>
                    <a:pt x="1362" y="54"/>
                  </a:cubicBezTo>
                  <a:cubicBezTo>
                    <a:pt x="1344" y="60"/>
                    <a:pt x="1324" y="60"/>
                    <a:pt x="1305" y="63"/>
                  </a:cubicBezTo>
                  <a:cubicBezTo>
                    <a:pt x="1288" y="61"/>
                    <a:pt x="1273" y="57"/>
                    <a:pt x="1257" y="54"/>
                  </a:cubicBezTo>
                  <a:cubicBezTo>
                    <a:pt x="1217" y="28"/>
                    <a:pt x="1122" y="35"/>
                    <a:pt x="1080" y="33"/>
                  </a:cubicBezTo>
                  <a:cubicBezTo>
                    <a:pt x="1047" y="30"/>
                    <a:pt x="1016" y="22"/>
                    <a:pt x="984" y="18"/>
                  </a:cubicBezTo>
                  <a:cubicBezTo>
                    <a:pt x="931" y="21"/>
                    <a:pt x="883" y="23"/>
                    <a:pt x="831" y="18"/>
                  </a:cubicBezTo>
                  <a:cubicBezTo>
                    <a:pt x="819" y="0"/>
                    <a:pt x="802" y="7"/>
                    <a:pt x="783" y="12"/>
                  </a:cubicBezTo>
                  <a:cubicBezTo>
                    <a:pt x="690" y="9"/>
                    <a:pt x="600" y="11"/>
                    <a:pt x="507" y="9"/>
                  </a:cubicBezTo>
                  <a:cubicBezTo>
                    <a:pt x="109" y="13"/>
                    <a:pt x="302" y="9"/>
                    <a:pt x="147" y="24"/>
                  </a:cubicBezTo>
                  <a:cubicBezTo>
                    <a:pt x="133" y="33"/>
                    <a:pt x="118" y="33"/>
                    <a:pt x="102" y="36"/>
                  </a:cubicBezTo>
                  <a:cubicBezTo>
                    <a:pt x="80" y="35"/>
                    <a:pt x="58" y="33"/>
                    <a:pt x="36" y="33"/>
                  </a:cubicBezTo>
                  <a:cubicBezTo>
                    <a:pt x="14" y="33"/>
                    <a:pt x="6" y="42"/>
                    <a:pt x="15" y="33"/>
                  </a:cubicBez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0800000">
              <a:off x="2458800" y="2647800"/>
              <a:ext cx="30600" cy="5040"/>
            </a:xfrm>
            <a:custGeom>
              <a:avLst/>
              <a:gdLst/>
              <a:ahLst/>
              <a:rect l="l" t="t" r="r" b="b"/>
              <a:pathLst>
                <a:path w="171" h="30">
                  <a:moveTo>
                    <a:pt x="0" y="12"/>
                  </a:moveTo>
                  <a:cubicBezTo>
                    <a:pt x="20" y="15"/>
                    <a:pt x="35" y="21"/>
                    <a:pt x="54" y="27"/>
                  </a:cubicBezTo>
                  <a:cubicBezTo>
                    <a:pt x="87" y="20"/>
                    <a:pt x="81" y="11"/>
                    <a:pt x="87" y="30"/>
                  </a:cubicBezTo>
                  <a:cubicBezTo>
                    <a:pt x="110" y="25"/>
                    <a:pt x="127" y="29"/>
                    <a:pt x="150" y="18"/>
                  </a:cubicBezTo>
                  <a:cubicBezTo>
                    <a:pt x="162" y="0"/>
                    <a:pt x="162" y="15"/>
                    <a:pt x="171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0800000">
              <a:off x="2172240" y="2524680"/>
              <a:ext cx="201240" cy="100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0800000">
              <a:off x="2352600" y="2519280"/>
              <a:ext cx="136080" cy="1836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0800000">
              <a:off x="2173320" y="2410560"/>
              <a:ext cx="79560" cy="831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0800000">
              <a:off x="2172600" y="2494080"/>
              <a:ext cx="80640" cy="29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0800000">
              <a:off x="2320920" y="2299320"/>
              <a:ext cx="61200" cy="82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0800000">
              <a:off x="2046960" y="2299320"/>
              <a:ext cx="61200" cy="82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0800000">
              <a:off x="2000520" y="2316600"/>
              <a:ext cx="47880" cy="100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0800000">
              <a:off x="2127240" y="2299320"/>
              <a:ext cx="62280" cy="82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0800000">
              <a:off x="2243880" y="2299320"/>
              <a:ext cx="62280" cy="82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0800000">
              <a:off x="2151000" y="2537640"/>
              <a:ext cx="245520" cy="88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0800000">
              <a:off x="2256120" y="2410920"/>
              <a:ext cx="135720" cy="10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0800000">
              <a:off x="2048040" y="2426040"/>
              <a:ext cx="117360" cy="8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0800000">
              <a:off x="2316600" y="2307960"/>
              <a:ext cx="67320" cy="810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0800000">
              <a:off x="2121840" y="2307960"/>
              <a:ext cx="71280" cy="810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2040480" y="2396520"/>
              <a:ext cx="35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0800000">
              <a:off x="2308320" y="2386440"/>
              <a:ext cx="75240" cy="10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0800000">
              <a:off x="2119320" y="2390400"/>
              <a:ext cx="75240" cy="100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0800000">
              <a:off x="2409840" y="2599560"/>
              <a:ext cx="31680" cy="5760"/>
            </a:xfrm>
            <a:custGeom>
              <a:avLst/>
              <a:gdLst/>
              <a:ahLst/>
              <a:rect l="l" t="t" r="r" b="b"/>
              <a:pathLst>
                <a:path w="171" h="30">
                  <a:moveTo>
                    <a:pt x="0" y="12"/>
                  </a:moveTo>
                  <a:cubicBezTo>
                    <a:pt x="20" y="15"/>
                    <a:pt x="35" y="21"/>
                    <a:pt x="54" y="27"/>
                  </a:cubicBezTo>
                  <a:cubicBezTo>
                    <a:pt x="87" y="20"/>
                    <a:pt x="81" y="11"/>
                    <a:pt x="87" y="30"/>
                  </a:cubicBezTo>
                  <a:cubicBezTo>
                    <a:pt x="110" y="25"/>
                    <a:pt x="127" y="29"/>
                    <a:pt x="150" y="18"/>
                  </a:cubicBezTo>
                  <a:cubicBezTo>
                    <a:pt x="162" y="0"/>
                    <a:pt x="162" y="15"/>
                    <a:pt x="171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0800000">
              <a:off x="2350440" y="2528640"/>
              <a:ext cx="39600" cy="194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0800000">
              <a:off x="2263320" y="2522160"/>
              <a:ext cx="16200" cy="255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0800000">
              <a:off x="2385360" y="2541960"/>
              <a:ext cx="5040" cy="504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29"/>
                  </a:moveTo>
                  <a:cubicBezTo>
                    <a:pt x="3" y="23"/>
                    <a:pt x="5" y="20"/>
                    <a:pt x="11" y="17"/>
                  </a:cubicBezTo>
                  <a:cubicBezTo>
                    <a:pt x="13" y="13"/>
                    <a:pt x="27" y="0"/>
                    <a:pt x="3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0800000">
              <a:off x="2350080" y="2529720"/>
              <a:ext cx="6120" cy="504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29"/>
                  </a:moveTo>
                  <a:cubicBezTo>
                    <a:pt x="3" y="23"/>
                    <a:pt x="5" y="20"/>
                    <a:pt x="11" y="17"/>
                  </a:cubicBezTo>
                  <a:cubicBezTo>
                    <a:pt x="13" y="13"/>
                    <a:pt x="27" y="0"/>
                    <a:pt x="3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0800000">
              <a:off x="2029320" y="2464200"/>
              <a:ext cx="369720" cy="129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0800000">
              <a:off x="2029320" y="2297520"/>
              <a:ext cx="369720" cy="13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0800000">
              <a:off x="2213640" y="2298960"/>
              <a:ext cx="22320" cy="1832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0800000">
              <a:off x="2210400" y="2412360"/>
              <a:ext cx="27360" cy="306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0800000">
              <a:off x="2212560" y="2307240"/>
              <a:ext cx="24480" cy="1044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0800000">
              <a:off x="2393640" y="2532600"/>
              <a:ext cx="97920" cy="11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0800000">
              <a:off x="2464200" y="2443320"/>
              <a:ext cx="3600" cy="10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0800000">
              <a:off x="2387160" y="2308320"/>
              <a:ext cx="9000" cy="1893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0800000">
              <a:off x="2045520" y="2304360"/>
              <a:ext cx="8280" cy="1893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0800000">
              <a:off x="1987560" y="2313000"/>
              <a:ext cx="17280" cy="154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0800000">
              <a:off x="2477520" y="2441880"/>
              <a:ext cx="5040" cy="10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0800000">
              <a:off x="2428560" y="2441880"/>
              <a:ext cx="5040" cy="10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0800000">
              <a:off x="2414160" y="2443320"/>
              <a:ext cx="5040" cy="10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0800000">
              <a:off x="2414160" y="2272320"/>
              <a:ext cx="5040" cy="100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0800000">
              <a:off x="2428560" y="2271600"/>
              <a:ext cx="5040" cy="10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0800000">
              <a:off x="2463120" y="2272320"/>
              <a:ext cx="5040" cy="100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0800000">
              <a:off x="2477520" y="2272320"/>
              <a:ext cx="5040" cy="100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668680" y="2575080"/>
            <a:ext cx="0" cy="5871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664000" y="2575080"/>
            <a:ext cx="2952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664000" y="3162240"/>
            <a:ext cx="2952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2579760"/>
            <a:ext cx="73512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3170160"/>
            <a:ext cx="73512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84800" y="2624040"/>
            <a:ext cx="0" cy="538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384800" y="1673280"/>
            <a:ext cx="0" cy="4413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560920" y="1386000"/>
            <a:ext cx="451080" cy="617040"/>
            <a:chOff x="5560920" y="1386000"/>
            <a:chExt cx="451080" cy="617040"/>
          </a:xfrm>
        </p:grpSpPr>
        <p:sp>
          <p:nvSpPr>
            <p:cNvPr id="178" name=""/>
            <p:cNvSpPr/>
            <p:nvPr/>
          </p:nvSpPr>
          <p:spPr>
            <a:xfrm rot="16200000">
              <a:off x="5802120" y="1360800"/>
              <a:ext cx="32400" cy="223560"/>
            </a:xfrm>
            <a:custGeom>
              <a:avLst/>
              <a:gdLst/>
              <a:ahLst/>
              <a:rect l="l" t="t" r="r" b="b"/>
              <a:pathLst>
                <a:path w="156" h="1216">
                  <a:moveTo>
                    <a:pt x="152" y="0"/>
                  </a:moveTo>
                  <a:lnTo>
                    <a:pt x="0" y="180"/>
                  </a:lnTo>
                  <a:lnTo>
                    <a:pt x="0" y="1056"/>
                  </a:lnTo>
                  <a:lnTo>
                    <a:pt x="156" y="1216"/>
                  </a:lnTo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6200000">
              <a:off x="5815080" y="1380960"/>
              <a:ext cx="6840" cy="160200"/>
            </a:xfrm>
            <a:custGeom>
              <a:avLst/>
              <a:gdLst/>
              <a:ahLst/>
              <a:rect l="l" t="t" r="r" b="b"/>
              <a:pathLst>
                <a:path w="40" h="872">
                  <a:moveTo>
                    <a:pt x="40" y="0"/>
                  </a:moveTo>
                  <a:lnTo>
                    <a:pt x="0" y="42"/>
                  </a:lnTo>
                  <a:lnTo>
                    <a:pt x="0" y="832"/>
                  </a:lnTo>
                  <a:lnTo>
                    <a:pt x="40" y="872"/>
                  </a:lnTo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39840" y="1457280"/>
              <a:ext cx="15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73520" y="1433880"/>
              <a:ext cx="43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6200000">
              <a:off x="5622840" y="1932120"/>
              <a:ext cx="61920" cy="795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6200000">
              <a:off x="5635800" y="1689480"/>
              <a:ext cx="302760" cy="1857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6200000">
              <a:off x="5893560" y="1817640"/>
              <a:ext cx="34560" cy="511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6200000">
              <a:off x="5664600" y="1533240"/>
              <a:ext cx="37800" cy="157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6200000">
              <a:off x="5788440" y="1927800"/>
              <a:ext cx="15120" cy="273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16200000">
              <a:off x="5821920" y="1929600"/>
              <a:ext cx="6840" cy="162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6200000">
              <a:off x="5713200" y="1919880"/>
              <a:ext cx="26280" cy="550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6200000">
              <a:off x="5671080" y="1800360"/>
              <a:ext cx="34560" cy="100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6200000">
              <a:off x="5648040" y="1920960"/>
              <a:ext cx="65160" cy="92880"/>
            </a:xfrm>
            <a:custGeom>
              <a:avLst/>
              <a:gdLst/>
              <a:ahLst/>
              <a:rect l="l" t="t" r="r" b="b"/>
              <a:pathLst>
                <a:path w="357" h="504">
                  <a:moveTo>
                    <a:pt x="0" y="0"/>
                  </a:moveTo>
                  <a:lnTo>
                    <a:pt x="42" y="0"/>
                  </a:lnTo>
                  <a:lnTo>
                    <a:pt x="42" y="126"/>
                  </a:lnTo>
                  <a:lnTo>
                    <a:pt x="234" y="462"/>
                  </a:lnTo>
                  <a:lnTo>
                    <a:pt x="357" y="462"/>
                  </a:lnTo>
                  <a:lnTo>
                    <a:pt x="357" y="503"/>
                  </a:lnTo>
                  <a:lnTo>
                    <a:pt x="213" y="504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6200000">
              <a:off x="5861160" y="1845000"/>
              <a:ext cx="63360" cy="46440"/>
            </a:xfrm>
            <a:custGeom>
              <a:avLst/>
              <a:gdLst/>
              <a:ahLst/>
              <a:rect l="l" t="t" r="r" b="b"/>
              <a:pathLst>
                <a:path w="345" h="258">
                  <a:moveTo>
                    <a:pt x="0" y="0"/>
                  </a:moveTo>
                  <a:lnTo>
                    <a:pt x="0" y="258"/>
                  </a:lnTo>
                  <a:lnTo>
                    <a:pt x="345" y="258"/>
                  </a:lnTo>
                  <a:lnTo>
                    <a:pt x="345" y="197"/>
                  </a:lnTo>
                  <a:lnTo>
                    <a:pt x="66" y="195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6200000">
              <a:off x="5721120" y="1471680"/>
              <a:ext cx="200880" cy="1173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6200000">
              <a:off x="5865840" y="1947240"/>
              <a:ext cx="68040" cy="39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6200000">
              <a:off x="5834520" y="1956600"/>
              <a:ext cx="37440" cy="417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6200000">
              <a:off x="5833080" y="1388520"/>
              <a:ext cx="37440" cy="406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6200000">
              <a:off x="5757480" y="1508760"/>
              <a:ext cx="115200" cy="91800"/>
            </a:xfrm>
            <a:custGeom>
              <a:avLst/>
              <a:gdLst/>
              <a:ahLst/>
              <a:rect l="l" t="t" r="r" b="b"/>
              <a:pathLst>
                <a:path w="624" h="501">
                  <a:moveTo>
                    <a:pt x="213" y="501"/>
                  </a:moveTo>
                  <a:lnTo>
                    <a:pt x="213" y="312"/>
                  </a:lnTo>
                  <a:lnTo>
                    <a:pt x="0" y="312"/>
                  </a:lnTo>
                  <a:lnTo>
                    <a:pt x="0" y="126"/>
                  </a:lnTo>
                  <a:lnTo>
                    <a:pt x="147" y="126"/>
                  </a:lnTo>
                  <a:lnTo>
                    <a:pt x="147" y="0"/>
                  </a:lnTo>
                  <a:lnTo>
                    <a:pt x="516" y="0"/>
                  </a:lnTo>
                  <a:lnTo>
                    <a:pt x="516" y="126"/>
                  </a:lnTo>
                  <a:lnTo>
                    <a:pt x="624" y="126"/>
                  </a:lnTo>
                  <a:lnTo>
                    <a:pt x="624" y="297"/>
                  </a:lnTo>
                  <a:lnTo>
                    <a:pt x="417" y="300"/>
                  </a:lnTo>
                  <a:lnTo>
                    <a:pt x="417" y="501"/>
                  </a:lnTo>
                  <a:lnTo>
                    <a:pt x="213" y="501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200000">
              <a:off x="5558400" y="1681920"/>
              <a:ext cx="588600" cy="23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5576760" y="1458000"/>
              <a:ext cx="1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29560" y="145620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5533560" y="1424160"/>
              <a:ext cx="72360" cy="18000"/>
            </a:xfrm>
            <a:custGeom>
              <a:avLst/>
              <a:gdLst/>
              <a:ahLst/>
              <a:rect l="l" t="t" r="r" b="b"/>
              <a:pathLst>
                <a:path w="397" h="99">
                  <a:moveTo>
                    <a:pt x="0" y="72"/>
                  </a:moveTo>
                  <a:cubicBezTo>
                    <a:pt x="28" y="91"/>
                    <a:pt x="53" y="82"/>
                    <a:pt x="84" y="72"/>
                  </a:cubicBezTo>
                  <a:cubicBezTo>
                    <a:pt x="124" y="99"/>
                    <a:pt x="147" y="83"/>
                    <a:pt x="192" y="72"/>
                  </a:cubicBezTo>
                  <a:cubicBezTo>
                    <a:pt x="224" y="50"/>
                    <a:pt x="250" y="25"/>
                    <a:pt x="288" y="12"/>
                  </a:cubicBezTo>
                  <a:cubicBezTo>
                    <a:pt x="298" y="16"/>
                    <a:pt x="307" y="24"/>
                    <a:pt x="318" y="24"/>
                  </a:cubicBezTo>
                  <a:cubicBezTo>
                    <a:pt x="397" y="24"/>
                    <a:pt x="313" y="0"/>
                    <a:pt x="366" y="18"/>
                  </a:cubicBezTo>
                  <a:cubicBezTo>
                    <a:pt x="372" y="24"/>
                    <a:pt x="379" y="29"/>
                    <a:pt x="384" y="36"/>
                  </a:cubicBezTo>
                  <a:cubicBezTo>
                    <a:pt x="389" y="42"/>
                    <a:pt x="396" y="54"/>
                    <a:pt x="396" y="54"/>
                  </a:cubicBezTo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5965920" y="1413720"/>
              <a:ext cx="73440" cy="18000"/>
            </a:xfrm>
            <a:custGeom>
              <a:avLst/>
              <a:gdLst/>
              <a:ahLst/>
              <a:rect l="l" t="t" r="r" b="b"/>
              <a:pathLst>
                <a:path w="397" h="99">
                  <a:moveTo>
                    <a:pt x="0" y="72"/>
                  </a:moveTo>
                  <a:cubicBezTo>
                    <a:pt x="28" y="91"/>
                    <a:pt x="53" y="82"/>
                    <a:pt x="84" y="72"/>
                  </a:cubicBezTo>
                  <a:cubicBezTo>
                    <a:pt x="124" y="99"/>
                    <a:pt x="147" y="83"/>
                    <a:pt x="192" y="72"/>
                  </a:cubicBezTo>
                  <a:cubicBezTo>
                    <a:pt x="224" y="50"/>
                    <a:pt x="250" y="25"/>
                    <a:pt x="288" y="12"/>
                  </a:cubicBezTo>
                  <a:cubicBezTo>
                    <a:pt x="298" y="16"/>
                    <a:pt x="307" y="24"/>
                    <a:pt x="318" y="24"/>
                  </a:cubicBezTo>
                  <a:cubicBezTo>
                    <a:pt x="397" y="24"/>
                    <a:pt x="313" y="0"/>
                    <a:pt x="366" y="18"/>
                  </a:cubicBezTo>
                  <a:cubicBezTo>
                    <a:pt x="372" y="24"/>
                    <a:pt x="379" y="29"/>
                    <a:pt x="384" y="36"/>
                  </a:cubicBezTo>
                  <a:cubicBezTo>
                    <a:pt x="389" y="42"/>
                    <a:pt x="396" y="54"/>
                    <a:pt x="396" y="54"/>
                  </a:cubicBezTo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4483440" y="1386000"/>
            <a:ext cx="450720" cy="617040"/>
            <a:chOff x="4483440" y="1386000"/>
            <a:chExt cx="450720" cy="617040"/>
          </a:xfrm>
        </p:grpSpPr>
        <p:sp>
          <p:nvSpPr>
            <p:cNvPr id="203" name=""/>
            <p:cNvSpPr/>
            <p:nvPr/>
          </p:nvSpPr>
          <p:spPr>
            <a:xfrm rot="16200000">
              <a:off x="4724640" y="1361160"/>
              <a:ext cx="32400" cy="223200"/>
            </a:xfrm>
            <a:custGeom>
              <a:avLst/>
              <a:gdLst/>
              <a:ahLst/>
              <a:rect l="l" t="t" r="r" b="b"/>
              <a:pathLst>
                <a:path w="156" h="1216">
                  <a:moveTo>
                    <a:pt x="152" y="0"/>
                  </a:moveTo>
                  <a:lnTo>
                    <a:pt x="0" y="180"/>
                  </a:lnTo>
                  <a:lnTo>
                    <a:pt x="0" y="1056"/>
                  </a:lnTo>
                  <a:lnTo>
                    <a:pt x="156" y="1216"/>
                  </a:lnTo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6200000">
              <a:off x="4737240" y="1380960"/>
              <a:ext cx="6840" cy="159840"/>
            </a:xfrm>
            <a:custGeom>
              <a:avLst/>
              <a:gdLst/>
              <a:ahLst/>
              <a:rect l="l" t="t" r="r" b="b"/>
              <a:pathLst>
                <a:path w="40" h="872">
                  <a:moveTo>
                    <a:pt x="40" y="0"/>
                  </a:moveTo>
                  <a:lnTo>
                    <a:pt x="0" y="42"/>
                  </a:lnTo>
                  <a:lnTo>
                    <a:pt x="0" y="832"/>
                  </a:lnTo>
                  <a:lnTo>
                    <a:pt x="40" y="872"/>
                  </a:lnTo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62000" y="1457280"/>
              <a:ext cx="15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95680" y="1433880"/>
              <a:ext cx="43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6200000">
              <a:off x="4545000" y="1932120"/>
              <a:ext cx="61920" cy="795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6200000">
              <a:off x="4558680" y="1689840"/>
              <a:ext cx="302760" cy="185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6200000">
              <a:off x="4815720" y="1817640"/>
              <a:ext cx="34560" cy="511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4586760" y="1533240"/>
              <a:ext cx="37800" cy="1569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4710960" y="1927800"/>
              <a:ext cx="15120" cy="273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200000">
              <a:off x="4743720" y="1929600"/>
              <a:ext cx="6840" cy="15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6200000">
              <a:off x="4635000" y="1919880"/>
              <a:ext cx="26280" cy="547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6200000">
              <a:off x="4593240" y="1800360"/>
              <a:ext cx="34560" cy="100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6200000">
              <a:off x="4570200" y="1920960"/>
              <a:ext cx="65160" cy="92880"/>
            </a:xfrm>
            <a:custGeom>
              <a:avLst/>
              <a:gdLst/>
              <a:ahLst/>
              <a:rect l="l" t="t" r="r" b="b"/>
              <a:pathLst>
                <a:path w="357" h="504">
                  <a:moveTo>
                    <a:pt x="0" y="0"/>
                  </a:moveTo>
                  <a:lnTo>
                    <a:pt x="42" y="0"/>
                  </a:lnTo>
                  <a:lnTo>
                    <a:pt x="42" y="126"/>
                  </a:lnTo>
                  <a:lnTo>
                    <a:pt x="234" y="462"/>
                  </a:lnTo>
                  <a:lnTo>
                    <a:pt x="357" y="462"/>
                  </a:lnTo>
                  <a:lnTo>
                    <a:pt x="357" y="503"/>
                  </a:lnTo>
                  <a:lnTo>
                    <a:pt x="213" y="504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6200000">
              <a:off x="4783320" y="1845000"/>
              <a:ext cx="63360" cy="46440"/>
            </a:xfrm>
            <a:custGeom>
              <a:avLst/>
              <a:gdLst/>
              <a:ahLst/>
              <a:rect l="l" t="t" r="r" b="b"/>
              <a:pathLst>
                <a:path w="345" h="258">
                  <a:moveTo>
                    <a:pt x="0" y="0"/>
                  </a:moveTo>
                  <a:lnTo>
                    <a:pt x="0" y="258"/>
                  </a:lnTo>
                  <a:lnTo>
                    <a:pt x="345" y="258"/>
                  </a:lnTo>
                  <a:lnTo>
                    <a:pt x="345" y="197"/>
                  </a:lnTo>
                  <a:lnTo>
                    <a:pt x="66" y="195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6200000">
              <a:off x="4643640" y="1471680"/>
              <a:ext cx="200880" cy="117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6200000">
              <a:off x="4788000" y="1947240"/>
              <a:ext cx="68040" cy="39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6200000">
              <a:off x="4756680" y="1956600"/>
              <a:ext cx="37440" cy="417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6200000">
              <a:off x="4755240" y="1388520"/>
              <a:ext cx="37440" cy="406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6200000">
              <a:off x="4679640" y="1508760"/>
              <a:ext cx="115200" cy="91800"/>
            </a:xfrm>
            <a:custGeom>
              <a:avLst/>
              <a:gdLst/>
              <a:ahLst/>
              <a:rect l="l" t="t" r="r" b="b"/>
              <a:pathLst>
                <a:path w="624" h="501">
                  <a:moveTo>
                    <a:pt x="213" y="501"/>
                  </a:moveTo>
                  <a:lnTo>
                    <a:pt x="213" y="312"/>
                  </a:lnTo>
                  <a:lnTo>
                    <a:pt x="0" y="312"/>
                  </a:lnTo>
                  <a:lnTo>
                    <a:pt x="0" y="126"/>
                  </a:lnTo>
                  <a:lnTo>
                    <a:pt x="147" y="126"/>
                  </a:lnTo>
                  <a:lnTo>
                    <a:pt x="147" y="0"/>
                  </a:lnTo>
                  <a:lnTo>
                    <a:pt x="516" y="0"/>
                  </a:lnTo>
                  <a:lnTo>
                    <a:pt x="516" y="126"/>
                  </a:lnTo>
                  <a:lnTo>
                    <a:pt x="624" y="126"/>
                  </a:lnTo>
                  <a:lnTo>
                    <a:pt x="624" y="297"/>
                  </a:lnTo>
                  <a:lnTo>
                    <a:pt x="417" y="300"/>
                  </a:lnTo>
                  <a:lnTo>
                    <a:pt x="417" y="501"/>
                  </a:lnTo>
                  <a:lnTo>
                    <a:pt x="213" y="501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6200000">
              <a:off x="4480560" y="1681920"/>
              <a:ext cx="588600" cy="23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4499640" y="1458000"/>
              <a:ext cx="12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51720" y="145620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16200000">
              <a:off x="4456080" y="1424160"/>
              <a:ext cx="72360" cy="18000"/>
            </a:xfrm>
            <a:custGeom>
              <a:avLst/>
              <a:gdLst/>
              <a:ahLst/>
              <a:rect l="l" t="t" r="r" b="b"/>
              <a:pathLst>
                <a:path w="397" h="99">
                  <a:moveTo>
                    <a:pt x="0" y="72"/>
                  </a:moveTo>
                  <a:cubicBezTo>
                    <a:pt x="28" y="91"/>
                    <a:pt x="53" y="82"/>
                    <a:pt x="84" y="72"/>
                  </a:cubicBezTo>
                  <a:cubicBezTo>
                    <a:pt x="124" y="99"/>
                    <a:pt x="147" y="83"/>
                    <a:pt x="192" y="72"/>
                  </a:cubicBezTo>
                  <a:cubicBezTo>
                    <a:pt x="224" y="50"/>
                    <a:pt x="250" y="25"/>
                    <a:pt x="288" y="12"/>
                  </a:cubicBezTo>
                  <a:cubicBezTo>
                    <a:pt x="298" y="16"/>
                    <a:pt x="307" y="24"/>
                    <a:pt x="318" y="24"/>
                  </a:cubicBezTo>
                  <a:cubicBezTo>
                    <a:pt x="397" y="24"/>
                    <a:pt x="313" y="0"/>
                    <a:pt x="366" y="18"/>
                  </a:cubicBezTo>
                  <a:cubicBezTo>
                    <a:pt x="372" y="24"/>
                    <a:pt x="379" y="29"/>
                    <a:pt x="384" y="36"/>
                  </a:cubicBezTo>
                  <a:cubicBezTo>
                    <a:pt x="389" y="42"/>
                    <a:pt x="396" y="54"/>
                    <a:pt x="396" y="54"/>
                  </a:cubicBezTo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6200000">
              <a:off x="4888080" y="1413720"/>
              <a:ext cx="73440" cy="18000"/>
            </a:xfrm>
            <a:custGeom>
              <a:avLst/>
              <a:gdLst/>
              <a:ahLst/>
              <a:rect l="l" t="t" r="r" b="b"/>
              <a:pathLst>
                <a:path w="397" h="99">
                  <a:moveTo>
                    <a:pt x="0" y="72"/>
                  </a:moveTo>
                  <a:cubicBezTo>
                    <a:pt x="28" y="91"/>
                    <a:pt x="53" y="82"/>
                    <a:pt x="84" y="72"/>
                  </a:cubicBezTo>
                  <a:cubicBezTo>
                    <a:pt x="124" y="99"/>
                    <a:pt x="147" y="83"/>
                    <a:pt x="192" y="72"/>
                  </a:cubicBezTo>
                  <a:cubicBezTo>
                    <a:pt x="224" y="50"/>
                    <a:pt x="250" y="25"/>
                    <a:pt x="288" y="12"/>
                  </a:cubicBezTo>
                  <a:cubicBezTo>
                    <a:pt x="298" y="16"/>
                    <a:pt x="307" y="24"/>
                    <a:pt x="318" y="24"/>
                  </a:cubicBezTo>
                  <a:cubicBezTo>
                    <a:pt x="397" y="24"/>
                    <a:pt x="313" y="0"/>
                    <a:pt x="366" y="18"/>
                  </a:cubicBezTo>
                  <a:cubicBezTo>
                    <a:pt x="372" y="24"/>
                    <a:pt x="379" y="29"/>
                    <a:pt x="384" y="36"/>
                  </a:cubicBezTo>
                  <a:cubicBezTo>
                    <a:pt x="389" y="42"/>
                    <a:pt x="396" y="54"/>
                    <a:pt x="396" y="54"/>
                  </a:cubicBezTo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101280" y="1386000"/>
            <a:ext cx="450720" cy="617040"/>
            <a:chOff x="6101280" y="1386000"/>
            <a:chExt cx="450720" cy="617040"/>
          </a:xfrm>
        </p:grpSpPr>
        <p:sp>
          <p:nvSpPr>
            <p:cNvPr id="228" name=""/>
            <p:cNvSpPr/>
            <p:nvPr/>
          </p:nvSpPr>
          <p:spPr>
            <a:xfrm rot="16200000">
              <a:off x="6342480" y="1361160"/>
              <a:ext cx="32400" cy="223200"/>
            </a:xfrm>
            <a:custGeom>
              <a:avLst/>
              <a:gdLst/>
              <a:ahLst/>
              <a:rect l="l" t="t" r="r" b="b"/>
              <a:pathLst>
                <a:path w="156" h="1216">
                  <a:moveTo>
                    <a:pt x="152" y="0"/>
                  </a:moveTo>
                  <a:lnTo>
                    <a:pt x="0" y="180"/>
                  </a:lnTo>
                  <a:lnTo>
                    <a:pt x="0" y="1056"/>
                  </a:lnTo>
                  <a:lnTo>
                    <a:pt x="156" y="1216"/>
                  </a:lnTo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6200000">
              <a:off x="6355080" y="1380960"/>
              <a:ext cx="6840" cy="159840"/>
            </a:xfrm>
            <a:custGeom>
              <a:avLst/>
              <a:gdLst/>
              <a:ahLst/>
              <a:rect l="l" t="t" r="r" b="b"/>
              <a:pathLst>
                <a:path w="40" h="872">
                  <a:moveTo>
                    <a:pt x="40" y="0"/>
                  </a:moveTo>
                  <a:lnTo>
                    <a:pt x="0" y="42"/>
                  </a:lnTo>
                  <a:lnTo>
                    <a:pt x="0" y="832"/>
                  </a:lnTo>
                  <a:lnTo>
                    <a:pt x="40" y="872"/>
                  </a:lnTo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279840" y="1457280"/>
              <a:ext cx="15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13520" y="1433880"/>
              <a:ext cx="43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6200000">
              <a:off x="6162840" y="1932120"/>
              <a:ext cx="61920" cy="795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6176520" y="1689840"/>
              <a:ext cx="302760" cy="185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6200000">
              <a:off x="6433560" y="1817640"/>
              <a:ext cx="34560" cy="511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6200000">
              <a:off x="6204600" y="1533240"/>
              <a:ext cx="37800" cy="1569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6200000">
              <a:off x="6328800" y="1927800"/>
              <a:ext cx="15120" cy="273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16200000">
              <a:off x="6361560" y="1929600"/>
              <a:ext cx="6840" cy="15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6200000">
              <a:off x="6252840" y="1919880"/>
              <a:ext cx="26280" cy="547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6200000">
              <a:off x="6211080" y="1800360"/>
              <a:ext cx="34560" cy="100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6200000">
              <a:off x="6188040" y="1920960"/>
              <a:ext cx="65160" cy="92880"/>
            </a:xfrm>
            <a:custGeom>
              <a:avLst/>
              <a:gdLst/>
              <a:ahLst/>
              <a:rect l="l" t="t" r="r" b="b"/>
              <a:pathLst>
                <a:path w="357" h="504">
                  <a:moveTo>
                    <a:pt x="0" y="0"/>
                  </a:moveTo>
                  <a:lnTo>
                    <a:pt x="42" y="0"/>
                  </a:lnTo>
                  <a:lnTo>
                    <a:pt x="42" y="126"/>
                  </a:lnTo>
                  <a:lnTo>
                    <a:pt x="234" y="462"/>
                  </a:lnTo>
                  <a:lnTo>
                    <a:pt x="357" y="462"/>
                  </a:lnTo>
                  <a:lnTo>
                    <a:pt x="357" y="503"/>
                  </a:lnTo>
                  <a:lnTo>
                    <a:pt x="213" y="504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6200000">
              <a:off x="6401160" y="1845000"/>
              <a:ext cx="63360" cy="46440"/>
            </a:xfrm>
            <a:custGeom>
              <a:avLst/>
              <a:gdLst/>
              <a:ahLst/>
              <a:rect l="l" t="t" r="r" b="b"/>
              <a:pathLst>
                <a:path w="345" h="258">
                  <a:moveTo>
                    <a:pt x="0" y="0"/>
                  </a:moveTo>
                  <a:lnTo>
                    <a:pt x="0" y="258"/>
                  </a:lnTo>
                  <a:lnTo>
                    <a:pt x="345" y="258"/>
                  </a:lnTo>
                  <a:lnTo>
                    <a:pt x="345" y="197"/>
                  </a:lnTo>
                  <a:lnTo>
                    <a:pt x="66" y="195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6200000">
              <a:off x="6261480" y="1471680"/>
              <a:ext cx="200880" cy="117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6200000">
              <a:off x="6405840" y="1947240"/>
              <a:ext cx="68040" cy="39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6200000">
              <a:off x="6374520" y="1956600"/>
              <a:ext cx="37440" cy="417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6200000">
              <a:off x="6373080" y="1388520"/>
              <a:ext cx="37440" cy="406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6200000">
              <a:off x="6297480" y="1508760"/>
              <a:ext cx="115200" cy="91800"/>
            </a:xfrm>
            <a:custGeom>
              <a:avLst/>
              <a:gdLst/>
              <a:ahLst/>
              <a:rect l="l" t="t" r="r" b="b"/>
              <a:pathLst>
                <a:path w="624" h="501">
                  <a:moveTo>
                    <a:pt x="213" y="501"/>
                  </a:moveTo>
                  <a:lnTo>
                    <a:pt x="213" y="312"/>
                  </a:lnTo>
                  <a:lnTo>
                    <a:pt x="0" y="312"/>
                  </a:lnTo>
                  <a:lnTo>
                    <a:pt x="0" y="126"/>
                  </a:lnTo>
                  <a:lnTo>
                    <a:pt x="147" y="126"/>
                  </a:lnTo>
                  <a:lnTo>
                    <a:pt x="147" y="0"/>
                  </a:lnTo>
                  <a:lnTo>
                    <a:pt x="516" y="0"/>
                  </a:lnTo>
                  <a:lnTo>
                    <a:pt x="516" y="126"/>
                  </a:lnTo>
                  <a:lnTo>
                    <a:pt x="624" y="126"/>
                  </a:lnTo>
                  <a:lnTo>
                    <a:pt x="624" y="297"/>
                  </a:lnTo>
                  <a:lnTo>
                    <a:pt x="417" y="300"/>
                  </a:lnTo>
                  <a:lnTo>
                    <a:pt x="417" y="501"/>
                  </a:lnTo>
                  <a:lnTo>
                    <a:pt x="213" y="501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6200000">
              <a:off x="6098400" y="1681920"/>
              <a:ext cx="588600" cy="23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6117480" y="1458000"/>
              <a:ext cx="12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469560" y="145620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6200000">
              <a:off x="6073920" y="1424160"/>
              <a:ext cx="72360" cy="18000"/>
            </a:xfrm>
            <a:custGeom>
              <a:avLst/>
              <a:gdLst/>
              <a:ahLst/>
              <a:rect l="l" t="t" r="r" b="b"/>
              <a:pathLst>
                <a:path w="397" h="99">
                  <a:moveTo>
                    <a:pt x="0" y="72"/>
                  </a:moveTo>
                  <a:cubicBezTo>
                    <a:pt x="28" y="91"/>
                    <a:pt x="53" y="82"/>
                    <a:pt x="84" y="72"/>
                  </a:cubicBezTo>
                  <a:cubicBezTo>
                    <a:pt x="124" y="99"/>
                    <a:pt x="147" y="83"/>
                    <a:pt x="192" y="72"/>
                  </a:cubicBezTo>
                  <a:cubicBezTo>
                    <a:pt x="224" y="50"/>
                    <a:pt x="250" y="25"/>
                    <a:pt x="288" y="12"/>
                  </a:cubicBezTo>
                  <a:cubicBezTo>
                    <a:pt x="298" y="16"/>
                    <a:pt x="307" y="24"/>
                    <a:pt x="318" y="24"/>
                  </a:cubicBezTo>
                  <a:cubicBezTo>
                    <a:pt x="397" y="24"/>
                    <a:pt x="313" y="0"/>
                    <a:pt x="366" y="18"/>
                  </a:cubicBezTo>
                  <a:cubicBezTo>
                    <a:pt x="372" y="24"/>
                    <a:pt x="379" y="29"/>
                    <a:pt x="384" y="36"/>
                  </a:cubicBezTo>
                  <a:cubicBezTo>
                    <a:pt x="389" y="42"/>
                    <a:pt x="396" y="54"/>
                    <a:pt x="396" y="54"/>
                  </a:cubicBezTo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6200000">
              <a:off x="6505920" y="1413720"/>
              <a:ext cx="73440" cy="18000"/>
            </a:xfrm>
            <a:custGeom>
              <a:avLst/>
              <a:gdLst/>
              <a:ahLst/>
              <a:rect l="l" t="t" r="r" b="b"/>
              <a:pathLst>
                <a:path w="397" h="99">
                  <a:moveTo>
                    <a:pt x="0" y="72"/>
                  </a:moveTo>
                  <a:cubicBezTo>
                    <a:pt x="28" y="91"/>
                    <a:pt x="53" y="82"/>
                    <a:pt x="84" y="72"/>
                  </a:cubicBezTo>
                  <a:cubicBezTo>
                    <a:pt x="124" y="99"/>
                    <a:pt x="147" y="83"/>
                    <a:pt x="192" y="72"/>
                  </a:cubicBezTo>
                  <a:cubicBezTo>
                    <a:pt x="224" y="50"/>
                    <a:pt x="250" y="25"/>
                    <a:pt x="288" y="12"/>
                  </a:cubicBezTo>
                  <a:cubicBezTo>
                    <a:pt x="298" y="16"/>
                    <a:pt x="307" y="24"/>
                    <a:pt x="318" y="24"/>
                  </a:cubicBezTo>
                  <a:cubicBezTo>
                    <a:pt x="397" y="24"/>
                    <a:pt x="313" y="0"/>
                    <a:pt x="366" y="18"/>
                  </a:cubicBezTo>
                  <a:cubicBezTo>
                    <a:pt x="372" y="24"/>
                    <a:pt x="379" y="29"/>
                    <a:pt x="384" y="36"/>
                  </a:cubicBezTo>
                  <a:cubicBezTo>
                    <a:pt x="389" y="42"/>
                    <a:pt x="396" y="54"/>
                    <a:pt x="396" y="54"/>
                  </a:cubicBezTo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5021280" y="1386000"/>
            <a:ext cx="452160" cy="617040"/>
            <a:chOff x="5021280" y="1386000"/>
            <a:chExt cx="452160" cy="617040"/>
          </a:xfrm>
        </p:grpSpPr>
        <p:sp>
          <p:nvSpPr>
            <p:cNvPr id="253" name=""/>
            <p:cNvSpPr/>
            <p:nvPr/>
          </p:nvSpPr>
          <p:spPr>
            <a:xfrm rot="16200000">
              <a:off x="5263560" y="1360440"/>
              <a:ext cx="32400" cy="224280"/>
            </a:xfrm>
            <a:custGeom>
              <a:avLst/>
              <a:gdLst/>
              <a:ahLst/>
              <a:rect l="l" t="t" r="r" b="b"/>
              <a:pathLst>
                <a:path w="156" h="1216">
                  <a:moveTo>
                    <a:pt x="152" y="0"/>
                  </a:moveTo>
                  <a:lnTo>
                    <a:pt x="0" y="180"/>
                  </a:lnTo>
                  <a:lnTo>
                    <a:pt x="0" y="1056"/>
                  </a:lnTo>
                  <a:lnTo>
                    <a:pt x="156" y="1216"/>
                  </a:lnTo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6200000">
              <a:off x="5275800" y="1380600"/>
              <a:ext cx="6840" cy="160560"/>
            </a:xfrm>
            <a:custGeom>
              <a:avLst/>
              <a:gdLst/>
              <a:ahLst/>
              <a:rect l="l" t="t" r="r" b="b"/>
              <a:pathLst>
                <a:path w="40" h="872">
                  <a:moveTo>
                    <a:pt x="40" y="0"/>
                  </a:moveTo>
                  <a:lnTo>
                    <a:pt x="0" y="42"/>
                  </a:lnTo>
                  <a:lnTo>
                    <a:pt x="0" y="832"/>
                  </a:lnTo>
                  <a:lnTo>
                    <a:pt x="40" y="872"/>
                  </a:lnTo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200560" y="1457280"/>
              <a:ext cx="15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33880" y="1433880"/>
              <a:ext cx="43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6200000">
              <a:off x="5083560" y="1932120"/>
              <a:ext cx="61920" cy="795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6200000">
              <a:off x="5096520" y="1689120"/>
              <a:ext cx="302760" cy="1864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6200000">
              <a:off x="5355000" y="1817640"/>
              <a:ext cx="34560" cy="511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6200000">
              <a:off x="5124960" y="1532880"/>
              <a:ext cx="37800" cy="1576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6200000">
              <a:off x="5249520" y="1927800"/>
              <a:ext cx="15120" cy="273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6200000">
              <a:off x="5283000" y="1929600"/>
              <a:ext cx="6840" cy="162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16200000">
              <a:off x="5174280" y="1919880"/>
              <a:ext cx="26280" cy="550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6200000">
              <a:off x="5131800" y="1800360"/>
              <a:ext cx="34560" cy="100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6200000">
              <a:off x="5109120" y="1920960"/>
              <a:ext cx="65160" cy="93240"/>
            </a:xfrm>
            <a:custGeom>
              <a:avLst/>
              <a:gdLst/>
              <a:ahLst/>
              <a:rect l="l" t="t" r="r" b="b"/>
              <a:pathLst>
                <a:path w="357" h="504">
                  <a:moveTo>
                    <a:pt x="0" y="0"/>
                  </a:moveTo>
                  <a:lnTo>
                    <a:pt x="42" y="0"/>
                  </a:lnTo>
                  <a:lnTo>
                    <a:pt x="42" y="126"/>
                  </a:lnTo>
                  <a:lnTo>
                    <a:pt x="234" y="462"/>
                  </a:lnTo>
                  <a:lnTo>
                    <a:pt x="357" y="462"/>
                  </a:lnTo>
                  <a:lnTo>
                    <a:pt x="357" y="503"/>
                  </a:lnTo>
                  <a:lnTo>
                    <a:pt x="213" y="504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6200000">
              <a:off x="5322240" y="1845000"/>
              <a:ext cx="63360" cy="46800"/>
            </a:xfrm>
            <a:custGeom>
              <a:avLst/>
              <a:gdLst/>
              <a:ahLst/>
              <a:rect l="l" t="t" r="r" b="b"/>
              <a:pathLst>
                <a:path w="345" h="258">
                  <a:moveTo>
                    <a:pt x="0" y="0"/>
                  </a:moveTo>
                  <a:lnTo>
                    <a:pt x="0" y="258"/>
                  </a:lnTo>
                  <a:lnTo>
                    <a:pt x="345" y="258"/>
                  </a:lnTo>
                  <a:lnTo>
                    <a:pt x="345" y="197"/>
                  </a:lnTo>
                  <a:lnTo>
                    <a:pt x="66" y="195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6200000">
              <a:off x="5182200" y="1471320"/>
              <a:ext cx="200880" cy="1177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6200000">
              <a:off x="5327280" y="1947240"/>
              <a:ext cx="68040" cy="39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6200000">
              <a:off x="5295960" y="1956600"/>
              <a:ext cx="37440" cy="417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6200000">
              <a:off x="5294160" y="1388520"/>
              <a:ext cx="37440" cy="410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6200000">
              <a:off x="5218200" y="1508760"/>
              <a:ext cx="115200" cy="92160"/>
            </a:xfrm>
            <a:custGeom>
              <a:avLst/>
              <a:gdLst/>
              <a:ahLst/>
              <a:rect l="l" t="t" r="r" b="b"/>
              <a:pathLst>
                <a:path w="624" h="501">
                  <a:moveTo>
                    <a:pt x="213" y="501"/>
                  </a:moveTo>
                  <a:lnTo>
                    <a:pt x="213" y="312"/>
                  </a:lnTo>
                  <a:lnTo>
                    <a:pt x="0" y="312"/>
                  </a:lnTo>
                  <a:lnTo>
                    <a:pt x="0" y="126"/>
                  </a:lnTo>
                  <a:lnTo>
                    <a:pt x="147" y="126"/>
                  </a:lnTo>
                  <a:lnTo>
                    <a:pt x="147" y="0"/>
                  </a:lnTo>
                  <a:lnTo>
                    <a:pt x="516" y="0"/>
                  </a:lnTo>
                  <a:lnTo>
                    <a:pt x="516" y="126"/>
                  </a:lnTo>
                  <a:lnTo>
                    <a:pt x="624" y="126"/>
                  </a:lnTo>
                  <a:lnTo>
                    <a:pt x="624" y="297"/>
                  </a:lnTo>
                  <a:lnTo>
                    <a:pt x="417" y="300"/>
                  </a:lnTo>
                  <a:lnTo>
                    <a:pt x="417" y="501"/>
                  </a:lnTo>
                  <a:lnTo>
                    <a:pt x="213" y="501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6200000">
              <a:off x="5019480" y="1681920"/>
              <a:ext cx="588600" cy="23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5037480" y="1458000"/>
              <a:ext cx="12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90640" y="1456200"/>
              <a:ext cx="8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6200000">
              <a:off x="4993920" y="1424160"/>
              <a:ext cx="72360" cy="18000"/>
            </a:xfrm>
            <a:custGeom>
              <a:avLst/>
              <a:gdLst/>
              <a:ahLst/>
              <a:rect l="l" t="t" r="r" b="b"/>
              <a:pathLst>
                <a:path w="397" h="99">
                  <a:moveTo>
                    <a:pt x="0" y="72"/>
                  </a:moveTo>
                  <a:cubicBezTo>
                    <a:pt x="28" y="91"/>
                    <a:pt x="53" y="82"/>
                    <a:pt x="84" y="72"/>
                  </a:cubicBezTo>
                  <a:cubicBezTo>
                    <a:pt x="124" y="99"/>
                    <a:pt x="147" y="83"/>
                    <a:pt x="192" y="72"/>
                  </a:cubicBezTo>
                  <a:cubicBezTo>
                    <a:pt x="224" y="50"/>
                    <a:pt x="250" y="25"/>
                    <a:pt x="288" y="12"/>
                  </a:cubicBezTo>
                  <a:cubicBezTo>
                    <a:pt x="298" y="16"/>
                    <a:pt x="307" y="24"/>
                    <a:pt x="318" y="24"/>
                  </a:cubicBezTo>
                  <a:cubicBezTo>
                    <a:pt x="397" y="24"/>
                    <a:pt x="313" y="0"/>
                    <a:pt x="366" y="18"/>
                  </a:cubicBezTo>
                  <a:cubicBezTo>
                    <a:pt x="372" y="24"/>
                    <a:pt x="379" y="29"/>
                    <a:pt x="384" y="36"/>
                  </a:cubicBezTo>
                  <a:cubicBezTo>
                    <a:pt x="389" y="42"/>
                    <a:pt x="396" y="54"/>
                    <a:pt x="396" y="54"/>
                  </a:cubicBezTo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6200000">
              <a:off x="5427720" y="1413720"/>
              <a:ext cx="73440" cy="18000"/>
            </a:xfrm>
            <a:custGeom>
              <a:avLst/>
              <a:gdLst/>
              <a:ahLst/>
              <a:rect l="l" t="t" r="r" b="b"/>
              <a:pathLst>
                <a:path w="397" h="99">
                  <a:moveTo>
                    <a:pt x="0" y="72"/>
                  </a:moveTo>
                  <a:cubicBezTo>
                    <a:pt x="28" y="91"/>
                    <a:pt x="53" y="82"/>
                    <a:pt x="84" y="72"/>
                  </a:cubicBezTo>
                  <a:cubicBezTo>
                    <a:pt x="124" y="99"/>
                    <a:pt x="147" y="83"/>
                    <a:pt x="192" y="72"/>
                  </a:cubicBezTo>
                  <a:cubicBezTo>
                    <a:pt x="224" y="50"/>
                    <a:pt x="250" y="25"/>
                    <a:pt x="288" y="12"/>
                  </a:cubicBezTo>
                  <a:cubicBezTo>
                    <a:pt x="298" y="16"/>
                    <a:pt x="307" y="24"/>
                    <a:pt x="318" y="24"/>
                  </a:cubicBezTo>
                  <a:cubicBezTo>
                    <a:pt x="397" y="24"/>
                    <a:pt x="313" y="0"/>
                    <a:pt x="366" y="18"/>
                  </a:cubicBezTo>
                  <a:cubicBezTo>
                    <a:pt x="372" y="24"/>
                    <a:pt x="379" y="29"/>
                    <a:pt x="384" y="36"/>
                  </a:cubicBezTo>
                  <a:cubicBezTo>
                    <a:pt x="389" y="42"/>
                    <a:pt x="396" y="54"/>
                    <a:pt x="396" y="54"/>
                  </a:cubicBezTo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6737400" y="1387440"/>
            <a:ext cx="49032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638760" y="1386000"/>
            <a:ext cx="452160" cy="615240"/>
            <a:chOff x="6638760" y="1386000"/>
            <a:chExt cx="452160" cy="615240"/>
          </a:xfrm>
        </p:grpSpPr>
        <p:sp>
          <p:nvSpPr>
            <p:cNvPr id="279" name=""/>
            <p:cNvSpPr/>
            <p:nvPr/>
          </p:nvSpPr>
          <p:spPr>
            <a:xfrm rot="16200000">
              <a:off x="6879960" y="1360080"/>
              <a:ext cx="32400" cy="224640"/>
            </a:xfrm>
            <a:custGeom>
              <a:avLst/>
              <a:gdLst/>
              <a:ahLst/>
              <a:rect l="l" t="t" r="r" b="b"/>
              <a:pathLst>
                <a:path w="156" h="1216">
                  <a:moveTo>
                    <a:pt x="152" y="0"/>
                  </a:moveTo>
                  <a:lnTo>
                    <a:pt x="0" y="180"/>
                  </a:lnTo>
                  <a:lnTo>
                    <a:pt x="0" y="1056"/>
                  </a:lnTo>
                  <a:lnTo>
                    <a:pt x="156" y="1216"/>
                  </a:lnTo>
                </a:path>
              </a:pathLst>
            </a:cu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6200000">
              <a:off x="6892560" y="1378440"/>
              <a:ext cx="6840" cy="161280"/>
            </a:xfrm>
            <a:custGeom>
              <a:avLst/>
              <a:gdLst/>
              <a:ahLst/>
              <a:rect l="l" t="t" r="r" b="b"/>
              <a:pathLst>
                <a:path w="40" h="872">
                  <a:moveTo>
                    <a:pt x="40" y="0"/>
                  </a:moveTo>
                  <a:lnTo>
                    <a:pt x="0" y="42"/>
                  </a:lnTo>
                  <a:lnTo>
                    <a:pt x="0" y="832"/>
                  </a:lnTo>
                  <a:lnTo>
                    <a:pt x="40" y="872"/>
                  </a:lnTo>
                </a:path>
              </a:pathLst>
            </a:cu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16240" y="1457280"/>
              <a:ext cx="15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51000" y="1433880"/>
              <a:ext cx="43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6200000">
              <a:off x="6701040" y="1931040"/>
              <a:ext cx="60840" cy="795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6200000">
              <a:off x="6714000" y="1688040"/>
              <a:ext cx="302040" cy="1857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6200000">
              <a:off x="6972480" y="1815480"/>
              <a:ext cx="35280" cy="511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6200000">
              <a:off x="6657840" y="1667160"/>
              <a:ext cx="171360" cy="550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6200000">
              <a:off x="6865920" y="1925640"/>
              <a:ext cx="15120" cy="262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6200000">
              <a:off x="6900120" y="1926720"/>
              <a:ext cx="6840" cy="151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6200000">
              <a:off x="6791040" y="1918080"/>
              <a:ext cx="26280" cy="550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16200000">
              <a:off x="6748560" y="1798560"/>
              <a:ext cx="35280" cy="100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16200000">
              <a:off x="6724800" y="1919160"/>
              <a:ext cx="65160" cy="92880"/>
            </a:xfrm>
            <a:custGeom>
              <a:avLst/>
              <a:gdLst/>
              <a:ahLst/>
              <a:rect l="l" t="t" r="r" b="b"/>
              <a:pathLst>
                <a:path w="357" h="504">
                  <a:moveTo>
                    <a:pt x="0" y="0"/>
                  </a:moveTo>
                  <a:lnTo>
                    <a:pt x="42" y="0"/>
                  </a:lnTo>
                  <a:lnTo>
                    <a:pt x="42" y="126"/>
                  </a:lnTo>
                  <a:lnTo>
                    <a:pt x="234" y="462"/>
                  </a:lnTo>
                  <a:lnTo>
                    <a:pt x="357" y="462"/>
                  </a:lnTo>
                  <a:lnTo>
                    <a:pt x="357" y="503"/>
                  </a:lnTo>
                  <a:lnTo>
                    <a:pt x="213" y="504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6200000">
              <a:off x="6939720" y="1843200"/>
              <a:ext cx="64080" cy="46800"/>
            </a:xfrm>
            <a:custGeom>
              <a:avLst/>
              <a:gdLst/>
              <a:ahLst/>
              <a:rect l="l" t="t" r="r" b="b"/>
              <a:pathLst>
                <a:path w="345" h="258">
                  <a:moveTo>
                    <a:pt x="0" y="0"/>
                  </a:moveTo>
                  <a:lnTo>
                    <a:pt x="0" y="258"/>
                  </a:lnTo>
                  <a:lnTo>
                    <a:pt x="345" y="258"/>
                  </a:lnTo>
                  <a:lnTo>
                    <a:pt x="345" y="197"/>
                  </a:lnTo>
                  <a:lnTo>
                    <a:pt x="66" y="195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16200000">
              <a:off x="6798960" y="1470240"/>
              <a:ext cx="199800" cy="1180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16200000">
              <a:off x="6943680" y="1944720"/>
              <a:ext cx="68040" cy="388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6200000">
              <a:off x="6912000" y="1954440"/>
              <a:ext cx="37440" cy="406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16200000">
              <a:off x="6911280" y="1386720"/>
              <a:ext cx="37440" cy="417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6200000">
              <a:off x="6836040" y="1507320"/>
              <a:ext cx="114120" cy="92880"/>
            </a:xfrm>
            <a:custGeom>
              <a:avLst/>
              <a:gdLst/>
              <a:ahLst/>
              <a:rect l="l" t="t" r="r" b="b"/>
              <a:pathLst>
                <a:path w="624" h="501">
                  <a:moveTo>
                    <a:pt x="213" y="501"/>
                  </a:moveTo>
                  <a:lnTo>
                    <a:pt x="213" y="312"/>
                  </a:lnTo>
                  <a:lnTo>
                    <a:pt x="0" y="312"/>
                  </a:lnTo>
                  <a:lnTo>
                    <a:pt x="0" y="126"/>
                  </a:lnTo>
                  <a:lnTo>
                    <a:pt x="147" y="126"/>
                  </a:lnTo>
                  <a:lnTo>
                    <a:pt x="147" y="0"/>
                  </a:lnTo>
                  <a:lnTo>
                    <a:pt x="516" y="0"/>
                  </a:lnTo>
                  <a:lnTo>
                    <a:pt x="516" y="126"/>
                  </a:lnTo>
                  <a:lnTo>
                    <a:pt x="624" y="126"/>
                  </a:lnTo>
                  <a:lnTo>
                    <a:pt x="624" y="297"/>
                  </a:lnTo>
                  <a:lnTo>
                    <a:pt x="417" y="300"/>
                  </a:lnTo>
                  <a:lnTo>
                    <a:pt x="417" y="501"/>
                  </a:lnTo>
                  <a:lnTo>
                    <a:pt x="213" y="501"/>
                  </a:lnTo>
                  <a:close/>
                </a:path>
              </a:pathLst>
            </a:cu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6200000">
              <a:off x="6636240" y="1680840"/>
              <a:ext cx="587520" cy="234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6653520" y="1457280"/>
              <a:ext cx="13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07400" y="145620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16200000">
              <a:off x="6611400" y="1422720"/>
              <a:ext cx="72360" cy="18000"/>
            </a:xfrm>
            <a:custGeom>
              <a:avLst/>
              <a:gdLst/>
              <a:ahLst/>
              <a:rect l="l" t="t" r="r" b="b"/>
              <a:pathLst>
                <a:path w="397" h="99">
                  <a:moveTo>
                    <a:pt x="0" y="72"/>
                  </a:moveTo>
                  <a:cubicBezTo>
                    <a:pt x="28" y="91"/>
                    <a:pt x="53" y="82"/>
                    <a:pt x="84" y="72"/>
                  </a:cubicBezTo>
                  <a:cubicBezTo>
                    <a:pt x="124" y="99"/>
                    <a:pt x="147" y="83"/>
                    <a:pt x="192" y="72"/>
                  </a:cubicBezTo>
                  <a:cubicBezTo>
                    <a:pt x="224" y="50"/>
                    <a:pt x="250" y="25"/>
                    <a:pt x="288" y="12"/>
                  </a:cubicBezTo>
                  <a:cubicBezTo>
                    <a:pt x="298" y="16"/>
                    <a:pt x="307" y="24"/>
                    <a:pt x="318" y="24"/>
                  </a:cubicBezTo>
                  <a:cubicBezTo>
                    <a:pt x="397" y="24"/>
                    <a:pt x="313" y="0"/>
                    <a:pt x="366" y="18"/>
                  </a:cubicBezTo>
                  <a:cubicBezTo>
                    <a:pt x="372" y="24"/>
                    <a:pt x="379" y="29"/>
                    <a:pt x="384" y="36"/>
                  </a:cubicBezTo>
                  <a:cubicBezTo>
                    <a:pt x="389" y="42"/>
                    <a:pt x="396" y="54"/>
                    <a:pt x="396" y="54"/>
                  </a:cubicBezTo>
                </a:path>
              </a:pathLst>
            </a:cu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6200000">
              <a:off x="7045200" y="1413720"/>
              <a:ext cx="73440" cy="18000"/>
            </a:xfrm>
            <a:custGeom>
              <a:avLst/>
              <a:gdLst/>
              <a:ahLst/>
              <a:rect l="l" t="t" r="r" b="b"/>
              <a:pathLst>
                <a:path w="397" h="99">
                  <a:moveTo>
                    <a:pt x="0" y="72"/>
                  </a:moveTo>
                  <a:cubicBezTo>
                    <a:pt x="28" y="91"/>
                    <a:pt x="53" y="82"/>
                    <a:pt x="84" y="72"/>
                  </a:cubicBezTo>
                  <a:cubicBezTo>
                    <a:pt x="124" y="99"/>
                    <a:pt x="147" y="83"/>
                    <a:pt x="192" y="72"/>
                  </a:cubicBezTo>
                  <a:cubicBezTo>
                    <a:pt x="224" y="50"/>
                    <a:pt x="250" y="25"/>
                    <a:pt x="288" y="12"/>
                  </a:cubicBezTo>
                  <a:cubicBezTo>
                    <a:pt x="298" y="16"/>
                    <a:pt x="307" y="24"/>
                    <a:pt x="318" y="24"/>
                  </a:cubicBezTo>
                  <a:cubicBezTo>
                    <a:pt x="397" y="24"/>
                    <a:pt x="313" y="0"/>
                    <a:pt x="366" y="18"/>
                  </a:cubicBezTo>
                  <a:cubicBezTo>
                    <a:pt x="372" y="24"/>
                    <a:pt x="379" y="29"/>
                    <a:pt x="384" y="36"/>
                  </a:cubicBezTo>
                  <a:cubicBezTo>
                    <a:pt x="389" y="42"/>
                    <a:pt x="396" y="54"/>
                    <a:pt x="396" y="54"/>
                  </a:cubicBezTo>
                </a:path>
              </a:pathLst>
            </a:cu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 flipV="1">
            <a:off x="7219800" y="1287360"/>
            <a:ext cx="98640" cy="98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318440" y="1287360"/>
            <a:ext cx="69192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08480" y="195732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969696"/>
                </a:solidFill>
                <a:latin typeface="Arial"/>
              </a:rPr>
              <a:t>Op 40-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44960" y="195732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969696"/>
                </a:solidFill>
                <a:latin typeface="Arial"/>
              </a:rPr>
              <a:t>Op 40-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432400" y="1960560"/>
            <a:ext cx="70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969696"/>
                </a:solidFill>
                <a:latin typeface="Arial"/>
              </a:rPr>
              <a:t>Op 40-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99040" y="195732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969696"/>
                </a:solidFill>
                <a:latin typeface="Arial"/>
              </a:rPr>
              <a:t>Op 40-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7816320" y="3247920"/>
            <a:ext cx="490680" cy="471600"/>
            <a:chOff x="7816320" y="3247920"/>
            <a:chExt cx="490680" cy="471600"/>
          </a:xfrm>
        </p:grpSpPr>
        <p:sp>
          <p:nvSpPr>
            <p:cNvPr id="310" name=""/>
            <p:cNvSpPr/>
            <p:nvPr/>
          </p:nvSpPr>
          <p:spPr>
            <a:xfrm rot="5400000">
              <a:off x="8173440" y="3385440"/>
              <a:ext cx="236160" cy="30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5400000">
              <a:off x="8139600" y="3288960"/>
              <a:ext cx="53280" cy="74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5400000">
              <a:off x="7898040" y="3265200"/>
              <a:ext cx="66960" cy="32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5400000">
              <a:off x="7957800" y="3273120"/>
              <a:ext cx="29160" cy="471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5400000">
              <a:off x="7955280" y="3659400"/>
              <a:ext cx="29160" cy="468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5400000">
              <a:off x="7747560" y="3491640"/>
              <a:ext cx="442800" cy="129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5400000">
              <a:off x="8235360" y="3286080"/>
              <a:ext cx="12600" cy="113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5400000">
              <a:off x="8114760" y="3408120"/>
              <a:ext cx="153720" cy="108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5400000">
              <a:off x="8135280" y="3469320"/>
              <a:ext cx="21240" cy="331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5400000">
              <a:off x="8160120" y="3452040"/>
              <a:ext cx="11880" cy="61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5400000">
              <a:off x="7980120" y="3306240"/>
              <a:ext cx="201600" cy="210600"/>
            </a:xfrm>
            <a:custGeom>
              <a:avLst/>
              <a:gdLst/>
              <a:ahLst/>
              <a:rect l="l" t="t" r="r" b="b"/>
              <a:pathLst>
                <a:path w="525" h="551">
                  <a:moveTo>
                    <a:pt x="172" y="0"/>
                  </a:moveTo>
                  <a:lnTo>
                    <a:pt x="172" y="81"/>
                  </a:lnTo>
                  <a:lnTo>
                    <a:pt x="133" y="81"/>
                  </a:lnTo>
                  <a:lnTo>
                    <a:pt x="133" y="207"/>
                  </a:lnTo>
                  <a:lnTo>
                    <a:pt x="102" y="207"/>
                  </a:lnTo>
                  <a:lnTo>
                    <a:pt x="102" y="221"/>
                  </a:lnTo>
                  <a:lnTo>
                    <a:pt x="84" y="221"/>
                  </a:lnTo>
                  <a:lnTo>
                    <a:pt x="76" y="233"/>
                  </a:lnTo>
                  <a:lnTo>
                    <a:pt x="76" y="321"/>
                  </a:lnTo>
                  <a:lnTo>
                    <a:pt x="0" y="320"/>
                  </a:lnTo>
                  <a:lnTo>
                    <a:pt x="0" y="549"/>
                  </a:lnTo>
                  <a:lnTo>
                    <a:pt x="525" y="551"/>
                  </a:lnTo>
                  <a:lnTo>
                    <a:pt x="523" y="513"/>
                  </a:lnTo>
                  <a:lnTo>
                    <a:pt x="466" y="512"/>
                  </a:lnTo>
                  <a:lnTo>
                    <a:pt x="466" y="462"/>
                  </a:lnTo>
                  <a:lnTo>
                    <a:pt x="525" y="462"/>
                  </a:lnTo>
                  <a:lnTo>
                    <a:pt x="525" y="329"/>
                  </a:lnTo>
                  <a:lnTo>
                    <a:pt x="472" y="327"/>
                  </a:lnTo>
                  <a:lnTo>
                    <a:pt x="472" y="150"/>
                  </a:lnTo>
                  <a:lnTo>
                    <a:pt x="424" y="150"/>
                  </a:lnTo>
                  <a:lnTo>
                    <a:pt x="426" y="0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5400000">
              <a:off x="7850520" y="3400200"/>
              <a:ext cx="196560" cy="255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7975800" y="3626280"/>
              <a:ext cx="31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 flipV="1">
              <a:off x="8085960" y="3568680"/>
              <a:ext cx="42120" cy="3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127720" y="3607560"/>
              <a:ext cx="16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7975800" y="3569400"/>
              <a:ext cx="11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7913880" y="3568680"/>
              <a:ext cx="4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7976520" y="360684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 flipV="1">
              <a:off x="8080200" y="3587040"/>
              <a:ext cx="19800" cy="1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75440" y="3587400"/>
              <a:ext cx="10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7925400" y="3586680"/>
              <a:ext cx="3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7900920" y="3606120"/>
              <a:ext cx="5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7900920" y="3587400"/>
              <a:ext cx="252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7873560" y="3568680"/>
              <a:ext cx="42120" cy="3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 flipV="1">
              <a:off x="7832160" y="3565080"/>
              <a:ext cx="41400" cy="3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7823880" y="3625200"/>
              <a:ext cx="13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7823880" y="3601800"/>
              <a:ext cx="1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flipV="1">
              <a:off x="7823520" y="3585240"/>
              <a:ext cx="1980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27120" y="3528360"/>
              <a:ext cx="0" cy="1800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26760" y="3546360"/>
              <a:ext cx="5040" cy="468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7820640" y="3551400"/>
              <a:ext cx="11520" cy="432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21360" y="3555720"/>
              <a:ext cx="10440" cy="936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7821000" y="3565800"/>
              <a:ext cx="10440" cy="504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821000" y="3570480"/>
              <a:ext cx="10080" cy="828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7821000" y="3579120"/>
              <a:ext cx="9720" cy="648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21000" y="3585960"/>
              <a:ext cx="9360" cy="936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7821720" y="3596040"/>
              <a:ext cx="8640" cy="684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821000" y="3603600"/>
              <a:ext cx="8640" cy="864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7820640" y="3612600"/>
              <a:ext cx="9000" cy="864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820640" y="3621240"/>
              <a:ext cx="8640" cy="1080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7824960" y="3632400"/>
              <a:ext cx="4680" cy="324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824600" y="3635640"/>
              <a:ext cx="0" cy="2124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816320" y="3528000"/>
              <a:ext cx="0" cy="131040"/>
            </a:xfrm>
            <a:prstGeom prst="line">
              <a:avLst/>
            </a:prstGeom>
            <a:ln w="6480">
              <a:solidFill>
                <a:srgbClr val="80808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298000" y="3554640"/>
              <a:ext cx="0" cy="131040"/>
            </a:xfrm>
            <a:prstGeom prst="line">
              <a:avLst/>
            </a:prstGeom>
            <a:ln w="6480">
              <a:solidFill>
                <a:srgbClr val="80808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289360" y="3556080"/>
              <a:ext cx="0" cy="1764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289000" y="3574080"/>
              <a:ext cx="5040" cy="468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8282880" y="3578760"/>
              <a:ext cx="11520" cy="432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283600" y="3583440"/>
              <a:ext cx="10440" cy="972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8283240" y="3593160"/>
              <a:ext cx="10440" cy="504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283240" y="3598200"/>
              <a:ext cx="10080" cy="828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8282880" y="3606840"/>
              <a:ext cx="10080" cy="648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83240" y="3613680"/>
              <a:ext cx="9360" cy="900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8283960" y="3623400"/>
              <a:ext cx="8640" cy="684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283240" y="3630960"/>
              <a:ext cx="8640" cy="900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8282880" y="3639960"/>
              <a:ext cx="9000" cy="864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282880" y="3648960"/>
              <a:ext cx="8640" cy="1080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8287200" y="3659760"/>
              <a:ext cx="4680" cy="324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86840" y="3663000"/>
              <a:ext cx="0" cy="2124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5400000">
              <a:off x="7915320" y="3443040"/>
              <a:ext cx="26280" cy="8640"/>
            </a:xfrm>
            <a:prstGeom prst="rect">
              <a:avLst/>
            </a:prstGeom>
            <a:solidFill>
              <a:srgbClr val="0099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5400000">
              <a:off x="7916400" y="3559320"/>
              <a:ext cx="23400" cy="12240"/>
            </a:xfrm>
            <a:prstGeom prst="rect">
              <a:avLst/>
            </a:prstGeom>
            <a:solidFill>
              <a:srgbClr val="0099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281720" y="3179520"/>
            <a:ext cx="495360" cy="517320"/>
            <a:chOff x="7281720" y="3179520"/>
            <a:chExt cx="495360" cy="517320"/>
          </a:xfrm>
        </p:grpSpPr>
        <p:sp>
          <p:nvSpPr>
            <p:cNvPr id="371" name=""/>
            <p:cNvSpPr/>
            <p:nvPr/>
          </p:nvSpPr>
          <p:spPr>
            <a:xfrm rot="16200000">
              <a:off x="7179480" y="3344040"/>
              <a:ext cx="239040" cy="309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16200000">
              <a:off x="7399080" y="3397320"/>
              <a:ext cx="53640" cy="75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16200000">
              <a:off x="7634160" y="3196800"/>
              <a:ext cx="67680" cy="327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5400000">
              <a:off x="7610040" y="3654000"/>
              <a:ext cx="29520" cy="47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16200000">
              <a:off x="7613640" y="3208680"/>
              <a:ext cx="29160" cy="47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16200000">
              <a:off x="7380720" y="3443760"/>
              <a:ext cx="490320" cy="154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t" anchorCtr="1" vert="eaVer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16200000">
              <a:off x="7343280" y="3360600"/>
              <a:ext cx="12600" cy="1152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16200000">
              <a:off x="7322400" y="3340800"/>
              <a:ext cx="155520" cy="111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16200000">
              <a:off x="7436160" y="3256560"/>
              <a:ext cx="21600" cy="33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16200000">
              <a:off x="7419960" y="3245040"/>
              <a:ext cx="11880" cy="626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16200000">
              <a:off x="7410240" y="3241800"/>
              <a:ext cx="204120" cy="213480"/>
            </a:xfrm>
            <a:custGeom>
              <a:avLst/>
              <a:gdLst/>
              <a:ahLst/>
              <a:rect l="l" t="t" r="r" b="b"/>
              <a:pathLst>
                <a:path w="525" h="551">
                  <a:moveTo>
                    <a:pt x="172" y="0"/>
                  </a:moveTo>
                  <a:lnTo>
                    <a:pt x="172" y="81"/>
                  </a:lnTo>
                  <a:lnTo>
                    <a:pt x="133" y="81"/>
                  </a:lnTo>
                  <a:lnTo>
                    <a:pt x="133" y="207"/>
                  </a:lnTo>
                  <a:lnTo>
                    <a:pt x="102" y="207"/>
                  </a:lnTo>
                  <a:lnTo>
                    <a:pt x="102" y="221"/>
                  </a:lnTo>
                  <a:lnTo>
                    <a:pt x="84" y="221"/>
                  </a:lnTo>
                  <a:lnTo>
                    <a:pt x="76" y="233"/>
                  </a:lnTo>
                  <a:lnTo>
                    <a:pt x="76" y="321"/>
                  </a:lnTo>
                  <a:lnTo>
                    <a:pt x="0" y="320"/>
                  </a:lnTo>
                  <a:lnTo>
                    <a:pt x="0" y="549"/>
                  </a:lnTo>
                  <a:lnTo>
                    <a:pt x="525" y="551"/>
                  </a:lnTo>
                  <a:lnTo>
                    <a:pt x="523" y="513"/>
                  </a:lnTo>
                  <a:lnTo>
                    <a:pt x="466" y="512"/>
                  </a:lnTo>
                  <a:lnTo>
                    <a:pt x="466" y="462"/>
                  </a:lnTo>
                  <a:lnTo>
                    <a:pt x="525" y="462"/>
                  </a:lnTo>
                  <a:lnTo>
                    <a:pt x="525" y="329"/>
                  </a:lnTo>
                  <a:lnTo>
                    <a:pt x="472" y="327"/>
                  </a:lnTo>
                  <a:lnTo>
                    <a:pt x="472" y="150"/>
                  </a:lnTo>
                  <a:lnTo>
                    <a:pt x="424" y="150"/>
                  </a:lnTo>
                  <a:lnTo>
                    <a:pt x="426" y="0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16200000">
              <a:off x="7547040" y="3334320"/>
              <a:ext cx="198720" cy="25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7300800" y="3643200"/>
              <a:ext cx="31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 flipV="1">
              <a:off x="7678440" y="3587400"/>
              <a:ext cx="42480" cy="3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292520" y="3621600"/>
              <a:ext cx="16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7498440" y="3588120"/>
              <a:ext cx="11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7632720" y="3587400"/>
              <a:ext cx="46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7486560" y="3622320"/>
              <a:ext cx="12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7666920" y="3603240"/>
              <a:ext cx="2016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7506720" y="3604680"/>
              <a:ext cx="11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7631280" y="360396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7632360" y="3621960"/>
              <a:ext cx="5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7485480" y="3604680"/>
              <a:ext cx="21600" cy="1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7458840" y="3588840"/>
              <a:ext cx="4032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7720560" y="3584880"/>
              <a:ext cx="3960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 flipV="1">
              <a:off x="7632000" y="3643920"/>
              <a:ext cx="12996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7741800" y="3626640"/>
              <a:ext cx="1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7743240" y="3603960"/>
              <a:ext cx="20160" cy="2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7767000" y="3638160"/>
              <a:ext cx="1800" cy="288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7760160" y="3653280"/>
              <a:ext cx="11520" cy="432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760520" y="3643560"/>
              <a:ext cx="10440" cy="972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7760880" y="3638160"/>
              <a:ext cx="10440" cy="504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760520" y="3629520"/>
              <a:ext cx="10440" cy="864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7761600" y="3622680"/>
              <a:ext cx="10080" cy="684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762320" y="3612960"/>
              <a:ext cx="9360" cy="936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7761960" y="3605040"/>
              <a:ext cx="9000" cy="720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762680" y="3596040"/>
              <a:ext cx="8640" cy="900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7762680" y="3587040"/>
              <a:ext cx="9360" cy="864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763400" y="3575880"/>
              <a:ext cx="8640" cy="1080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7762680" y="3572640"/>
              <a:ext cx="4680" cy="324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68080" y="3550680"/>
              <a:ext cx="0" cy="2160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7777080" y="3544560"/>
              <a:ext cx="0" cy="132480"/>
            </a:xfrm>
            <a:prstGeom prst="line">
              <a:avLst/>
            </a:prstGeom>
            <a:ln w="6480">
              <a:solidFill>
                <a:srgbClr val="80808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7281720" y="3566160"/>
              <a:ext cx="0" cy="103680"/>
            </a:xfrm>
            <a:prstGeom prst="line">
              <a:avLst/>
            </a:prstGeom>
            <a:ln w="6480">
              <a:solidFill>
                <a:srgbClr val="80808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293600" y="3652560"/>
              <a:ext cx="0" cy="1800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288920" y="3648240"/>
              <a:ext cx="5040" cy="468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7288560" y="3643200"/>
              <a:ext cx="11520" cy="432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288560" y="3633840"/>
              <a:ext cx="10440" cy="972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7288920" y="3628080"/>
              <a:ext cx="10440" cy="504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289280" y="3618360"/>
              <a:ext cx="10440" cy="864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7290000" y="3612600"/>
              <a:ext cx="10080" cy="684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290360" y="3602880"/>
              <a:ext cx="9360" cy="936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7290000" y="3595320"/>
              <a:ext cx="9000" cy="720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290360" y="3585960"/>
              <a:ext cx="8640" cy="900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7290360" y="3563280"/>
              <a:ext cx="0" cy="2160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6200000">
              <a:off x="7652520" y="3303720"/>
              <a:ext cx="26640" cy="9360"/>
            </a:xfrm>
            <a:prstGeom prst="rect">
              <a:avLst/>
            </a:prstGeom>
            <a:solidFill>
              <a:srgbClr val="0099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765200" y="3664800"/>
              <a:ext cx="0" cy="2160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759080" y="3658680"/>
              <a:ext cx="4680" cy="540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6794640" y="3300480"/>
            <a:ext cx="480960" cy="398520"/>
            <a:chOff x="6794640" y="3300480"/>
            <a:chExt cx="480960" cy="398520"/>
          </a:xfrm>
        </p:grpSpPr>
        <p:sp>
          <p:nvSpPr>
            <p:cNvPr id="429" name=""/>
            <p:cNvSpPr/>
            <p:nvPr/>
          </p:nvSpPr>
          <p:spPr>
            <a:xfrm flipH="1">
              <a:off x="6953400" y="3639600"/>
              <a:ext cx="31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 flipV="1">
              <a:off x="7045200" y="3524760"/>
              <a:ext cx="5976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104600" y="3620160"/>
              <a:ext cx="16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6923160" y="3526200"/>
              <a:ext cx="12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6954120" y="362016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 flipV="1">
              <a:off x="7035120" y="3551760"/>
              <a:ext cx="42480" cy="6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6935760" y="3551760"/>
              <a:ext cx="9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6879240" y="3620160"/>
              <a:ext cx="8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6877800" y="3550680"/>
              <a:ext cx="55800" cy="6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6851520" y="3526200"/>
              <a:ext cx="73440" cy="8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6801120" y="3638520"/>
              <a:ext cx="15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6801120" y="36151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05800" y="3541680"/>
              <a:ext cx="0" cy="1800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803640" y="3559320"/>
              <a:ext cx="5040" cy="396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6798600" y="3563280"/>
              <a:ext cx="12240" cy="504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797520" y="3567600"/>
              <a:ext cx="11160" cy="900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6797160" y="3578400"/>
              <a:ext cx="11160" cy="504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797520" y="3581640"/>
              <a:ext cx="11160" cy="900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798600" y="3592440"/>
              <a:ext cx="10080" cy="612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798600" y="3598920"/>
              <a:ext cx="10080" cy="1008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6798240" y="3607920"/>
              <a:ext cx="9000" cy="684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799680" y="3616560"/>
              <a:ext cx="7920" cy="828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797160" y="3624480"/>
              <a:ext cx="9000" cy="900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797520" y="3634560"/>
              <a:ext cx="9000" cy="1008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6801480" y="3644640"/>
              <a:ext cx="5040" cy="396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802560" y="3647880"/>
              <a:ext cx="0" cy="2124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794640" y="3541680"/>
              <a:ext cx="0" cy="130680"/>
            </a:xfrm>
            <a:prstGeom prst="line">
              <a:avLst/>
            </a:prstGeom>
            <a:ln w="6480">
              <a:solidFill>
                <a:srgbClr val="80808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275600" y="3568320"/>
              <a:ext cx="0" cy="130680"/>
            </a:xfrm>
            <a:prstGeom prst="line">
              <a:avLst/>
            </a:prstGeom>
            <a:ln w="6480">
              <a:solidFill>
                <a:srgbClr val="80808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66600" y="3568320"/>
              <a:ext cx="0" cy="1728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65520" y="3585600"/>
              <a:ext cx="5040" cy="504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7260120" y="3590640"/>
              <a:ext cx="12240" cy="504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59400" y="3594960"/>
              <a:ext cx="10800" cy="900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7259400" y="3606120"/>
              <a:ext cx="10800" cy="576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259400" y="3609360"/>
              <a:ext cx="10800" cy="900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7260120" y="3620160"/>
              <a:ext cx="10080" cy="612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260120" y="3626280"/>
              <a:ext cx="10080" cy="1008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7259760" y="3635640"/>
              <a:ext cx="9000" cy="684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259400" y="3642120"/>
              <a:ext cx="9000" cy="900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7259040" y="3651840"/>
              <a:ext cx="9000" cy="900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259400" y="3661920"/>
              <a:ext cx="9000" cy="1008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7263360" y="3672360"/>
              <a:ext cx="5040" cy="396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64440" y="3675600"/>
              <a:ext cx="0" cy="2124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0800000">
              <a:off x="6957720" y="3495240"/>
              <a:ext cx="61920" cy="946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10800000">
              <a:off x="7019640" y="3564000"/>
              <a:ext cx="19080" cy="252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10800000">
              <a:off x="6971400" y="3470760"/>
              <a:ext cx="26280" cy="23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0800000">
              <a:off x="6933960" y="3526200"/>
              <a:ext cx="24480" cy="30240"/>
            </a:xfrm>
            <a:prstGeom prst="rect">
              <a:avLst/>
            </a:prstGeom>
            <a:solidFill>
              <a:srgbClr val="00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10800000">
              <a:off x="6877080" y="3300480"/>
              <a:ext cx="54000" cy="129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10800000">
              <a:off x="6899040" y="3426120"/>
              <a:ext cx="13320" cy="93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10800000">
              <a:off x="6907320" y="3504600"/>
              <a:ext cx="75240" cy="151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10800000">
              <a:off x="6896160" y="3503880"/>
              <a:ext cx="21240" cy="194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10800000">
              <a:off x="6967440" y="3502800"/>
              <a:ext cx="21240" cy="194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10800000">
              <a:off x="6895080" y="3405240"/>
              <a:ext cx="21240" cy="20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6238440" y="3267000"/>
            <a:ext cx="492120" cy="469800"/>
            <a:chOff x="6238440" y="3267000"/>
            <a:chExt cx="492120" cy="469800"/>
          </a:xfrm>
        </p:grpSpPr>
        <p:sp>
          <p:nvSpPr>
            <p:cNvPr id="482" name=""/>
            <p:cNvSpPr/>
            <p:nvPr/>
          </p:nvSpPr>
          <p:spPr>
            <a:xfrm rot="5400000">
              <a:off x="6597360" y="3403800"/>
              <a:ext cx="235440" cy="30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5400000">
              <a:off x="6563160" y="3307320"/>
              <a:ext cx="52920" cy="74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5400000">
              <a:off x="6320880" y="3283920"/>
              <a:ext cx="66600" cy="32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5400000">
              <a:off x="6380280" y="3292200"/>
              <a:ext cx="29160" cy="471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5400000">
              <a:off x="6378120" y="3677040"/>
              <a:ext cx="28800" cy="468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5400000">
              <a:off x="6171120" y="3509640"/>
              <a:ext cx="441360" cy="129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5400000">
              <a:off x="6658560" y="3304440"/>
              <a:ext cx="12600" cy="1137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5400000">
              <a:off x="6537960" y="3426480"/>
              <a:ext cx="153360" cy="111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5400000">
              <a:off x="6558120" y="3487320"/>
              <a:ext cx="21240" cy="334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5400000">
              <a:off x="6583320" y="3470040"/>
              <a:ext cx="11880" cy="61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5400000">
              <a:off x="6403320" y="3324600"/>
              <a:ext cx="200880" cy="211320"/>
            </a:xfrm>
            <a:custGeom>
              <a:avLst/>
              <a:gdLst/>
              <a:ahLst/>
              <a:rect l="l" t="t" r="r" b="b"/>
              <a:pathLst>
                <a:path w="525" h="551">
                  <a:moveTo>
                    <a:pt x="172" y="0"/>
                  </a:moveTo>
                  <a:lnTo>
                    <a:pt x="172" y="81"/>
                  </a:lnTo>
                  <a:lnTo>
                    <a:pt x="133" y="81"/>
                  </a:lnTo>
                  <a:lnTo>
                    <a:pt x="133" y="207"/>
                  </a:lnTo>
                  <a:lnTo>
                    <a:pt x="102" y="207"/>
                  </a:lnTo>
                  <a:lnTo>
                    <a:pt x="102" y="221"/>
                  </a:lnTo>
                  <a:lnTo>
                    <a:pt x="84" y="221"/>
                  </a:lnTo>
                  <a:lnTo>
                    <a:pt x="76" y="233"/>
                  </a:lnTo>
                  <a:lnTo>
                    <a:pt x="76" y="321"/>
                  </a:lnTo>
                  <a:lnTo>
                    <a:pt x="0" y="320"/>
                  </a:lnTo>
                  <a:lnTo>
                    <a:pt x="0" y="549"/>
                  </a:lnTo>
                  <a:lnTo>
                    <a:pt x="525" y="551"/>
                  </a:lnTo>
                  <a:lnTo>
                    <a:pt x="523" y="513"/>
                  </a:lnTo>
                  <a:lnTo>
                    <a:pt x="466" y="512"/>
                  </a:lnTo>
                  <a:lnTo>
                    <a:pt x="466" y="462"/>
                  </a:lnTo>
                  <a:lnTo>
                    <a:pt x="525" y="462"/>
                  </a:lnTo>
                  <a:lnTo>
                    <a:pt x="525" y="329"/>
                  </a:lnTo>
                  <a:lnTo>
                    <a:pt x="472" y="327"/>
                  </a:lnTo>
                  <a:lnTo>
                    <a:pt x="472" y="150"/>
                  </a:lnTo>
                  <a:lnTo>
                    <a:pt x="424" y="150"/>
                  </a:lnTo>
                  <a:lnTo>
                    <a:pt x="426" y="0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6486840" y="3331080"/>
              <a:ext cx="6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5400000">
              <a:off x="6273360" y="3418560"/>
              <a:ext cx="195840" cy="255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6398280" y="3643920"/>
              <a:ext cx="31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 flipV="1">
              <a:off x="6509160" y="3586320"/>
              <a:ext cx="42120" cy="3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550560" y="3625560"/>
              <a:ext cx="16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6398280" y="3587040"/>
              <a:ext cx="11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6336360" y="3586680"/>
              <a:ext cx="4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6399360" y="3624840"/>
              <a:ext cx="12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6502680" y="3605040"/>
              <a:ext cx="20160" cy="1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6397920" y="360540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6347880" y="3604680"/>
              <a:ext cx="3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6323040" y="3623760"/>
              <a:ext cx="5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6323400" y="3605040"/>
              <a:ext cx="252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6296040" y="3586680"/>
              <a:ext cx="42120" cy="3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 flipV="1">
              <a:off x="6253920" y="3583440"/>
              <a:ext cx="4176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6246000" y="3642840"/>
              <a:ext cx="13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6246000" y="3619440"/>
              <a:ext cx="1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 flipV="1">
              <a:off x="6246000" y="3602880"/>
              <a:ext cx="1980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249240" y="3546360"/>
              <a:ext cx="0" cy="1764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49240" y="3564360"/>
              <a:ext cx="5040" cy="468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6243120" y="3569400"/>
              <a:ext cx="11520" cy="432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243480" y="3573720"/>
              <a:ext cx="10440" cy="936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6243120" y="3583440"/>
              <a:ext cx="10440" cy="504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243120" y="3588480"/>
              <a:ext cx="10440" cy="828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6243120" y="3597120"/>
              <a:ext cx="9720" cy="648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243120" y="3603960"/>
              <a:ext cx="9360" cy="900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6243840" y="3613680"/>
              <a:ext cx="8640" cy="684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43120" y="3621240"/>
              <a:ext cx="8640" cy="864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6242400" y="3630240"/>
              <a:ext cx="9360" cy="864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242760" y="3638880"/>
              <a:ext cx="8640" cy="1044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6247080" y="3650040"/>
              <a:ext cx="4680" cy="324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46720" y="3653280"/>
              <a:ext cx="0" cy="2124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238440" y="3546000"/>
              <a:ext cx="0" cy="130680"/>
            </a:xfrm>
            <a:prstGeom prst="line">
              <a:avLst/>
            </a:prstGeom>
            <a:ln w="6480">
              <a:solidFill>
                <a:srgbClr val="80808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5400000">
              <a:off x="6337800" y="3461400"/>
              <a:ext cx="26280" cy="8640"/>
            </a:xfrm>
            <a:prstGeom prst="rect">
              <a:avLst/>
            </a:prstGeom>
            <a:solidFill>
              <a:srgbClr val="0099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5400000">
              <a:off x="6338880" y="3577320"/>
              <a:ext cx="23400" cy="12240"/>
            </a:xfrm>
            <a:prstGeom prst="rect">
              <a:avLst/>
            </a:prstGeom>
            <a:solidFill>
              <a:srgbClr val="0099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5175000" y="3304800"/>
            <a:ext cx="466200" cy="338400"/>
            <a:chOff x="5175000" y="3304800"/>
            <a:chExt cx="466200" cy="338400"/>
          </a:xfrm>
        </p:grpSpPr>
        <p:sp>
          <p:nvSpPr>
            <p:cNvPr id="529" name=""/>
            <p:cNvSpPr/>
            <p:nvPr/>
          </p:nvSpPr>
          <p:spPr>
            <a:xfrm flipH="1">
              <a:off x="5326920" y="3643200"/>
              <a:ext cx="31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flipV="1">
              <a:off x="5419080" y="3528720"/>
              <a:ext cx="6012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478480" y="3623760"/>
              <a:ext cx="16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5296320" y="3529800"/>
              <a:ext cx="12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5328360" y="3623760"/>
              <a:ext cx="12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 flipV="1">
              <a:off x="5408640" y="3555360"/>
              <a:ext cx="42840" cy="6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5310000" y="3555720"/>
              <a:ext cx="9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5252400" y="3623760"/>
              <a:ext cx="8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5251680" y="3554280"/>
              <a:ext cx="56160" cy="6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5224680" y="3529800"/>
              <a:ext cx="73080" cy="8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5175360" y="3642120"/>
              <a:ext cx="1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5175000" y="36187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10800000">
              <a:off x="5330880" y="3499200"/>
              <a:ext cx="62280" cy="946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10800000">
              <a:off x="5393520" y="3567960"/>
              <a:ext cx="19440" cy="252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10800000">
              <a:off x="5345280" y="3474720"/>
              <a:ext cx="26280" cy="23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10800000">
              <a:off x="5307840" y="3529440"/>
              <a:ext cx="24480" cy="30600"/>
            </a:xfrm>
            <a:prstGeom prst="rect">
              <a:avLst/>
            </a:prstGeom>
            <a:solidFill>
              <a:srgbClr val="00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10800000">
              <a:off x="5250600" y="3304800"/>
              <a:ext cx="54000" cy="1292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10800000">
              <a:off x="5273280" y="3430080"/>
              <a:ext cx="12960" cy="93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10800000">
              <a:off x="5281200" y="3508560"/>
              <a:ext cx="75600" cy="151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10800000">
              <a:off x="5269680" y="3507120"/>
              <a:ext cx="21240" cy="190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10800000">
              <a:off x="5340960" y="3506400"/>
              <a:ext cx="21240" cy="190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10800000">
              <a:off x="5268600" y="3409920"/>
              <a:ext cx="21240" cy="201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7906680" y="5950080"/>
            <a:ext cx="61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c0c0c0"/>
                </a:solidFill>
                <a:latin typeface="Arial"/>
              </a:rPr>
              <a:t>Op 70-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475400" y="465300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969696"/>
                </a:solidFill>
                <a:latin typeface="Arial"/>
              </a:rPr>
              <a:t>Op 70-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905600" y="45086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969696"/>
                </a:solidFill>
                <a:latin typeface="Arial"/>
              </a:rPr>
              <a:t>Op 70-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337600" y="46530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969696"/>
                </a:solidFill>
                <a:latin typeface="Arial"/>
              </a:rPr>
              <a:t>Op 70-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339040" y="609444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c0c0c0"/>
                </a:solidFill>
                <a:latin typeface="Arial"/>
              </a:rPr>
              <a:t>Op 70-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9336240" y="5830920"/>
            <a:ext cx="0" cy="147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8842320" y="602280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cc"/>
                </a:solidFill>
                <a:latin typeface="Arial"/>
              </a:rPr>
              <a:t>Op 77-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6006960" y="5355720"/>
            <a:ext cx="370080" cy="466920"/>
            <a:chOff x="6006960" y="5355720"/>
            <a:chExt cx="370080" cy="466920"/>
          </a:xfrm>
        </p:grpSpPr>
        <p:sp>
          <p:nvSpPr>
            <p:cNvPr id="559" name=""/>
            <p:cNvSpPr/>
            <p:nvPr/>
          </p:nvSpPr>
          <p:spPr>
            <a:xfrm rot="10800000">
              <a:off x="6097680" y="5550840"/>
              <a:ext cx="277560" cy="195120"/>
            </a:xfrm>
            <a:custGeom>
              <a:avLst/>
              <a:gdLst/>
              <a:ahLst/>
              <a:rect l="l" t="t" r="r" b="b"/>
              <a:pathLst>
                <a:path w="1684" h="1180">
                  <a:moveTo>
                    <a:pt x="1206" y="252"/>
                  </a:moveTo>
                  <a:lnTo>
                    <a:pt x="1206" y="768"/>
                  </a:lnTo>
                  <a:lnTo>
                    <a:pt x="1395" y="768"/>
                  </a:lnTo>
                  <a:lnTo>
                    <a:pt x="1395" y="879"/>
                  </a:lnTo>
                  <a:lnTo>
                    <a:pt x="1596" y="879"/>
                  </a:lnTo>
                  <a:lnTo>
                    <a:pt x="1596" y="1065"/>
                  </a:lnTo>
                  <a:lnTo>
                    <a:pt x="1683" y="1065"/>
                  </a:lnTo>
                  <a:lnTo>
                    <a:pt x="1683" y="1179"/>
                  </a:lnTo>
                  <a:lnTo>
                    <a:pt x="561" y="1179"/>
                  </a:lnTo>
                  <a:lnTo>
                    <a:pt x="561" y="1125"/>
                  </a:lnTo>
                  <a:lnTo>
                    <a:pt x="381" y="1125"/>
                  </a:lnTo>
                  <a:lnTo>
                    <a:pt x="381" y="1065"/>
                  </a:lnTo>
                  <a:lnTo>
                    <a:pt x="0" y="1065"/>
                  </a:lnTo>
                  <a:lnTo>
                    <a:pt x="0" y="876"/>
                  </a:lnTo>
                  <a:lnTo>
                    <a:pt x="189" y="876"/>
                  </a:lnTo>
                  <a:lnTo>
                    <a:pt x="189" y="786"/>
                  </a:lnTo>
                  <a:lnTo>
                    <a:pt x="213" y="768"/>
                  </a:lnTo>
                  <a:lnTo>
                    <a:pt x="579" y="768"/>
                  </a:lnTo>
                  <a:lnTo>
                    <a:pt x="663" y="636"/>
                  </a:lnTo>
                  <a:lnTo>
                    <a:pt x="663" y="0"/>
                  </a:lnTo>
                  <a:lnTo>
                    <a:pt x="1089" y="0"/>
                  </a:lnTo>
                  <a:lnTo>
                    <a:pt x="1089" y="252"/>
                  </a:lnTo>
                  <a:lnTo>
                    <a:pt x="1206" y="252"/>
                  </a:lnTo>
                </a:path>
              </a:pathLst>
            </a:custGeom>
            <a:solidFill>
              <a:srgbClr val="00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10800000">
              <a:off x="6292080" y="5681880"/>
              <a:ext cx="50040" cy="65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21240" bIns="2124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10800000">
              <a:off x="6006960" y="5537880"/>
              <a:ext cx="32040" cy="229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10800000">
              <a:off x="6169680" y="5704560"/>
              <a:ext cx="26280" cy="45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720" bIns="72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10800000">
              <a:off x="6296400" y="5686560"/>
              <a:ext cx="43920" cy="590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4760" bIns="1476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10800000">
              <a:off x="6280560" y="5771880"/>
              <a:ext cx="78480" cy="280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6200" bIns="-1620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0800000">
              <a:off x="6283080" y="5561280"/>
              <a:ext cx="27720" cy="11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400" bIns="-3240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10800000">
              <a:off x="6035760" y="5709600"/>
              <a:ext cx="147240" cy="7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360" bIns="-3636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10800000">
              <a:off x="6019920" y="5736600"/>
              <a:ext cx="163080" cy="75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720" bIns="-3672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10800000">
              <a:off x="6181200" y="5707080"/>
              <a:ext cx="13680" cy="11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400" bIns="-3240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10800000">
              <a:off x="6180480" y="5734800"/>
              <a:ext cx="14400" cy="11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760" bIns="-3276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10800000">
              <a:off x="6267600" y="5664960"/>
              <a:ext cx="16200" cy="31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2960" bIns="-1296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10800000">
              <a:off x="6268680" y="5665320"/>
              <a:ext cx="11520" cy="302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4040" bIns="-1404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10800000">
              <a:off x="6270840" y="5685840"/>
              <a:ext cx="6480" cy="576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9960" bIns="-3996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10800000">
              <a:off x="6348960" y="5774400"/>
              <a:ext cx="8280" cy="219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2320" bIns="-2232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10800000">
              <a:off x="6338880" y="5778720"/>
              <a:ext cx="7920" cy="136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0600" bIns="-3060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10800000">
              <a:off x="6325560" y="5779800"/>
              <a:ext cx="11880" cy="11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760" bIns="-3276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10800000">
              <a:off x="6291000" y="5775480"/>
              <a:ext cx="17640" cy="20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3760" bIns="-2376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10800000">
              <a:off x="6300720" y="5781960"/>
              <a:ext cx="7560" cy="75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720" bIns="-3672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10800000">
              <a:off x="6310440" y="5782680"/>
              <a:ext cx="13680" cy="57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8520" bIns="-3852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10800000">
              <a:off x="6280560" y="5774760"/>
              <a:ext cx="9360" cy="21960"/>
            </a:xfrm>
            <a:custGeom>
              <a:avLst/>
              <a:gdLst/>
              <a:ahLst/>
              <a:rect l="l" t="t" r="r" b="b"/>
              <a:pathLst>
                <a:path w="58" h="133">
                  <a:moveTo>
                    <a:pt x="0" y="0"/>
                  </a:moveTo>
                  <a:lnTo>
                    <a:pt x="26" y="0"/>
                  </a:lnTo>
                  <a:lnTo>
                    <a:pt x="45" y="7"/>
                  </a:lnTo>
                  <a:lnTo>
                    <a:pt x="56" y="22"/>
                  </a:lnTo>
                  <a:lnTo>
                    <a:pt x="57" y="36"/>
                  </a:lnTo>
                  <a:lnTo>
                    <a:pt x="57" y="106"/>
                  </a:lnTo>
                  <a:lnTo>
                    <a:pt x="51" y="117"/>
                  </a:lnTo>
                  <a:lnTo>
                    <a:pt x="39" y="126"/>
                  </a:lnTo>
                  <a:lnTo>
                    <a:pt x="21" y="132"/>
                  </a:lnTo>
                  <a:lnTo>
                    <a:pt x="0" y="129"/>
                  </a:lnTo>
                  <a:lnTo>
                    <a:pt x="0" y="0"/>
                  </a:lnTo>
                </a:path>
              </a:pathLst>
            </a:custGeom>
            <a:solidFill>
              <a:srgbClr val="00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10800000">
              <a:off x="6264720" y="5725800"/>
              <a:ext cx="42840" cy="5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8880" bIns="-3888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0800000">
              <a:off x="6246360" y="5725440"/>
              <a:ext cx="5400" cy="576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9960" bIns="-3996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10800000">
              <a:off x="6153480" y="5563800"/>
              <a:ext cx="123120" cy="7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360" bIns="-3636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10800000">
              <a:off x="6219000" y="5576040"/>
              <a:ext cx="56520" cy="20520"/>
            </a:xfrm>
            <a:custGeom>
              <a:avLst/>
              <a:gdLst/>
              <a:ahLst/>
              <a:rect l="l" t="t" r="r" b="b"/>
              <a:pathLst>
                <a:path w="343" h="125">
                  <a:moveTo>
                    <a:pt x="19" y="124"/>
                  </a:moveTo>
                  <a:lnTo>
                    <a:pt x="324" y="124"/>
                  </a:lnTo>
                  <a:lnTo>
                    <a:pt x="342" y="114"/>
                  </a:lnTo>
                  <a:lnTo>
                    <a:pt x="342" y="15"/>
                  </a:lnTo>
                  <a:lnTo>
                    <a:pt x="327" y="0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111"/>
                  </a:lnTo>
                  <a:lnTo>
                    <a:pt x="19" y="124"/>
                  </a:lnTo>
                </a:path>
              </a:pathLst>
            </a:custGeom>
            <a:solidFill>
              <a:srgbClr val="00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0800000">
              <a:off x="6154200" y="5552640"/>
              <a:ext cx="122400" cy="75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720" bIns="-3672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10800000">
              <a:off x="6277680" y="5552280"/>
              <a:ext cx="2880" cy="468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2520" bIns="252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10800000">
              <a:off x="6149160" y="5552280"/>
              <a:ext cx="2880" cy="460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800" bIns="180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10800000">
              <a:off x="6149520" y="5599800"/>
              <a:ext cx="130680" cy="2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41400" bIns="-4140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10800000">
              <a:off x="6149160" y="5604120"/>
              <a:ext cx="130680" cy="7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360" bIns="-3636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10800000">
              <a:off x="6132600" y="5557320"/>
              <a:ext cx="15120" cy="172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7000" bIns="-2700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10800000">
              <a:off x="6134760" y="5581440"/>
              <a:ext cx="12600" cy="122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040" bIns="-3204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10800000">
              <a:off x="6118200" y="5578200"/>
              <a:ext cx="15840" cy="12600"/>
            </a:xfrm>
            <a:custGeom>
              <a:avLst/>
              <a:gdLst/>
              <a:ahLst/>
              <a:rect l="l" t="t" r="r" b="b"/>
              <a:pathLst>
                <a:path w="98" h="77">
                  <a:moveTo>
                    <a:pt x="0" y="0"/>
                  </a:moveTo>
                  <a:lnTo>
                    <a:pt x="42" y="0"/>
                  </a:lnTo>
                  <a:lnTo>
                    <a:pt x="69" y="10"/>
                  </a:lnTo>
                  <a:lnTo>
                    <a:pt x="97" y="10"/>
                  </a:lnTo>
                  <a:lnTo>
                    <a:pt x="97" y="66"/>
                  </a:lnTo>
                  <a:lnTo>
                    <a:pt x="67" y="66"/>
                  </a:lnTo>
                  <a:lnTo>
                    <a:pt x="43" y="76"/>
                  </a:lnTo>
                  <a:lnTo>
                    <a:pt x="0" y="76"/>
                  </a:lnTo>
                  <a:lnTo>
                    <a:pt x="0" y="0"/>
                  </a:lnTo>
                </a:path>
              </a:pathLst>
            </a:custGeom>
            <a:solidFill>
              <a:srgbClr val="00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6282000" y="556308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6280920" y="5601240"/>
              <a:ext cx="6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10800000">
              <a:off x="6275520" y="5355720"/>
              <a:ext cx="101520" cy="302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4040" bIns="-1404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10800000">
              <a:off x="6220800" y="5763600"/>
              <a:ext cx="52920" cy="320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2240" bIns="-1224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10800000">
              <a:off x="6219720" y="5452560"/>
              <a:ext cx="52920" cy="291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5120" bIns="-1512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0800000">
              <a:off x="6226920" y="5457240"/>
              <a:ext cx="40320" cy="20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3400" bIns="-2340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10800000">
              <a:off x="6227280" y="5767200"/>
              <a:ext cx="40320" cy="230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1240" bIns="-2124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0800000">
              <a:off x="6234120" y="5361480"/>
              <a:ext cx="26280" cy="4611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0800000">
              <a:off x="6010560" y="5734080"/>
              <a:ext cx="14400" cy="11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760" bIns="-3276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10800000">
              <a:off x="6022440" y="5707800"/>
              <a:ext cx="14400" cy="11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760" bIns="-3276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10800000">
              <a:off x="6220800" y="5356800"/>
              <a:ext cx="52920" cy="291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5120" bIns="-1512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10800000">
              <a:off x="6227280" y="5360400"/>
              <a:ext cx="40320" cy="20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3400" bIns="-2340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6100920" y="4914720"/>
            <a:ext cx="428400" cy="433080"/>
            <a:chOff x="6100920" y="4914720"/>
            <a:chExt cx="428400" cy="433080"/>
          </a:xfrm>
        </p:grpSpPr>
        <p:sp>
          <p:nvSpPr>
            <p:cNvPr id="605" name=""/>
            <p:cNvSpPr/>
            <p:nvPr/>
          </p:nvSpPr>
          <p:spPr>
            <a:xfrm rot="10800000">
              <a:off x="6100920" y="5079240"/>
              <a:ext cx="278640" cy="195120"/>
            </a:xfrm>
            <a:custGeom>
              <a:avLst/>
              <a:gdLst/>
              <a:ahLst/>
              <a:rect l="l" t="t" r="r" b="b"/>
              <a:pathLst>
                <a:path w="1683" h="1179">
                  <a:moveTo>
                    <a:pt x="1206" y="252"/>
                  </a:moveTo>
                  <a:lnTo>
                    <a:pt x="1206" y="768"/>
                  </a:lnTo>
                  <a:lnTo>
                    <a:pt x="1395" y="768"/>
                  </a:lnTo>
                  <a:lnTo>
                    <a:pt x="1395" y="879"/>
                  </a:lnTo>
                  <a:lnTo>
                    <a:pt x="1596" y="879"/>
                  </a:lnTo>
                  <a:lnTo>
                    <a:pt x="1596" y="1065"/>
                  </a:lnTo>
                  <a:lnTo>
                    <a:pt x="1683" y="1065"/>
                  </a:lnTo>
                  <a:lnTo>
                    <a:pt x="1683" y="1179"/>
                  </a:lnTo>
                  <a:lnTo>
                    <a:pt x="561" y="1179"/>
                  </a:lnTo>
                  <a:lnTo>
                    <a:pt x="561" y="1125"/>
                  </a:lnTo>
                  <a:lnTo>
                    <a:pt x="381" y="1125"/>
                  </a:lnTo>
                  <a:lnTo>
                    <a:pt x="381" y="1065"/>
                  </a:lnTo>
                  <a:lnTo>
                    <a:pt x="0" y="1065"/>
                  </a:lnTo>
                  <a:lnTo>
                    <a:pt x="0" y="876"/>
                  </a:lnTo>
                  <a:lnTo>
                    <a:pt x="189" y="876"/>
                  </a:lnTo>
                  <a:lnTo>
                    <a:pt x="189" y="786"/>
                  </a:lnTo>
                  <a:lnTo>
                    <a:pt x="213" y="768"/>
                  </a:lnTo>
                  <a:lnTo>
                    <a:pt x="579" y="768"/>
                  </a:lnTo>
                  <a:lnTo>
                    <a:pt x="663" y="636"/>
                  </a:lnTo>
                  <a:lnTo>
                    <a:pt x="663" y="0"/>
                  </a:lnTo>
                  <a:lnTo>
                    <a:pt x="1089" y="0"/>
                  </a:lnTo>
                  <a:lnTo>
                    <a:pt x="1089" y="252"/>
                  </a:lnTo>
                  <a:lnTo>
                    <a:pt x="1206" y="252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10800000">
              <a:off x="6295680" y="5209560"/>
              <a:ext cx="51480" cy="669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10800000">
              <a:off x="6495840" y="5067720"/>
              <a:ext cx="33480" cy="2307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10800000">
              <a:off x="6172560" y="5232600"/>
              <a:ext cx="27720" cy="464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10800000">
              <a:off x="6298920" y="5212440"/>
              <a:ext cx="45360" cy="604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10800000">
              <a:off x="6283800" y="5299560"/>
              <a:ext cx="80280" cy="29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10800000">
              <a:off x="6286320" y="5088600"/>
              <a:ext cx="29160" cy="13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10800000">
              <a:off x="6515640" y="5128560"/>
              <a:ext cx="9720" cy="162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10800000">
              <a:off x="6495120" y="5128560"/>
              <a:ext cx="16560" cy="13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10800000">
              <a:off x="6364800" y="5131080"/>
              <a:ext cx="129600" cy="9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rot="10800000">
              <a:off x="6380640" y="5150160"/>
              <a:ext cx="130320" cy="111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10800000">
              <a:off x="6366600" y="5165280"/>
              <a:ext cx="9000" cy="946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0800000">
              <a:off x="6351480" y="5144400"/>
              <a:ext cx="9000" cy="87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0800000">
              <a:off x="6199920" y="5237640"/>
              <a:ext cx="149400" cy="9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0800000">
              <a:off x="6199920" y="5265360"/>
              <a:ext cx="165240" cy="9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0800000">
              <a:off x="6184080" y="5234760"/>
              <a:ext cx="15120" cy="13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0800000">
              <a:off x="6183360" y="5262840"/>
              <a:ext cx="15840" cy="12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0800000">
              <a:off x="6366600" y="5149800"/>
              <a:ext cx="14040" cy="15480"/>
            </a:xfrm>
            <a:custGeom>
              <a:avLst/>
              <a:gdLst/>
              <a:ahLst/>
              <a:rect l="l" t="t" r="r" b="b"/>
              <a:pathLst>
                <a:path w="93" h="102">
                  <a:moveTo>
                    <a:pt x="93" y="102"/>
                  </a:moveTo>
                  <a:lnTo>
                    <a:pt x="0" y="102"/>
                  </a:lnTo>
                  <a:lnTo>
                    <a:pt x="0" y="24"/>
                  </a:lnTo>
                  <a:lnTo>
                    <a:pt x="28" y="0"/>
                  </a:lnTo>
                  <a:lnTo>
                    <a:pt x="93" y="0"/>
                  </a:lnTo>
                  <a:lnTo>
                    <a:pt x="93" y="102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0800000">
              <a:off x="6351120" y="5129640"/>
              <a:ext cx="13680" cy="14400"/>
            </a:xfrm>
            <a:custGeom>
              <a:avLst/>
              <a:gdLst/>
              <a:ahLst/>
              <a:rect l="l" t="t" r="r" b="b"/>
              <a:pathLst>
                <a:path w="93" h="102">
                  <a:moveTo>
                    <a:pt x="93" y="102"/>
                  </a:moveTo>
                  <a:lnTo>
                    <a:pt x="0" y="102"/>
                  </a:lnTo>
                  <a:lnTo>
                    <a:pt x="0" y="24"/>
                  </a:lnTo>
                  <a:lnTo>
                    <a:pt x="28" y="0"/>
                  </a:lnTo>
                  <a:lnTo>
                    <a:pt x="93" y="0"/>
                  </a:lnTo>
                  <a:lnTo>
                    <a:pt x="93" y="102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0800000">
              <a:off x="6510960" y="5145120"/>
              <a:ext cx="14400" cy="16200"/>
            </a:xfrm>
            <a:custGeom>
              <a:avLst/>
              <a:gdLst/>
              <a:ahLst/>
              <a:rect l="l" t="t" r="r" b="b"/>
              <a:pathLst>
                <a:path w="89" h="99">
                  <a:moveTo>
                    <a:pt x="0" y="99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67"/>
                  </a:lnTo>
                  <a:lnTo>
                    <a:pt x="60" y="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0800000">
              <a:off x="6270840" y="5192640"/>
              <a:ext cx="17640" cy="327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0800000">
              <a:off x="6271920" y="5193000"/>
              <a:ext cx="12960" cy="316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0800000">
              <a:off x="6274080" y="5213520"/>
              <a:ext cx="7920" cy="720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0800000">
              <a:off x="6352200" y="5302440"/>
              <a:ext cx="9720" cy="23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10800000">
              <a:off x="6342480" y="5307120"/>
              <a:ext cx="9360" cy="147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10800000">
              <a:off x="6329160" y="5308200"/>
              <a:ext cx="13320" cy="12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10800000">
              <a:off x="6294240" y="5303160"/>
              <a:ext cx="19080" cy="219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10800000">
              <a:off x="6303960" y="5309640"/>
              <a:ext cx="9000" cy="9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10800000">
              <a:off x="6313680" y="5310360"/>
              <a:ext cx="15120" cy="72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10800000">
              <a:off x="6284520" y="5303520"/>
              <a:ext cx="9360" cy="21600"/>
            </a:xfrm>
            <a:custGeom>
              <a:avLst/>
              <a:gdLst/>
              <a:ahLst/>
              <a:rect l="l" t="t" r="r" b="b"/>
              <a:pathLst>
                <a:path w="57" h="132">
                  <a:moveTo>
                    <a:pt x="0" y="0"/>
                  </a:moveTo>
                  <a:lnTo>
                    <a:pt x="26" y="0"/>
                  </a:lnTo>
                  <a:lnTo>
                    <a:pt x="45" y="7"/>
                  </a:lnTo>
                  <a:lnTo>
                    <a:pt x="56" y="22"/>
                  </a:lnTo>
                  <a:lnTo>
                    <a:pt x="57" y="36"/>
                  </a:lnTo>
                  <a:lnTo>
                    <a:pt x="57" y="106"/>
                  </a:lnTo>
                  <a:lnTo>
                    <a:pt x="51" y="117"/>
                  </a:lnTo>
                  <a:lnTo>
                    <a:pt x="39" y="126"/>
                  </a:lnTo>
                  <a:lnTo>
                    <a:pt x="21" y="132"/>
                  </a:lnTo>
                  <a:lnTo>
                    <a:pt x="0" y="1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10800000">
              <a:off x="6312600" y="5252400"/>
              <a:ext cx="16200" cy="93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10800000">
              <a:off x="6267960" y="5253840"/>
              <a:ext cx="44280" cy="64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10800000">
              <a:off x="6249600" y="5253480"/>
              <a:ext cx="6840" cy="720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10800000">
              <a:off x="6156000" y="5091480"/>
              <a:ext cx="125280" cy="9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10800000">
              <a:off x="6222600" y="5104440"/>
              <a:ext cx="56520" cy="20520"/>
            </a:xfrm>
            <a:custGeom>
              <a:avLst/>
              <a:gdLst/>
              <a:ahLst/>
              <a:rect l="l" t="t" r="r" b="b"/>
              <a:pathLst>
                <a:path w="342" h="124">
                  <a:moveTo>
                    <a:pt x="19" y="124"/>
                  </a:moveTo>
                  <a:lnTo>
                    <a:pt x="324" y="124"/>
                  </a:lnTo>
                  <a:lnTo>
                    <a:pt x="342" y="114"/>
                  </a:lnTo>
                  <a:lnTo>
                    <a:pt x="342" y="15"/>
                  </a:lnTo>
                  <a:lnTo>
                    <a:pt x="327" y="0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111"/>
                  </a:lnTo>
                  <a:lnTo>
                    <a:pt x="19" y="124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10800000">
              <a:off x="6157080" y="5080320"/>
              <a:ext cx="124200" cy="9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10800000">
              <a:off x="6280920" y="5079960"/>
              <a:ext cx="4320" cy="482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10800000">
              <a:off x="6151680" y="5079960"/>
              <a:ext cx="4320" cy="47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10800000">
              <a:off x="6152400" y="5127480"/>
              <a:ext cx="132480" cy="4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10800000">
              <a:off x="6152040" y="5131800"/>
              <a:ext cx="132480" cy="9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10800000">
              <a:off x="6135120" y="5085000"/>
              <a:ext cx="16560" cy="187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10800000">
              <a:off x="6137280" y="5108760"/>
              <a:ext cx="14040" cy="136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10800000">
              <a:off x="6119280" y="5108760"/>
              <a:ext cx="18000" cy="14400"/>
            </a:xfrm>
            <a:custGeom>
              <a:avLst/>
              <a:gdLst/>
              <a:ahLst/>
              <a:rect l="l" t="t" r="r" b="b"/>
              <a:pathLst>
                <a:path w="97" h="76">
                  <a:moveTo>
                    <a:pt x="0" y="0"/>
                  </a:moveTo>
                  <a:lnTo>
                    <a:pt x="42" y="0"/>
                  </a:lnTo>
                  <a:lnTo>
                    <a:pt x="69" y="10"/>
                  </a:lnTo>
                  <a:lnTo>
                    <a:pt x="97" y="10"/>
                  </a:lnTo>
                  <a:lnTo>
                    <a:pt x="97" y="66"/>
                  </a:lnTo>
                  <a:lnTo>
                    <a:pt x="67" y="66"/>
                  </a:lnTo>
                  <a:lnTo>
                    <a:pt x="43" y="76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6286320" y="509148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6284520" y="5129640"/>
              <a:ext cx="6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6283440" y="5141520"/>
              <a:ext cx="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10800000">
              <a:off x="6117120" y="5316120"/>
              <a:ext cx="103320" cy="316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10800000">
              <a:off x="6222960" y="5317200"/>
              <a:ext cx="54360" cy="30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10800000">
              <a:off x="6222600" y="5013720"/>
              <a:ext cx="54360" cy="30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0800000">
              <a:off x="6230160" y="5018400"/>
              <a:ext cx="41760" cy="22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10800000">
              <a:off x="6229440" y="5321160"/>
              <a:ext cx="41760" cy="22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10800000">
              <a:off x="6237000" y="4914720"/>
              <a:ext cx="27720" cy="4291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10800000">
              <a:off x="6284880" y="5144400"/>
              <a:ext cx="15840" cy="9000"/>
            </a:xfrm>
            <a:prstGeom prst="rect">
              <a:avLst/>
            </a:prstGeom>
            <a:solidFill>
              <a:srgbClr val="0099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6352920" y="5254920"/>
              <a:ext cx="4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6553080" y="5381640"/>
            <a:ext cx="430200" cy="449280"/>
            <a:chOff x="6553080" y="5381640"/>
            <a:chExt cx="430200" cy="449280"/>
          </a:xfrm>
        </p:grpSpPr>
        <p:sp>
          <p:nvSpPr>
            <p:cNvPr id="660" name=""/>
            <p:cNvSpPr/>
            <p:nvPr/>
          </p:nvSpPr>
          <p:spPr>
            <a:xfrm>
              <a:off x="6703200" y="5466600"/>
              <a:ext cx="280080" cy="195840"/>
            </a:xfrm>
            <a:custGeom>
              <a:avLst/>
              <a:gdLst/>
              <a:ahLst/>
              <a:rect l="l" t="t" r="r" b="b"/>
              <a:pathLst>
                <a:path w="1684" h="1180">
                  <a:moveTo>
                    <a:pt x="1206" y="252"/>
                  </a:moveTo>
                  <a:lnTo>
                    <a:pt x="1206" y="768"/>
                  </a:lnTo>
                  <a:lnTo>
                    <a:pt x="1395" y="768"/>
                  </a:lnTo>
                  <a:lnTo>
                    <a:pt x="1395" y="879"/>
                  </a:lnTo>
                  <a:lnTo>
                    <a:pt x="1596" y="879"/>
                  </a:lnTo>
                  <a:lnTo>
                    <a:pt x="1596" y="1065"/>
                  </a:lnTo>
                  <a:lnTo>
                    <a:pt x="1683" y="1065"/>
                  </a:lnTo>
                  <a:lnTo>
                    <a:pt x="1683" y="1179"/>
                  </a:lnTo>
                  <a:lnTo>
                    <a:pt x="561" y="1179"/>
                  </a:lnTo>
                  <a:lnTo>
                    <a:pt x="561" y="1125"/>
                  </a:lnTo>
                  <a:lnTo>
                    <a:pt x="381" y="1125"/>
                  </a:lnTo>
                  <a:lnTo>
                    <a:pt x="381" y="1065"/>
                  </a:lnTo>
                  <a:lnTo>
                    <a:pt x="0" y="1065"/>
                  </a:lnTo>
                  <a:lnTo>
                    <a:pt x="0" y="876"/>
                  </a:lnTo>
                  <a:lnTo>
                    <a:pt x="189" y="876"/>
                  </a:lnTo>
                  <a:lnTo>
                    <a:pt x="189" y="786"/>
                  </a:lnTo>
                  <a:lnTo>
                    <a:pt x="213" y="768"/>
                  </a:lnTo>
                  <a:lnTo>
                    <a:pt x="579" y="768"/>
                  </a:lnTo>
                  <a:lnTo>
                    <a:pt x="663" y="636"/>
                  </a:lnTo>
                  <a:lnTo>
                    <a:pt x="663" y="0"/>
                  </a:lnTo>
                  <a:lnTo>
                    <a:pt x="1089" y="0"/>
                  </a:lnTo>
                  <a:lnTo>
                    <a:pt x="1089" y="252"/>
                  </a:lnTo>
                  <a:lnTo>
                    <a:pt x="1206" y="252"/>
                  </a:lnTo>
                </a:path>
              </a:pathLst>
            </a:custGeom>
            <a:solidFill>
              <a:srgbClr val="00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736320" y="5465520"/>
              <a:ext cx="50400" cy="65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21600" bIns="216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553080" y="5443560"/>
              <a:ext cx="32400" cy="230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883920" y="5463000"/>
              <a:ext cx="26280" cy="453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080" bIns="1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739200" y="5468760"/>
              <a:ext cx="44280" cy="59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5120" bIns="1512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719040" y="5412600"/>
              <a:ext cx="79560" cy="284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5840" bIns="-158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768360" y="5640480"/>
              <a:ext cx="28080" cy="11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400" bIns="-324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557040" y="5597640"/>
              <a:ext cx="8640" cy="147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9520" bIns="-2952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570720" y="5600520"/>
              <a:ext cx="15480" cy="11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400" bIns="-324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588360" y="5602320"/>
              <a:ext cx="128880" cy="7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360" bIns="-363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571440" y="5581080"/>
              <a:ext cx="129960" cy="100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4200" bIns="-342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707880" y="5481720"/>
              <a:ext cx="7920" cy="93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722640" y="5509800"/>
              <a:ext cx="7920" cy="867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2480" bIns="424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734160" y="5495400"/>
              <a:ext cx="148680" cy="7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360" bIns="-363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718320" y="5467320"/>
              <a:ext cx="164880" cy="7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360" bIns="-363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885000" y="5493960"/>
              <a:ext cx="14040" cy="11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400" bIns="-324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885000" y="5466240"/>
              <a:ext cx="14400" cy="11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760" bIns="-327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706080" y="5465520"/>
              <a:ext cx="10440" cy="151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9160" bIns="-291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721560" y="5492880"/>
              <a:ext cx="10080" cy="15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8440" bIns="-284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701760" y="5576400"/>
              <a:ext cx="14400" cy="15840"/>
            </a:xfrm>
            <a:custGeom>
              <a:avLst/>
              <a:gdLst/>
              <a:ahLst/>
              <a:rect l="l" t="t" r="r" b="b"/>
              <a:pathLst>
                <a:path w="87" h="96">
                  <a:moveTo>
                    <a:pt x="86" y="95"/>
                  </a:moveTo>
                  <a:lnTo>
                    <a:pt x="0" y="95"/>
                  </a:lnTo>
                  <a:lnTo>
                    <a:pt x="0" y="22"/>
                  </a:lnTo>
                  <a:lnTo>
                    <a:pt x="25" y="0"/>
                  </a:lnTo>
                  <a:lnTo>
                    <a:pt x="86" y="0"/>
                  </a:lnTo>
                  <a:lnTo>
                    <a:pt x="86" y="95"/>
                  </a:lnTo>
                </a:path>
              </a:pathLst>
            </a:custGeom>
            <a:solidFill>
              <a:srgbClr val="00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717960" y="5597640"/>
              <a:ext cx="14040" cy="14760"/>
            </a:xfrm>
            <a:custGeom>
              <a:avLst/>
              <a:gdLst/>
              <a:ahLst/>
              <a:rect l="l" t="t" r="r" b="b"/>
              <a:pathLst>
                <a:path w="85" h="90">
                  <a:moveTo>
                    <a:pt x="84" y="89"/>
                  </a:moveTo>
                  <a:lnTo>
                    <a:pt x="0" y="89"/>
                  </a:lnTo>
                  <a:lnTo>
                    <a:pt x="0" y="20"/>
                  </a:lnTo>
                  <a:lnTo>
                    <a:pt x="25" y="0"/>
                  </a:lnTo>
                  <a:lnTo>
                    <a:pt x="84" y="0"/>
                  </a:lnTo>
                  <a:lnTo>
                    <a:pt x="84" y="89"/>
                  </a:lnTo>
                </a:path>
              </a:pathLst>
            </a:custGeom>
            <a:solidFill>
              <a:srgbClr val="00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556320" y="5580360"/>
              <a:ext cx="14760" cy="16560"/>
            </a:xfrm>
            <a:custGeom>
              <a:avLst/>
              <a:gdLst/>
              <a:ahLst/>
              <a:rect l="l" t="t" r="r" b="b"/>
              <a:pathLst>
                <a:path w="90" h="100">
                  <a:moveTo>
                    <a:pt x="0" y="99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67"/>
                  </a:lnTo>
                  <a:lnTo>
                    <a:pt x="60" y="99"/>
                  </a:lnTo>
                  <a:lnTo>
                    <a:pt x="0" y="99"/>
                  </a:lnTo>
                </a:path>
              </a:pathLst>
            </a:custGeom>
            <a:solidFill>
              <a:srgbClr val="00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795000" y="5516640"/>
              <a:ext cx="16560" cy="31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2960" bIns="-129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798960" y="5517360"/>
              <a:ext cx="11520" cy="302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4040" bIns="-140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801840" y="5521320"/>
              <a:ext cx="6480" cy="576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9960" bIns="-399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721200" y="5415840"/>
              <a:ext cx="8640" cy="219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2320" bIns="-2232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731640" y="5419800"/>
              <a:ext cx="8280" cy="136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0600" bIns="-306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741000" y="5420880"/>
              <a:ext cx="12240" cy="11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760" bIns="-327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770160" y="5416200"/>
              <a:ext cx="18000" cy="20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3760" bIns="-237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770520" y="5423040"/>
              <a:ext cx="7920" cy="7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360" bIns="-363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754680" y="5424120"/>
              <a:ext cx="14040" cy="61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8160" bIns="-381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788880" y="5415840"/>
              <a:ext cx="9360" cy="21960"/>
            </a:xfrm>
            <a:custGeom>
              <a:avLst/>
              <a:gdLst/>
              <a:ahLst/>
              <a:rect l="l" t="t" r="r" b="b"/>
              <a:pathLst>
                <a:path w="58" h="133">
                  <a:moveTo>
                    <a:pt x="0" y="0"/>
                  </a:moveTo>
                  <a:lnTo>
                    <a:pt x="26" y="0"/>
                  </a:lnTo>
                  <a:lnTo>
                    <a:pt x="45" y="7"/>
                  </a:lnTo>
                  <a:lnTo>
                    <a:pt x="56" y="22"/>
                  </a:lnTo>
                  <a:lnTo>
                    <a:pt x="57" y="36"/>
                  </a:lnTo>
                  <a:lnTo>
                    <a:pt x="57" y="106"/>
                  </a:lnTo>
                  <a:lnTo>
                    <a:pt x="51" y="117"/>
                  </a:lnTo>
                  <a:lnTo>
                    <a:pt x="39" y="126"/>
                  </a:lnTo>
                  <a:lnTo>
                    <a:pt x="21" y="132"/>
                  </a:lnTo>
                  <a:lnTo>
                    <a:pt x="0" y="129"/>
                  </a:lnTo>
                  <a:lnTo>
                    <a:pt x="0" y="0"/>
                  </a:lnTo>
                </a:path>
              </a:pathLst>
            </a:custGeom>
            <a:solidFill>
              <a:srgbClr val="00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754680" y="5480280"/>
              <a:ext cx="15120" cy="82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000" bIns="-360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771240" y="5481360"/>
              <a:ext cx="43200" cy="5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8880" bIns="-388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827760" y="5481360"/>
              <a:ext cx="5760" cy="612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9600" bIns="-396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802560" y="5641920"/>
              <a:ext cx="124560" cy="7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360" bIns="-363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803640" y="5616720"/>
              <a:ext cx="56880" cy="20520"/>
            </a:xfrm>
            <a:custGeom>
              <a:avLst/>
              <a:gdLst/>
              <a:ahLst/>
              <a:rect l="l" t="t" r="r" b="b"/>
              <a:pathLst>
                <a:path w="343" h="125">
                  <a:moveTo>
                    <a:pt x="19" y="124"/>
                  </a:moveTo>
                  <a:lnTo>
                    <a:pt x="324" y="124"/>
                  </a:lnTo>
                  <a:lnTo>
                    <a:pt x="342" y="114"/>
                  </a:lnTo>
                  <a:lnTo>
                    <a:pt x="342" y="15"/>
                  </a:lnTo>
                  <a:lnTo>
                    <a:pt x="327" y="0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111"/>
                  </a:lnTo>
                  <a:lnTo>
                    <a:pt x="19" y="124"/>
                  </a:lnTo>
                </a:path>
              </a:pathLst>
            </a:custGeom>
            <a:solidFill>
              <a:srgbClr val="00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802560" y="5653440"/>
              <a:ext cx="123480" cy="7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360" bIns="-363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798600" y="5614200"/>
              <a:ext cx="2880" cy="471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2880" bIns="28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928200" y="5614920"/>
              <a:ext cx="2880" cy="464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2160" bIns="21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798960" y="5610600"/>
              <a:ext cx="132120" cy="2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41400" bIns="-414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798960" y="5601240"/>
              <a:ext cx="131760" cy="7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360" bIns="-363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932880" y="5638680"/>
              <a:ext cx="15480" cy="172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7000" bIns="-270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932880" y="5619960"/>
              <a:ext cx="12960" cy="12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1680" bIns="-316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946560" y="5622480"/>
              <a:ext cx="16200" cy="12600"/>
            </a:xfrm>
            <a:custGeom>
              <a:avLst/>
              <a:gdLst/>
              <a:ahLst/>
              <a:rect l="l" t="t" r="r" b="b"/>
              <a:pathLst>
                <a:path w="98" h="77">
                  <a:moveTo>
                    <a:pt x="0" y="0"/>
                  </a:moveTo>
                  <a:lnTo>
                    <a:pt x="42" y="0"/>
                  </a:lnTo>
                  <a:lnTo>
                    <a:pt x="69" y="10"/>
                  </a:lnTo>
                  <a:lnTo>
                    <a:pt x="97" y="10"/>
                  </a:lnTo>
                  <a:lnTo>
                    <a:pt x="97" y="66"/>
                  </a:lnTo>
                  <a:lnTo>
                    <a:pt x="67" y="66"/>
                  </a:lnTo>
                  <a:lnTo>
                    <a:pt x="43" y="76"/>
                  </a:lnTo>
                  <a:lnTo>
                    <a:pt x="0" y="76"/>
                  </a:lnTo>
                  <a:lnTo>
                    <a:pt x="0" y="0"/>
                  </a:lnTo>
                </a:path>
              </a:pathLst>
            </a:custGeom>
            <a:solidFill>
              <a:srgbClr val="00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766560" y="5650200"/>
              <a:ext cx="3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728760" y="5612040"/>
              <a:ext cx="6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799320" y="5594040"/>
              <a:ext cx="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703920" y="5800320"/>
              <a:ext cx="102240" cy="30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3680" bIns="-136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806160" y="5800320"/>
              <a:ext cx="53280" cy="29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4760" bIns="-147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806520" y="5698080"/>
              <a:ext cx="53280" cy="29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4760" bIns="-147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811920" y="5702040"/>
              <a:ext cx="40680" cy="20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3400" bIns="-234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812640" y="5805000"/>
              <a:ext cx="40680" cy="20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3400" bIns="-234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819120" y="5381640"/>
              <a:ext cx="26640" cy="4212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806160" y="5409720"/>
              <a:ext cx="53280" cy="29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4760" bIns="-147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811920" y="5414760"/>
              <a:ext cx="40680" cy="20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3400" bIns="-234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6705720" y="4946760"/>
            <a:ext cx="369720" cy="434880"/>
            <a:chOff x="6705720" y="4946760"/>
            <a:chExt cx="369720" cy="434880"/>
          </a:xfrm>
        </p:grpSpPr>
        <p:sp>
          <p:nvSpPr>
            <p:cNvPr id="717" name=""/>
            <p:cNvSpPr/>
            <p:nvPr/>
          </p:nvSpPr>
          <p:spPr>
            <a:xfrm>
              <a:off x="6705720" y="5020560"/>
              <a:ext cx="278280" cy="195840"/>
            </a:xfrm>
            <a:custGeom>
              <a:avLst/>
              <a:gdLst/>
              <a:ahLst/>
              <a:rect l="l" t="t" r="r" b="b"/>
              <a:pathLst>
                <a:path w="1683" h="1179">
                  <a:moveTo>
                    <a:pt x="1206" y="252"/>
                  </a:moveTo>
                  <a:lnTo>
                    <a:pt x="1206" y="768"/>
                  </a:lnTo>
                  <a:lnTo>
                    <a:pt x="1395" y="768"/>
                  </a:lnTo>
                  <a:lnTo>
                    <a:pt x="1395" y="879"/>
                  </a:lnTo>
                  <a:lnTo>
                    <a:pt x="1596" y="879"/>
                  </a:lnTo>
                  <a:lnTo>
                    <a:pt x="1596" y="1065"/>
                  </a:lnTo>
                  <a:lnTo>
                    <a:pt x="1683" y="1065"/>
                  </a:lnTo>
                  <a:lnTo>
                    <a:pt x="1683" y="1179"/>
                  </a:lnTo>
                  <a:lnTo>
                    <a:pt x="561" y="1179"/>
                  </a:lnTo>
                  <a:lnTo>
                    <a:pt x="561" y="1125"/>
                  </a:lnTo>
                  <a:lnTo>
                    <a:pt x="381" y="1125"/>
                  </a:lnTo>
                  <a:lnTo>
                    <a:pt x="381" y="1065"/>
                  </a:lnTo>
                  <a:lnTo>
                    <a:pt x="0" y="1065"/>
                  </a:lnTo>
                  <a:lnTo>
                    <a:pt x="0" y="876"/>
                  </a:lnTo>
                  <a:lnTo>
                    <a:pt x="189" y="876"/>
                  </a:lnTo>
                  <a:lnTo>
                    <a:pt x="189" y="786"/>
                  </a:lnTo>
                  <a:lnTo>
                    <a:pt x="213" y="768"/>
                  </a:lnTo>
                  <a:lnTo>
                    <a:pt x="579" y="768"/>
                  </a:lnTo>
                  <a:lnTo>
                    <a:pt x="663" y="636"/>
                  </a:lnTo>
                  <a:lnTo>
                    <a:pt x="663" y="0"/>
                  </a:lnTo>
                  <a:lnTo>
                    <a:pt x="1089" y="0"/>
                  </a:lnTo>
                  <a:lnTo>
                    <a:pt x="1089" y="252"/>
                  </a:lnTo>
                  <a:lnTo>
                    <a:pt x="1206" y="252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737760" y="5018400"/>
              <a:ext cx="51480" cy="67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041960" y="4998600"/>
              <a:ext cx="33480" cy="231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884640" y="5015880"/>
              <a:ext cx="27720" cy="468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739920" y="5019840"/>
              <a:ext cx="45360" cy="60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720840" y="4965480"/>
              <a:ext cx="80280" cy="29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769440" y="5193360"/>
              <a:ext cx="29160" cy="13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902640" y="5048280"/>
              <a:ext cx="149040" cy="9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902640" y="5021280"/>
              <a:ext cx="164880" cy="9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885720" y="5046840"/>
              <a:ext cx="15120" cy="13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885720" y="5019480"/>
              <a:ext cx="15840" cy="129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796440" y="5069880"/>
              <a:ext cx="17640" cy="327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800040" y="5070240"/>
              <a:ext cx="12960" cy="316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802920" y="5074560"/>
              <a:ext cx="7560" cy="720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723000" y="4968720"/>
              <a:ext cx="9720" cy="23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733080" y="4972680"/>
              <a:ext cx="9360" cy="151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742440" y="4974120"/>
              <a:ext cx="13320" cy="129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771600" y="4969440"/>
              <a:ext cx="19080" cy="219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771960" y="4975920"/>
              <a:ext cx="9000" cy="9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756120" y="4977000"/>
              <a:ext cx="15120" cy="72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791040" y="4969440"/>
              <a:ext cx="9360" cy="21600"/>
            </a:xfrm>
            <a:custGeom>
              <a:avLst/>
              <a:gdLst/>
              <a:ahLst/>
              <a:rect l="l" t="t" r="r" b="b"/>
              <a:pathLst>
                <a:path w="57" h="132">
                  <a:moveTo>
                    <a:pt x="0" y="0"/>
                  </a:moveTo>
                  <a:lnTo>
                    <a:pt x="26" y="0"/>
                  </a:lnTo>
                  <a:lnTo>
                    <a:pt x="45" y="7"/>
                  </a:lnTo>
                  <a:lnTo>
                    <a:pt x="56" y="22"/>
                  </a:lnTo>
                  <a:lnTo>
                    <a:pt x="57" y="36"/>
                  </a:lnTo>
                  <a:lnTo>
                    <a:pt x="57" y="106"/>
                  </a:lnTo>
                  <a:lnTo>
                    <a:pt x="51" y="117"/>
                  </a:lnTo>
                  <a:lnTo>
                    <a:pt x="39" y="126"/>
                  </a:lnTo>
                  <a:lnTo>
                    <a:pt x="21" y="132"/>
                  </a:lnTo>
                  <a:lnTo>
                    <a:pt x="0" y="1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756120" y="5033160"/>
              <a:ext cx="16200" cy="93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772680" y="5034600"/>
              <a:ext cx="44280" cy="64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28480" y="5034240"/>
              <a:ext cx="6840" cy="720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803640" y="5195160"/>
              <a:ext cx="124920" cy="9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805440" y="5170320"/>
              <a:ext cx="56520" cy="20520"/>
            </a:xfrm>
            <a:custGeom>
              <a:avLst/>
              <a:gdLst/>
              <a:ahLst/>
              <a:rect l="l" t="t" r="r" b="b"/>
              <a:pathLst>
                <a:path w="342" h="124">
                  <a:moveTo>
                    <a:pt x="19" y="124"/>
                  </a:moveTo>
                  <a:lnTo>
                    <a:pt x="324" y="124"/>
                  </a:lnTo>
                  <a:lnTo>
                    <a:pt x="342" y="114"/>
                  </a:lnTo>
                  <a:lnTo>
                    <a:pt x="342" y="15"/>
                  </a:lnTo>
                  <a:lnTo>
                    <a:pt x="327" y="0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111"/>
                  </a:lnTo>
                  <a:lnTo>
                    <a:pt x="19" y="124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803640" y="5206320"/>
              <a:ext cx="123840" cy="9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799680" y="5167440"/>
              <a:ext cx="4320" cy="482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928560" y="5168160"/>
              <a:ext cx="4320" cy="47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800040" y="5163480"/>
              <a:ext cx="132480" cy="4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800400" y="5154480"/>
              <a:ext cx="132120" cy="9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933240" y="5172840"/>
              <a:ext cx="14040" cy="136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947640" y="5176440"/>
              <a:ext cx="15840" cy="12600"/>
            </a:xfrm>
            <a:custGeom>
              <a:avLst/>
              <a:gdLst/>
              <a:ahLst/>
              <a:rect l="l" t="t" r="r" b="b"/>
              <a:pathLst>
                <a:path w="97" h="76">
                  <a:moveTo>
                    <a:pt x="0" y="0"/>
                  </a:moveTo>
                  <a:lnTo>
                    <a:pt x="42" y="0"/>
                  </a:lnTo>
                  <a:lnTo>
                    <a:pt x="69" y="10"/>
                  </a:lnTo>
                  <a:lnTo>
                    <a:pt x="97" y="10"/>
                  </a:lnTo>
                  <a:lnTo>
                    <a:pt x="97" y="66"/>
                  </a:lnTo>
                  <a:lnTo>
                    <a:pt x="67" y="66"/>
                  </a:lnTo>
                  <a:lnTo>
                    <a:pt x="43" y="76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768360" y="520416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731280" y="5166000"/>
              <a:ext cx="6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801480" y="5147640"/>
              <a:ext cx="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864480" y="4946760"/>
              <a:ext cx="102960" cy="316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807240" y="4946760"/>
              <a:ext cx="54360" cy="30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807600" y="5251320"/>
              <a:ext cx="54360" cy="30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813000" y="5254920"/>
              <a:ext cx="41760" cy="22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813360" y="4951080"/>
              <a:ext cx="41760" cy="22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819840" y="4950720"/>
              <a:ext cx="27720" cy="430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784200" y="5141880"/>
              <a:ext cx="15840" cy="9000"/>
            </a:xfrm>
            <a:prstGeom prst="rect">
              <a:avLst/>
            </a:prstGeom>
            <a:solidFill>
              <a:srgbClr val="0099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056360" y="5019840"/>
              <a:ext cx="15840" cy="129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044480" y="5046480"/>
              <a:ext cx="15840" cy="129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7068960" y="5355720"/>
            <a:ext cx="370080" cy="466920"/>
            <a:chOff x="7068960" y="5355720"/>
            <a:chExt cx="370080" cy="466920"/>
          </a:xfrm>
        </p:grpSpPr>
        <p:sp>
          <p:nvSpPr>
            <p:cNvPr id="763" name=""/>
            <p:cNvSpPr/>
            <p:nvPr/>
          </p:nvSpPr>
          <p:spPr>
            <a:xfrm rot="10800000">
              <a:off x="7159680" y="5550840"/>
              <a:ext cx="277560" cy="195120"/>
            </a:xfrm>
            <a:custGeom>
              <a:avLst/>
              <a:gdLst/>
              <a:ahLst/>
              <a:rect l="l" t="t" r="r" b="b"/>
              <a:pathLst>
                <a:path w="1684" h="1180">
                  <a:moveTo>
                    <a:pt x="1206" y="252"/>
                  </a:moveTo>
                  <a:lnTo>
                    <a:pt x="1206" y="768"/>
                  </a:lnTo>
                  <a:lnTo>
                    <a:pt x="1395" y="768"/>
                  </a:lnTo>
                  <a:lnTo>
                    <a:pt x="1395" y="879"/>
                  </a:lnTo>
                  <a:lnTo>
                    <a:pt x="1596" y="879"/>
                  </a:lnTo>
                  <a:lnTo>
                    <a:pt x="1596" y="1065"/>
                  </a:lnTo>
                  <a:lnTo>
                    <a:pt x="1683" y="1065"/>
                  </a:lnTo>
                  <a:lnTo>
                    <a:pt x="1683" y="1179"/>
                  </a:lnTo>
                  <a:lnTo>
                    <a:pt x="561" y="1179"/>
                  </a:lnTo>
                  <a:lnTo>
                    <a:pt x="561" y="1125"/>
                  </a:lnTo>
                  <a:lnTo>
                    <a:pt x="381" y="1125"/>
                  </a:lnTo>
                  <a:lnTo>
                    <a:pt x="381" y="1065"/>
                  </a:lnTo>
                  <a:lnTo>
                    <a:pt x="0" y="1065"/>
                  </a:lnTo>
                  <a:lnTo>
                    <a:pt x="0" y="876"/>
                  </a:lnTo>
                  <a:lnTo>
                    <a:pt x="189" y="876"/>
                  </a:lnTo>
                  <a:lnTo>
                    <a:pt x="189" y="786"/>
                  </a:lnTo>
                  <a:lnTo>
                    <a:pt x="213" y="768"/>
                  </a:lnTo>
                  <a:lnTo>
                    <a:pt x="579" y="768"/>
                  </a:lnTo>
                  <a:lnTo>
                    <a:pt x="663" y="636"/>
                  </a:lnTo>
                  <a:lnTo>
                    <a:pt x="663" y="0"/>
                  </a:lnTo>
                  <a:lnTo>
                    <a:pt x="1089" y="0"/>
                  </a:lnTo>
                  <a:lnTo>
                    <a:pt x="1089" y="252"/>
                  </a:lnTo>
                  <a:lnTo>
                    <a:pt x="1206" y="252"/>
                  </a:lnTo>
                </a:path>
              </a:pathLst>
            </a:custGeom>
            <a:solidFill>
              <a:srgbClr val="00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rot="10800000">
              <a:off x="7354080" y="5681880"/>
              <a:ext cx="50040" cy="65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21240" bIns="2124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rot="10800000">
              <a:off x="7068960" y="5537880"/>
              <a:ext cx="32040" cy="229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10800000">
              <a:off x="7231680" y="5704560"/>
              <a:ext cx="26280" cy="45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720" bIns="72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10800000">
              <a:off x="7358400" y="5686560"/>
              <a:ext cx="43920" cy="590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4760" bIns="1476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rot="10800000">
              <a:off x="7342560" y="5771880"/>
              <a:ext cx="78480" cy="280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6200" bIns="-1620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10800000">
              <a:off x="7345080" y="5561280"/>
              <a:ext cx="27720" cy="11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400" bIns="-3240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10800000">
              <a:off x="7097760" y="5709600"/>
              <a:ext cx="147240" cy="7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360" bIns="-3636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rot="10800000">
              <a:off x="7081920" y="5736600"/>
              <a:ext cx="163080" cy="75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720" bIns="-3672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rot="10800000">
              <a:off x="7243200" y="5707080"/>
              <a:ext cx="13680" cy="11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400" bIns="-3240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10800000">
              <a:off x="7242480" y="5734800"/>
              <a:ext cx="14400" cy="11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760" bIns="-3276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rot="10800000">
              <a:off x="7329600" y="5664960"/>
              <a:ext cx="16200" cy="31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2960" bIns="-1296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10800000">
              <a:off x="7330680" y="5665320"/>
              <a:ext cx="11520" cy="302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4040" bIns="-1404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rot="10800000">
              <a:off x="7332840" y="5685840"/>
              <a:ext cx="6480" cy="576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9960" bIns="-3996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rot="10800000">
              <a:off x="7410960" y="5774400"/>
              <a:ext cx="8280" cy="219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2320" bIns="-2232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rot="10800000">
              <a:off x="7400880" y="5778720"/>
              <a:ext cx="7920" cy="136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0600" bIns="-3060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10800000">
              <a:off x="7387560" y="5779800"/>
              <a:ext cx="11880" cy="11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760" bIns="-3276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10800000">
              <a:off x="7353000" y="5775480"/>
              <a:ext cx="17640" cy="20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3760" bIns="-2376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rot="10800000">
              <a:off x="7362720" y="5781960"/>
              <a:ext cx="7560" cy="75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720" bIns="-3672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0800000">
              <a:off x="7372440" y="5782680"/>
              <a:ext cx="13680" cy="57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8520" bIns="-3852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rot="10800000">
              <a:off x="7342560" y="5774760"/>
              <a:ext cx="9360" cy="21960"/>
            </a:xfrm>
            <a:custGeom>
              <a:avLst/>
              <a:gdLst/>
              <a:ahLst/>
              <a:rect l="l" t="t" r="r" b="b"/>
              <a:pathLst>
                <a:path w="58" h="133">
                  <a:moveTo>
                    <a:pt x="0" y="0"/>
                  </a:moveTo>
                  <a:lnTo>
                    <a:pt x="26" y="0"/>
                  </a:lnTo>
                  <a:lnTo>
                    <a:pt x="45" y="7"/>
                  </a:lnTo>
                  <a:lnTo>
                    <a:pt x="56" y="22"/>
                  </a:lnTo>
                  <a:lnTo>
                    <a:pt x="57" y="36"/>
                  </a:lnTo>
                  <a:lnTo>
                    <a:pt x="57" y="106"/>
                  </a:lnTo>
                  <a:lnTo>
                    <a:pt x="51" y="117"/>
                  </a:lnTo>
                  <a:lnTo>
                    <a:pt x="39" y="126"/>
                  </a:lnTo>
                  <a:lnTo>
                    <a:pt x="21" y="132"/>
                  </a:lnTo>
                  <a:lnTo>
                    <a:pt x="0" y="129"/>
                  </a:lnTo>
                  <a:lnTo>
                    <a:pt x="0" y="0"/>
                  </a:lnTo>
                </a:path>
              </a:pathLst>
            </a:custGeom>
            <a:solidFill>
              <a:srgbClr val="00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10800000">
              <a:off x="7326720" y="5725800"/>
              <a:ext cx="42840" cy="5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8880" bIns="-3888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10800000">
              <a:off x="7308360" y="5725440"/>
              <a:ext cx="5400" cy="576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9960" bIns="-3996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0800000">
              <a:off x="7215480" y="5563800"/>
              <a:ext cx="123120" cy="7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360" bIns="-3636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rot="10800000">
              <a:off x="7281000" y="5576040"/>
              <a:ext cx="56520" cy="20520"/>
            </a:xfrm>
            <a:custGeom>
              <a:avLst/>
              <a:gdLst/>
              <a:ahLst/>
              <a:rect l="l" t="t" r="r" b="b"/>
              <a:pathLst>
                <a:path w="343" h="125">
                  <a:moveTo>
                    <a:pt x="19" y="124"/>
                  </a:moveTo>
                  <a:lnTo>
                    <a:pt x="324" y="124"/>
                  </a:lnTo>
                  <a:lnTo>
                    <a:pt x="342" y="114"/>
                  </a:lnTo>
                  <a:lnTo>
                    <a:pt x="342" y="15"/>
                  </a:lnTo>
                  <a:lnTo>
                    <a:pt x="327" y="0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111"/>
                  </a:lnTo>
                  <a:lnTo>
                    <a:pt x="19" y="124"/>
                  </a:lnTo>
                </a:path>
              </a:pathLst>
            </a:custGeom>
            <a:solidFill>
              <a:srgbClr val="00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10800000">
              <a:off x="7216200" y="5552640"/>
              <a:ext cx="122400" cy="75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720" bIns="-3672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10800000">
              <a:off x="7339680" y="5552280"/>
              <a:ext cx="2880" cy="468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2520" bIns="252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10800000">
              <a:off x="7211160" y="5552280"/>
              <a:ext cx="2880" cy="460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800" bIns="180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rot="10800000">
              <a:off x="7211520" y="5599800"/>
              <a:ext cx="130680" cy="2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41400" bIns="-4140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0800000">
              <a:off x="7211160" y="5604120"/>
              <a:ext cx="130680" cy="7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360" bIns="-3636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10800000">
              <a:off x="7194600" y="5557320"/>
              <a:ext cx="15120" cy="172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7000" bIns="-2700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10800000">
              <a:off x="7196760" y="5581440"/>
              <a:ext cx="12600" cy="122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040" bIns="-3204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0800000">
              <a:off x="7180200" y="5578200"/>
              <a:ext cx="15840" cy="12600"/>
            </a:xfrm>
            <a:custGeom>
              <a:avLst/>
              <a:gdLst/>
              <a:ahLst/>
              <a:rect l="l" t="t" r="r" b="b"/>
              <a:pathLst>
                <a:path w="98" h="77">
                  <a:moveTo>
                    <a:pt x="0" y="0"/>
                  </a:moveTo>
                  <a:lnTo>
                    <a:pt x="42" y="0"/>
                  </a:lnTo>
                  <a:lnTo>
                    <a:pt x="69" y="10"/>
                  </a:lnTo>
                  <a:lnTo>
                    <a:pt x="97" y="10"/>
                  </a:lnTo>
                  <a:lnTo>
                    <a:pt x="97" y="66"/>
                  </a:lnTo>
                  <a:lnTo>
                    <a:pt x="67" y="66"/>
                  </a:lnTo>
                  <a:lnTo>
                    <a:pt x="43" y="76"/>
                  </a:lnTo>
                  <a:lnTo>
                    <a:pt x="0" y="76"/>
                  </a:lnTo>
                  <a:lnTo>
                    <a:pt x="0" y="0"/>
                  </a:lnTo>
                </a:path>
              </a:pathLst>
            </a:custGeom>
            <a:solidFill>
              <a:srgbClr val="00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7344000" y="556308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7342920" y="5601240"/>
              <a:ext cx="6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rot="10800000">
              <a:off x="7337520" y="5355720"/>
              <a:ext cx="101520" cy="302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4040" bIns="-1404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rot="10800000">
              <a:off x="7282800" y="5763600"/>
              <a:ext cx="52920" cy="320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2240" bIns="-1224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10800000">
              <a:off x="7281720" y="5452560"/>
              <a:ext cx="52920" cy="291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5120" bIns="-1512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rot="10800000">
              <a:off x="7288920" y="5457240"/>
              <a:ext cx="40320" cy="20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3400" bIns="-2340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rot="10800000">
              <a:off x="7289280" y="5767200"/>
              <a:ext cx="40320" cy="230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1240" bIns="-2124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rot="10800000">
              <a:off x="7296120" y="5361480"/>
              <a:ext cx="26280" cy="4611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10800000">
              <a:off x="7072560" y="5734080"/>
              <a:ext cx="14400" cy="11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760" bIns="-3276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rot="10800000">
              <a:off x="7084440" y="5707800"/>
              <a:ext cx="14400" cy="11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760" bIns="-3276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10800000">
              <a:off x="7282800" y="5356800"/>
              <a:ext cx="52920" cy="291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5120" bIns="-1512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rot="10800000">
              <a:off x="7289280" y="5360400"/>
              <a:ext cx="40320" cy="20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3400" bIns="-2340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7179120" y="4898880"/>
            <a:ext cx="371160" cy="466560"/>
            <a:chOff x="7179120" y="4898880"/>
            <a:chExt cx="371160" cy="466560"/>
          </a:xfrm>
        </p:grpSpPr>
        <p:sp>
          <p:nvSpPr>
            <p:cNvPr id="809" name=""/>
            <p:cNvSpPr/>
            <p:nvPr/>
          </p:nvSpPr>
          <p:spPr>
            <a:xfrm>
              <a:off x="7180920" y="4975200"/>
              <a:ext cx="278640" cy="195120"/>
            </a:xfrm>
            <a:custGeom>
              <a:avLst/>
              <a:gdLst/>
              <a:ahLst/>
              <a:rect l="l" t="t" r="r" b="b"/>
              <a:pathLst>
                <a:path w="1684" h="1180">
                  <a:moveTo>
                    <a:pt x="1206" y="252"/>
                  </a:moveTo>
                  <a:lnTo>
                    <a:pt x="1206" y="768"/>
                  </a:lnTo>
                  <a:lnTo>
                    <a:pt x="1395" y="768"/>
                  </a:lnTo>
                  <a:lnTo>
                    <a:pt x="1395" y="879"/>
                  </a:lnTo>
                  <a:lnTo>
                    <a:pt x="1596" y="879"/>
                  </a:lnTo>
                  <a:lnTo>
                    <a:pt x="1596" y="1065"/>
                  </a:lnTo>
                  <a:lnTo>
                    <a:pt x="1683" y="1065"/>
                  </a:lnTo>
                  <a:lnTo>
                    <a:pt x="1683" y="1179"/>
                  </a:lnTo>
                  <a:lnTo>
                    <a:pt x="561" y="1179"/>
                  </a:lnTo>
                  <a:lnTo>
                    <a:pt x="561" y="1125"/>
                  </a:lnTo>
                  <a:lnTo>
                    <a:pt x="381" y="1125"/>
                  </a:lnTo>
                  <a:lnTo>
                    <a:pt x="381" y="1065"/>
                  </a:lnTo>
                  <a:lnTo>
                    <a:pt x="0" y="1065"/>
                  </a:lnTo>
                  <a:lnTo>
                    <a:pt x="0" y="876"/>
                  </a:lnTo>
                  <a:lnTo>
                    <a:pt x="189" y="876"/>
                  </a:lnTo>
                  <a:lnTo>
                    <a:pt x="189" y="786"/>
                  </a:lnTo>
                  <a:lnTo>
                    <a:pt x="213" y="768"/>
                  </a:lnTo>
                  <a:lnTo>
                    <a:pt x="579" y="768"/>
                  </a:lnTo>
                  <a:lnTo>
                    <a:pt x="663" y="636"/>
                  </a:lnTo>
                  <a:lnTo>
                    <a:pt x="663" y="0"/>
                  </a:lnTo>
                  <a:lnTo>
                    <a:pt x="1089" y="0"/>
                  </a:lnTo>
                  <a:lnTo>
                    <a:pt x="1089" y="252"/>
                  </a:lnTo>
                  <a:lnTo>
                    <a:pt x="1206" y="252"/>
                  </a:lnTo>
                </a:path>
              </a:pathLst>
            </a:custGeom>
            <a:solidFill>
              <a:srgbClr val="00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214400" y="4974120"/>
              <a:ext cx="50040" cy="65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21240" bIns="212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517880" y="4954680"/>
              <a:ext cx="32400" cy="229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361280" y="4972320"/>
              <a:ext cx="26280" cy="45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720" bIns="72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216200" y="4975560"/>
              <a:ext cx="44280" cy="590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4760" bIns="147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97480" y="4921560"/>
              <a:ext cx="78840" cy="280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6200" bIns="-162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246080" y="5148720"/>
              <a:ext cx="27720" cy="11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400" bIns="-324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374240" y="5004360"/>
              <a:ext cx="147960" cy="75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720" bIns="-3672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374240" y="4977000"/>
              <a:ext cx="163800" cy="7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360" bIns="-363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362000" y="5002920"/>
              <a:ext cx="13680" cy="11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400" bIns="-324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361640" y="4974840"/>
              <a:ext cx="14400" cy="11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760" bIns="-327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273080" y="5025600"/>
              <a:ext cx="16200" cy="31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2960" bIns="-129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276320" y="5025600"/>
              <a:ext cx="11520" cy="302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4040" bIns="-140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279200" y="5029920"/>
              <a:ext cx="6480" cy="576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9960" bIns="-399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199640" y="4925160"/>
              <a:ext cx="8280" cy="219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2320" bIns="-2232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209360" y="4928760"/>
              <a:ext cx="8280" cy="136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0600" bIns="-306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219080" y="4929840"/>
              <a:ext cx="11880" cy="11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760" bIns="-327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247520" y="4925880"/>
              <a:ext cx="18000" cy="20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3760" bIns="-237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248600" y="4931640"/>
              <a:ext cx="7560" cy="7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360" bIns="-363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232400" y="4933440"/>
              <a:ext cx="14040" cy="57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8520" bIns="-3852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266240" y="4925160"/>
              <a:ext cx="9360" cy="21960"/>
            </a:xfrm>
            <a:custGeom>
              <a:avLst/>
              <a:gdLst/>
              <a:ahLst/>
              <a:rect l="l" t="t" r="r" b="b"/>
              <a:pathLst>
                <a:path w="58" h="133">
                  <a:moveTo>
                    <a:pt x="0" y="0"/>
                  </a:moveTo>
                  <a:lnTo>
                    <a:pt x="26" y="0"/>
                  </a:lnTo>
                  <a:lnTo>
                    <a:pt x="45" y="7"/>
                  </a:lnTo>
                  <a:lnTo>
                    <a:pt x="56" y="22"/>
                  </a:lnTo>
                  <a:lnTo>
                    <a:pt x="57" y="36"/>
                  </a:lnTo>
                  <a:lnTo>
                    <a:pt x="57" y="106"/>
                  </a:lnTo>
                  <a:lnTo>
                    <a:pt x="51" y="117"/>
                  </a:lnTo>
                  <a:lnTo>
                    <a:pt x="39" y="126"/>
                  </a:lnTo>
                  <a:lnTo>
                    <a:pt x="21" y="132"/>
                  </a:lnTo>
                  <a:lnTo>
                    <a:pt x="0" y="129"/>
                  </a:lnTo>
                  <a:lnTo>
                    <a:pt x="0" y="0"/>
                  </a:lnTo>
                </a:path>
              </a:pathLst>
            </a:custGeom>
            <a:solidFill>
              <a:srgbClr val="00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232760" y="4988880"/>
              <a:ext cx="14760" cy="82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000" bIns="-360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249320" y="4990680"/>
              <a:ext cx="42840" cy="5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8880" bIns="-388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304760" y="4990320"/>
              <a:ext cx="5760" cy="576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9960" bIns="-399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279920" y="5149800"/>
              <a:ext cx="123840" cy="7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360" bIns="-363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281720" y="5124960"/>
              <a:ext cx="56520" cy="20520"/>
            </a:xfrm>
            <a:custGeom>
              <a:avLst/>
              <a:gdLst/>
              <a:ahLst/>
              <a:rect l="l" t="t" r="r" b="b"/>
              <a:pathLst>
                <a:path w="343" h="125">
                  <a:moveTo>
                    <a:pt x="19" y="124"/>
                  </a:moveTo>
                  <a:lnTo>
                    <a:pt x="324" y="124"/>
                  </a:lnTo>
                  <a:lnTo>
                    <a:pt x="342" y="114"/>
                  </a:lnTo>
                  <a:lnTo>
                    <a:pt x="342" y="15"/>
                  </a:lnTo>
                  <a:lnTo>
                    <a:pt x="327" y="0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111"/>
                  </a:lnTo>
                  <a:lnTo>
                    <a:pt x="19" y="124"/>
                  </a:lnTo>
                </a:path>
              </a:pathLst>
            </a:custGeom>
            <a:solidFill>
              <a:srgbClr val="00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275960" y="5122440"/>
              <a:ext cx="2880" cy="468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2520" bIns="252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405200" y="5123160"/>
              <a:ext cx="2880" cy="460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800" bIns="1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276320" y="5118840"/>
              <a:ext cx="131400" cy="2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41400" bIns="-414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276680" y="5109120"/>
              <a:ext cx="131040" cy="7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360" bIns="-363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409520" y="5146560"/>
              <a:ext cx="15480" cy="172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7000" bIns="-270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409880" y="5127840"/>
              <a:ext cx="12600" cy="12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1680" bIns="-316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423200" y="5131080"/>
              <a:ext cx="16200" cy="12600"/>
            </a:xfrm>
            <a:custGeom>
              <a:avLst/>
              <a:gdLst/>
              <a:ahLst/>
              <a:rect l="l" t="t" r="r" b="b"/>
              <a:pathLst>
                <a:path w="98" h="77">
                  <a:moveTo>
                    <a:pt x="0" y="0"/>
                  </a:moveTo>
                  <a:lnTo>
                    <a:pt x="42" y="0"/>
                  </a:lnTo>
                  <a:lnTo>
                    <a:pt x="69" y="10"/>
                  </a:lnTo>
                  <a:lnTo>
                    <a:pt x="97" y="10"/>
                  </a:lnTo>
                  <a:lnTo>
                    <a:pt x="97" y="66"/>
                  </a:lnTo>
                  <a:lnTo>
                    <a:pt x="67" y="66"/>
                  </a:lnTo>
                  <a:lnTo>
                    <a:pt x="43" y="76"/>
                  </a:lnTo>
                  <a:lnTo>
                    <a:pt x="0" y="76"/>
                  </a:lnTo>
                  <a:lnTo>
                    <a:pt x="0" y="0"/>
                  </a:lnTo>
                </a:path>
              </a:pathLst>
            </a:custGeom>
            <a:solidFill>
              <a:srgbClr val="00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243920" y="515808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206480" y="5119920"/>
              <a:ext cx="6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276680" y="5102280"/>
              <a:ext cx="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179120" y="5335200"/>
              <a:ext cx="101880" cy="302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4040" bIns="-140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282440" y="4926240"/>
              <a:ext cx="53280" cy="320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2240" bIns="-122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283520" y="5240160"/>
              <a:ext cx="53280" cy="291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5120" bIns="-1512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289280" y="5243400"/>
              <a:ext cx="40680" cy="20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3400" bIns="-234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288920" y="4930920"/>
              <a:ext cx="40680" cy="230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1240" bIns="-212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296120" y="4898880"/>
              <a:ext cx="26640" cy="4611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260480" y="5096880"/>
              <a:ext cx="14400" cy="7920"/>
            </a:xfrm>
            <a:prstGeom prst="rect">
              <a:avLst/>
            </a:prstGeom>
            <a:solidFill>
              <a:srgbClr val="0099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360" bIns="-363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532640" y="4975560"/>
              <a:ext cx="14400" cy="11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760" bIns="-327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520760" y="5001840"/>
              <a:ext cx="14400" cy="11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760" bIns="-327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282440" y="5335920"/>
              <a:ext cx="53280" cy="291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5120" bIns="-1512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288920" y="5340240"/>
              <a:ext cx="40680" cy="20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3400" bIns="-234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7521480" y="5376960"/>
            <a:ext cx="430200" cy="449280"/>
            <a:chOff x="7521480" y="5376960"/>
            <a:chExt cx="430200" cy="449280"/>
          </a:xfrm>
        </p:grpSpPr>
        <p:sp>
          <p:nvSpPr>
            <p:cNvPr id="857" name=""/>
            <p:cNvSpPr/>
            <p:nvPr/>
          </p:nvSpPr>
          <p:spPr>
            <a:xfrm>
              <a:off x="7671600" y="5461920"/>
              <a:ext cx="280080" cy="195840"/>
            </a:xfrm>
            <a:custGeom>
              <a:avLst/>
              <a:gdLst/>
              <a:ahLst/>
              <a:rect l="l" t="t" r="r" b="b"/>
              <a:pathLst>
                <a:path w="1684" h="1180">
                  <a:moveTo>
                    <a:pt x="1206" y="252"/>
                  </a:moveTo>
                  <a:lnTo>
                    <a:pt x="1206" y="768"/>
                  </a:lnTo>
                  <a:lnTo>
                    <a:pt x="1395" y="768"/>
                  </a:lnTo>
                  <a:lnTo>
                    <a:pt x="1395" y="879"/>
                  </a:lnTo>
                  <a:lnTo>
                    <a:pt x="1596" y="879"/>
                  </a:lnTo>
                  <a:lnTo>
                    <a:pt x="1596" y="1065"/>
                  </a:lnTo>
                  <a:lnTo>
                    <a:pt x="1683" y="1065"/>
                  </a:lnTo>
                  <a:lnTo>
                    <a:pt x="1683" y="1179"/>
                  </a:lnTo>
                  <a:lnTo>
                    <a:pt x="561" y="1179"/>
                  </a:lnTo>
                  <a:lnTo>
                    <a:pt x="561" y="1125"/>
                  </a:lnTo>
                  <a:lnTo>
                    <a:pt x="381" y="1125"/>
                  </a:lnTo>
                  <a:lnTo>
                    <a:pt x="381" y="1065"/>
                  </a:lnTo>
                  <a:lnTo>
                    <a:pt x="0" y="1065"/>
                  </a:lnTo>
                  <a:lnTo>
                    <a:pt x="0" y="876"/>
                  </a:lnTo>
                  <a:lnTo>
                    <a:pt x="189" y="876"/>
                  </a:lnTo>
                  <a:lnTo>
                    <a:pt x="189" y="786"/>
                  </a:lnTo>
                  <a:lnTo>
                    <a:pt x="213" y="768"/>
                  </a:lnTo>
                  <a:lnTo>
                    <a:pt x="579" y="768"/>
                  </a:lnTo>
                  <a:lnTo>
                    <a:pt x="663" y="636"/>
                  </a:lnTo>
                  <a:lnTo>
                    <a:pt x="663" y="0"/>
                  </a:lnTo>
                  <a:lnTo>
                    <a:pt x="1089" y="0"/>
                  </a:lnTo>
                  <a:lnTo>
                    <a:pt x="1089" y="252"/>
                  </a:lnTo>
                  <a:lnTo>
                    <a:pt x="1206" y="252"/>
                  </a:lnTo>
                </a:path>
              </a:pathLst>
            </a:custGeom>
            <a:solidFill>
              <a:srgbClr val="00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704720" y="5460840"/>
              <a:ext cx="50400" cy="65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21600" bIns="216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521480" y="5438880"/>
              <a:ext cx="32400" cy="230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852320" y="5458320"/>
              <a:ext cx="26280" cy="453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080" bIns="1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707600" y="5464080"/>
              <a:ext cx="44280" cy="59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5120" bIns="1512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687440" y="5407920"/>
              <a:ext cx="79560" cy="284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5840" bIns="-158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736760" y="5635800"/>
              <a:ext cx="28080" cy="11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400" bIns="-324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525440" y="5592960"/>
              <a:ext cx="8640" cy="147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9520" bIns="-2952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539120" y="5595840"/>
              <a:ext cx="15480" cy="11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400" bIns="-324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556760" y="5597640"/>
              <a:ext cx="128880" cy="7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360" bIns="-363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539840" y="5576400"/>
              <a:ext cx="129960" cy="100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4200" bIns="-342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676280" y="5477040"/>
              <a:ext cx="7920" cy="93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691040" y="5505120"/>
              <a:ext cx="7920" cy="867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2480" bIns="424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702560" y="5490720"/>
              <a:ext cx="148680" cy="7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360" bIns="-363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686720" y="5462640"/>
              <a:ext cx="164880" cy="7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360" bIns="-363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853400" y="5489280"/>
              <a:ext cx="14040" cy="11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400" bIns="-324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853400" y="5461560"/>
              <a:ext cx="14400" cy="11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760" bIns="-327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674480" y="5460840"/>
              <a:ext cx="10440" cy="151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9160" bIns="-291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689960" y="5488200"/>
              <a:ext cx="10080" cy="15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8440" bIns="-284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670160" y="5571720"/>
              <a:ext cx="14400" cy="15840"/>
            </a:xfrm>
            <a:custGeom>
              <a:avLst/>
              <a:gdLst/>
              <a:ahLst/>
              <a:rect l="l" t="t" r="r" b="b"/>
              <a:pathLst>
                <a:path w="87" h="96">
                  <a:moveTo>
                    <a:pt x="86" y="95"/>
                  </a:moveTo>
                  <a:lnTo>
                    <a:pt x="0" y="95"/>
                  </a:lnTo>
                  <a:lnTo>
                    <a:pt x="0" y="22"/>
                  </a:lnTo>
                  <a:lnTo>
                    <a:pt x="25" y="0"/>
                  </a:lnTo>
                  <a:lnTo>
                    <a:pt x="86" y="0"/>
                  </a:lnTo>
                  <a:lnTo>
                    <a:pt x="86" y="95"/>
                  </a:lnTo>
                </a:path>
              </a:pathLst>
            </a:custGeom>
            <a:solidFill>
              <a:srgbClr val="00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686360" y="5592960"/>
              <a:ext cx="14040" cy="14760"/>
            </a:xfrm>
            <a:custGeom>
              <a:avLst/>
              <a:gdLst/>
              <a:ahLst/>
              <a:rect l="l" t="t" r="r" b="b"/>
              <a:pathLst>
                <a:path w="85" h="90">
                  <a:moveTo>
                    <a:pt x="84" y="89"/>
                  </a:moveTo>
                  <a:lnTo>
                    <a:pt x="0" y="89"/>
                  </a:lnTo>
                  <a:lnTo>
                    <a:pt x="0" y="20"/>
                  </a:lnTo>
                  <a:lnTo>
                    <a:pt x="25" y="0"/>
                  </a:lnTo>
                  <a:lnTo>
                    <a:pt x="84" y="0"/>
                  </a:lnTo>
                  <a:lnTo>
                    <a:pt x="84" y="89"/>
                  </a:lnTo>
                </a:path>
              </a:pathLst>
            </a:custGeom>
            <a:solidFill>
              <a:srgbClr val="00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524720" y="5575680"/>
              <a:ext cx="14760" cy="16560"/>
            </a:xfrm>
            <a:custGeom>
              <a:avLst/>
              <a:gdLst/>
              <a:ahLst/>
              <a:rect l="l" t="t" r="r" b="b"/>
              <a:pathLst>
                <a:path w="90" h="100">
                  <a:moveTo>
                    <a:pt x="0" y="99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67"/>
                  </a:lnTo>
                  <a:lnTo>
                    <a:pt x="60" y="99"/>
                  </a:lnTo>
                  <a:lnTo>
                    <a:pt x="0" y="99"/>
                  </a:lnTo>
                </a:path>
              </a:pathLst>
            </a:custGeom>
            <a:solidFill>
              <a:srgbClr val="00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763400" y="5511960"/>
              <a:ext cx="16560" cy="31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2960" bIns="-129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767360" y="5512680"/>
              <a:ext cx="11520" cy="302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4040" bIns="-140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770240" y="5516640"/>
              <a:ext cx="6480" cy="576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9960" bIns="-399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689600" y="5411160"/>
              <a:ext cx="8640" cy="219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2320" bIns="-2232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700040" y="5415120"/>
              <a:ext cx="8280" cy="136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0600" bIns="-306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709400" y="5416200"/>
              <a:ext cx="12240" cy="11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760" bIns="-327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738560" y="5411520"/>
              <a:ext cx="18000" cy="20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3760" bIns="-237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738920" y="5418360"/>
              <a:ext cx="7920" cy="7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360" bIns="-363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723080" y="5419440"/>
              <a:ext cx="14040" cy="61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8160" bIns="-381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757280" y="5411160"/>
              <a:ext cx="9360" cy="21960"/>
            </a:xfrm>
            <a:custGeom>
              <a:avLst/>
              <a:gdLst/>
              <a:ahLst/>
              <a:rect l="l" t="t" r="r" b="b"/>
              <a:pathLst>
                <a:path w="58" h="133">
                  <a:moveTo>
                    <a:pt x="0" y="0"/>
                  </a:moveTo>
                  <a:lnTo>
                    <a:pt x="26" y="0"/>
                  </a:lnTo>
                  <a:lnTo>
                    <a:pt x="45" y="7"/>
                  </a:lnTo>
                  <a:lnTo>
                    <a:pt x="56" y="22"/>
                  </a:lnTo>
                  <a:lnTo>
                    <a:pt x="57" y="36"/>
                  </a:lnTo>
                  <a:lnTo>
                    <a:pt x="57" y="106"/>
                  </a:lnTo>
                  <a:lnTo>
                    <a:pt x="51" y="117"/>
                  </a:lnTo>
                  <a:lnTo>
                    <a:pt x="39" y="126"/>
                  </a:lnTo>
                  <a:lnTo>
                    <a:pt x="21" y="132"/>
                  </a:lnTo>
                  <a:lnTo>
                    <a:pt x="0" y="129"/>
                  </a:lnTo>
                  <a:lnTo>
                    <a:pt x="0" y="0"/>
                  </a:lnTo>
                </a:path>
              </a:pathLst>
            </a:custGeom>
            <a:solidFill>
              <a:srgbClr val="00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723080" y="5475600"/>
              <a:ext cx="15120" cy="82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000" bIns="-360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739640" y="5476680"/>
              <a:ext cx="43200" cy="5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8880" bIns="-388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796160" y="5476680"/>
              <a:ext cx="5760" cy="612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9600" bIns="-396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770960" y="5637240"/>
              <a:ext cx="124560" cy="7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360" bIns="-363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772040" y="5612040"/>
              <a:ext cx="56880" cy="20520"/>
            </a:xfrm>
            <a:custGeom>
              <a:avLst/>
              <a:gdLst/>
              <a:ahLst/>
              <a:rect l="l" t="t" r="r" b="b"/>
              <a:pathLst>
                <a:path w="343" h="125">
                  <a:moveTo>
                    <a:pt x="19" y="124"/>
                  </a:moveTo>
                  <a:lnTo>
                    <a:pt x="324" y="124"/>
                  </a:lnTo>
                  <a:lnTo>
                    <a:pt x="342" y="114"/>
                  </a:lnTo>
                  <a:lnTo>
                    <a:pt x="342" y="15"/>
                  </a:lnTo>
                  <a:lnTo>
                    <a:pt x="327" y="0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111"/>
                  </a:lnTo>
                  <a:lnTo>
                    <a:pt x="19" y="124"/>
                  </a:lnTo>
                </a:path>
              </a:pathLst>
            </a:custGeom>
            <a:solidFill>
              <a:srgbClr val="00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770960" y="5648760"/>
              <a:ext cx="123480" cy="7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360" bIns="-363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767000" y="5609520"/>
              <a:ext cx="2880" cy="471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2880" bIns="28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896600" y="5610240"/>
              <a:ext cx="2880" cy="464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2160" bIns="21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767360" y="5605920"/>
              <a:ext cx="132120" cy="2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41400" bIns="-414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767360" y="5596560"/>
              <a:ext cx="131760" cy="7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360" bIns="-363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901280" y="5634000"/>
              <a:ext cx="15480" cy="172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7000" bIns="-270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901280" y="5615280"/>
              <a:ext cx="12960" cy="12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1680" bIns="-316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914960" y="5617800"/>
              <a:ext cx="16200" cy="12600"/>
            </a:xfrm>
            <a:custGeom>
              <a:avLst/>
              <a:gdLst/>
              <a:ahLst/>
              <a:rect l="l" t="t" r="r" b="b"/>
              <a:pathLst>
                <a:path w="98" h="77">
                  <a:moveTo>
                    <a:pt x="0" y="0"/>
                  </a:moveTo>
                  <a:lnTo>
                    <a:pt x="42" y="0"/>
                  </a:lnTo>
                  <a:lnTo>
                    <a:pt x="69" y="10"/>
                  </a:lnTo>
                  <a:lnTo>
                    <a:pt x="97" y="10"/>
                  </a:lnTo>
                  <a:lnTo>
                    <a:pt x="97" y="66"/>
                  </a:lnTo>
                  <a:lnTo>
                    <a:pt x="67" y="66"/>
                  </a:lnTo>
                  <a:lnTo>
                    <a:pt x="43" y="76"/>
                  </a:lnTo>
                  <a:lnTo>
                    <a:pt x="0" y="76"/>
                  </a:lnTo>
                  <a:lnTo>
                    <a:pt x="0" y="0"/>
                  </a:lnTo>
                </a:path>
              </a:pathLst>
            </a:custGeom>
            <a:solidFill>
              <a:srgbClr val="00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734960" y="5645520"/>
              <a:ext cx="3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97160" y="5607360"/>
              <a:ext cx="6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767720" y="5589360"/>
              <a:ext cx="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72320" y="5795640"/>
              <a:ext cx="102240" cy="30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3680" bIns="-136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774560" y="5795640"/>
              <a:ext cx="53280" cy="29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4760" bIns="-147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774920" y="5693400"/>
              <a:ext cx="53280" cy="29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4760" bIns="-147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780320" y="5697360"/>
              <a:ext cx="40680" cy="20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3400" bIns="-234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781040" y="5800320"/>
              <a:ext cx="40680" cy="20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3400" bIns="-234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787520" y="5376960"/>
              <a:ext cx="26640" cy="4212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774560" y="5405040"/>
              <a:ext cx="53280" cy="29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4760" bIns="-147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780320" y="5410080"/>
              <a:ext cx="40680" cy="20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3400" bIns="-234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7674120" y="4946760"/>
            <a:ext cx="370800" cy="434880"/>
            <a:chOff x="7674120" y="4946760"/>
            <a:chExt cx="370800" cy="434880"/>
          </a:xfrm>
        </p:grpSpPr>
        <p:sp>
          <p:nvSpPr>
            <p:cNvPr id="914" name=""/>
            <p:cNvSpPr/>
            <p:nvPr/>
          </p:nvSpPr>
          <p:spPr>
            <a:xfrm>
              <a:off x="7674120" y="5020560"/>
              <a:ext cx="279360" cy="195840"/>
            </a:xfrm>
            <a:custGeom>
              <a:avLst/>
              <a:gdLst/>
              <a:ahLst/>
              <a:rect l="l" t="t" r="r" b="b"/>
              <a:pathLst>
                <a:path w="1683" h="1179">
                  <a:moveTo>
                    <a:pt x="1206" y="252"/>
                  </a:moveTo>
                  <a:lnTo>
                    <a:pt x="1206" y="768"/>
                  </a:lnTo>
                  <a:lnTo>
                    <a:pt x="1395" y="768"/>
                  </a:lnTo>
                  <a:lnTo>
                    <a:pt x="1395" y="879"/>
                  </a:lnTo>
                  <a:lnTo>
                    <a:pt x="1596" y="879"/>
                  </a:lnTo>
                  <a:lnTo>
                    <a:pt x="1596" y="1065"/>
                  </a:lnTo>
                  <a:lnTo>
                    <a:pt x="1683" y="1065"/>
                  </a:lnTo>
                  <a:lnTo>
                    <a:pt x="1683" y="1179"/>
                  </a:lnTo>
                  <a:lnTo>
                    <a:pt x="561" y="1179"/>
                  </a:lnTo>
                  <a:lnTo>
                    <a:pt x="561" y="1125"/>
                  </a:lnTo>
                  <a:lnTo>
                    <a:pt x="381" y="1125"/>
                  </a:lnTo>
                  <a:lnTo>
                    <a:pt x="381" y="1065"/>
                  </a:lnTo>
                  <a:lnTo>
                    <a:pt x="0" y="1065"/>
                  </a:lnTo>
                  <a:lnTo>
                    <a:pt x="0" y="876"/>
                  </a:lnTo>
                  <a:lnTo>
                    <a:pt x="189" y="876"/>
                  </a:lnTo>
                  <a:lnTo>
                    <a:pt x="189" y="786"/>
                  </a:lnTo>
                  <a:lnTo>
                    <a:pt x="213" y="768"/>
                  </a:lnTo>
                  <a:lnTo>
                    <a:pt x="579" y="768"/>
                  </a:lnTo>
                  <a:lnTo>
                    <a:pt x="663" y="636"/>
                  </a:lnTo>
                  <a:lnTo>
                    <a:pt x="663" y="0"/>
                  </a:lnTo>
                  <a:lnTo>
                    <a:pt x="1089" y="0"/>
                  </a:lnTo>
                  <a:lnTo>
                    <a:pt x="1089" y="252"/>
                  </a:lnTo>
                  <a:lnTo>
                    <a:pt x="1206" y="252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706160" y="5018400"/>
              <a:ext cx="51480" cy="67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011440" y="4998600"/>
              <a:ext cx="33480" cy="231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853760" y="5015880"/>
              <a:ext cx="27720" cy="468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708320" y="5019840"/>
              <a:ext cx="45720" cy="60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689240" y="4965480"/>
              <a:ext cx="80640" cy="29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738200" y="5193360"/>
              <a:ext cx="29160" cy="13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871760" y="5048280"/>
              <a:ext cx="149760" cy="9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871760" y="5021280"/>
              <a:ext cx="165600" cy="9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854840" y="5046840"/>
              <a:ext cx="15120" cy="13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854840" y="5019480"/>
              <a:ext cx="15840" cy="129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765200" y="5069880"/>
              <a:ext cx="17640" cy="327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768800" y="5070240"/>
              <a:ext cx="12960" cy="316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771680" y="5074560"/>
              <a:ext cx="7920" cy="720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691400" y="4968720"/>
              <a:ext cx="9720" cy="23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701840" y="4972680"/>
              <a:ext cx="9360" cy="151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711200" y="4974120"/>
              <a:ext cx="13320" cy="129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740360" y="4969440"/>
              <a:ext cx="19080" cy="219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740720" y="4975920"/>
              <a:ext cx="9000" cy="9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724520" y="4977000"/>
              <a:ext cx="15120" cy="72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759440" y="4969440"/>
              <a:ext cx="9360" cy="21600"/>
            </a:xfrm>
            <a:custGeom>
              <a:avLst/>
              <a:gdLst/>
              <a:ahLst/>
              <a:rect l="l" t="t" r="r" b="b"/>
              <a:pathLst>
                <a:path w="57" h="132">
                  <a:moveTo>
                    <a:pt x="0" y="0"/>
                  </a:moveTo>
                  <a:lnTo>
                    <a:pt x="26" y="0"/>
                  </a:lnTo>
                  <a:lnTo>
                    <a:pt x="45" y="7"/>
                  </a:lnTo>
                  <a:lnTo>
                    <a:pt x="56" y="22"/>
                  </a:lnTo>
                  <a:lnTo>
                    <a:pt x="57" y="36"/>
                  </a:lnTo>
                  <a:lnTo>
                    <a:pt x="57" y="106"/>
                  </a:lnTo>
                  <a:lnTo>
                    <a:pt x="51" y="117"/>
                  </a:lnTo>
                  <a:lnTo>
                    <a:pt x="39" y="126"/>
                  </a:lnTo>
                  <a:lnTo>
                    <a:pt x="21" y="132"/>
                  </a:lnTo>
                  <a:lnTo>
                    <a:pt x="0" y="1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724880" y="5033160"/>
              <a:ext cx="16200" cy="93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741080" y="5034600"/>
              <a:ext cx="44640" cy="64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797600" y="5034240"/>
              <a:ext cx="6840" cy="720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772400" y="5195160"/>
              <a:ext cx="125640" cy="9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774200" y="5170320"/>
              <a:ext cx="56520" cy="20520"/>
            </a:xfrm>
            <a:custGeom>
              <a:avLst/>
              <a:gdLst/>
              <a:ahLst/>
              <a:rect l="l" t="t" r="r" b="b"/>
              <a:pathLst>
                <a:path w="342" h="124">
                  <a:moveTo>
                    <a:pt x="19" y="124"/>
                  </a:moveTo>
                  <a:lnTo>
                    <a:pt x="324" y="124"/>
                  </a:lnTo>
                  <a:lnTo>
                    <a:pt x="342" y="114"/>
                  </a:lnTo>
                  <a:lnTo>
                    <a:pt x="342" y="15"/>
                  </a:lnTo>
                  <a:lnTo>
                    <a:pt x="327" y="0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111"/>
                  </a:lnTo>
                  <a:lnTo>
                    <a:pt x="19" y="124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772400" y="5206320"/>
              <a:ext cx="124560" cy="9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768440" y="5167440"/>
              <a:ext cx="4320" cy="482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898040" y="5168160"/>
              <a:ext cx="4320" cy="47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768800" y="5163480"/>
              <a:ext cx="132840" cy="4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769160" y="5154480"/>
              <a:ext cx="132840" cy="9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902360" y="5172840"/>
              <a:ext cx="14040" cy="136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916760" y="5176440"/>
              <a:ext cx="15840" cy="12600"/>
            </a:xfrm>
            <a:custGeom>
              <a:avLst/>
              <a:gdLst/>
              <a:ahLst/>
              <a:rect l="l" t="t" r="r" b="b"/>
              <a:pathLst>
                <a:path w="97" h="76">
                  <a:moveTo>
                    <a:pt x="0" y="0"/>
                  </a:moveTo>
                  <a:lnTo>
                    <a:pt x="42" y="0"/>
                  </a:lnTo>
                  <a:lnTo>
                    <a:pt x="69" y="10"/>
                  </a:lnTo>
                  <a:lnTo>
                    <a:pt x="97" y="10"/>
                  </a:lnTo>
                  <a:lnTo>
                    <a:pt x="97" y="66"/>
                  </a:lnTo>
                  <a:lnTo>
                    <a:pt x="67" y="66"/>
                  </a:lnTo>
                  <a:lnTo>
                    <a:pt x="43" y="76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737120" y="520416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99680" y="5166000"/>
              <a:ext cx="6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770240" y="5147640"/>
              <a:ext cx="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833600" y="4946760"/>
              <a:ext cx="103320" cy="316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776360" y="4946760"/>
              <a:ext cx="54720" cy="30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776720" y="5251320"/>
              <a:ext cx="54720" cy="30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781760" y="5254920"/>
              <a:ext cx="42120" cy="22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782480" y="4951080"/>
              <a:ext cx="42120" cy="22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788960" y="4950720"/>
              <a:ext cx="27720" cy="430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752960" y="5141880"/>
              <a:ext cx="15840" cy="9000"/>
            </a:xfrm>
            <a:prstGeom prst="rect">
              <a:avLst/>
            </a:prstGeom>
            <a:solidFill>
              <a:srgbClr val="0099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8025840" y="5019840"/>
              <a:ext cx="15840" cy="129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013960" y="5046480"/>
              <a:ext cx="15840" cy="129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8012160" y="5355720"/>
            <a:ext cx="371520" cy="466920"/>
            <a:chOff x="8012160" y="5355720"/>
            <a:chExt cx="371520" cy="466920"/>
          </a:xfrm>
        </p:grpSpPr>
        <p:sp>
          <p:nvSpPr>
            <p:cNvPr id="960" name=""/>
            <p:cNvSpPr/>
            <p:nvPr/>
          </p:nvSpPr>
          <p:spPr>
            <a:xfrm rot="10800000">
              <a:off x="8103240" y="5550840"/>
              <a:ext cx="278640" cy="195120"/>
            </a:xfrm>
            <a:custGeom>
              <a:avLst/>
              <a:gdLst/>
              <a:ahLst/>
              <a:rect l="l" t="t" r="r" b="b"/>
              <a:pathLst>
                <a:path w="1684" h="1180">
                  <a:moveTo>
                    <a:pt x="1206" y="252"/>
                  </a:moveTo>
                  <a:lnTo>
                    <a:pt x="1206" y="768"/>
                  </a:lnTo>
                  <a:lnTo>
                    <a:pt x="1395" y="768"/>
                  </a:lnTo>
                  <a:lnTo>
                    <a:pt x="1395" y="879"/>
                  </a:lnTo>
                  <a:lnTo>
                    <a:pt x="1596" y="879"/>
                  </a:lnTo>
                  <a:lnTo>
                    <a:pt x="1596" y="1065"/>
                  </a:lnTo>
                  <a:lnTo>
                    <a:pt x="1683" y="1065"/>
                  </a:lnTo>
                  <a:lnTo>
                    <a:pt x="1683" y="1179"/>
                  </a:lnTo>
                  <a:lnTo>
                    <a:pt x="561" y="1179"/>
                  </a:lnTo>
                  <a:lnTo>
                    <a:pt x="561" y="1125"/>
                  </a:lnTo>
                  <a:lnTo>
                    <a:pt x="381" y="1125"/>
                  </a:lnTo>
                  <a:lnTo>
                    <a:pt x="381" y="1065"/>
                  </a:lnTo>
                  <a:lnTo>
                    <a:pt x="0" y="1065"/>
                  </a:lnTo>
                  <a:lnTo>
                    <a:pt x="0" y="876"/>
                  </a:lnTo>
                  <a:lnTo>
                    <a:pt x="189" y="876"/>
                  </a:lnTo>
                  <a:lnTo>
                    <a:pt x="189" y="786"/>
                  </a:lnTo>
                  <a:lnTo>
                    <a:pt x="213" y="768"/>
                  </a:lnTo>
                  <a:lnTo>
                    <a:pt x="579" y="768"/>
                  </a:lnTo>
                  <a:lnTo>
                    <a:pt x="663" y="636"/>
                  </a:lnTo>
                  <a:lnTo>
                    <a:pt x="663" y="0"/>
                  </a:lnTo>
                  <a:lnTo>
                    <a:pt x="1089" y="0"/>
                  </a:lnTo>
                  <a:lnTo>
                    <a:pt x="1089" y="252"/>
                  </a:lnTo>
                  <a:lnTo>
                    <a:pt x="1206" y="252"/>
                  </a:lnTo>
                </a:path>
              </a:pathLst>
            </a:custGeom>
            <a:solidFill>
              <a:srgbClr val="00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rot="10800000">
              <a:off x="8298720" y="5681880"/>
              <a:ext cx="50040" cy="65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21240" bIns="2124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rot="10800000">
              <a:off x="8012160" y="5537880"/>
              <a:ext cx="32400" cy="229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rot="10800000">
              <a:off x="8175600" y="5704560"/>
              <a:ext cx="26280" cy="45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720" bIns="72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rot="10800000">
              <a:off x="8302680" y="5686560"/>
              <a:ext cx="44280" cy="590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4760" bIns="1476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rot="10800000">
              <a:off x="8286840" y="5771880"/>
              <a:ext cx="78840" cy="280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6200" bIns="-1620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rot="10800000">
              <a:off x="8289360" y="5561280"/>
              <a:ext cx="27720" cy="11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400" bIns="-3240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rot="10800000">
              <a:off x="8040960" y="5709600"/>
              <a:ext cx="147960" cy="7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360" bIns="-3636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rot="10800000">
              <a:off x="8025120" y="5736600"/>
              <a:ext cx="163800" cy="75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720" bIns="-3672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rot="10800000">
              <a:off x="8186760" y="5707080"/>
              <a:ext cx="14040" cy="11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400" bIns="-3240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rot="10800000">
              <a:off x="8186400" y="5734800"/>
              <a:ext cx="14400" cy="11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760" bIns="-3276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rot="10800000">
              <a:off x="8273880" y="5664960"/>
              <a:ext cx="16200" cy="31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2960" bIns="-1296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rot="10800000">
              <a:off x="8274960" y="5665320"/>
              <a:ext cx="11520" cy="302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4040" bIns="-1404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rot="10800000">
              <a:off x="8277120" y="5685840"/>
              <a:ext cx="6480" cy="576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9960" bIns="-3996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rot="10800000">
              <a:off x="8355240" y="5774400"/>
              <a:ext cx="8280" cy="219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2320" bIns="-2232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rot="10800000">
              <a:off x="8345160" y="5778720"/>
              <a:ext cx="8280" cy="136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0600" bIns="-3060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rot="10800000">
              <a:off x="8332200" y="5779800"/>
              <a:ext cx="11880" cy="11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760" bIns="-3276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rot="10800000">
              <a:off x="8296920" y="5775480"/>
              <a:ext cx="18000" cy="20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3760" bIns="-2376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rot="10800000">
              <a:off x="8307000" y="5781960"/>
              <a:ext cx="7560" cy="75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720" bIns="-3672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rot="10800000">
              <a:off x="8316360" y="5782680"/>
              <a:ext cx="14040" cy="57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8520" bIns="-3852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rot="10800000">
              <a:off x="8286840" y="5774760"/>
              <a:ext cx="9360" cy="21960"/>
            </a:xfrm>
            <a:custGeom>
              <a:avLst/>
              <a:gdLst/>
              <a:ahLst/>
              <a:rect l="l" t="t" r="r" b="b"/>
              <a:pathLst>
                <a:path w="58" h="133">
                  <a:moveTo>
                    <a:pt x="0" y="0"/>
                  </a:moveTo>
                  <a:lnTo>
                    <a:pt x="26" y="0"/>
                  </a:lnTo>
                  <a:lnTo>
                    <a:pt x="45" y="7"/>
                  </a:lnTo>
                  <a:lnTo>
                    <a:pt x="56" y="22"/>
                  </a:lnTo>
                  <a:lnTo>
                    <a:pt x="57" y="36"/>
                  </a:lnTo>
                  <a:lnTo>
                    <a:pt x="57" y="106"/>
                  </a:lnTo>
                  <a:lnTo>
                    <a:pt x="51" y="117"/>
                  </a:lnTo>
                  <a:lnTo>
                    <a:pt x="39" y="126"/>
                  </a:lnTo>
                  <a:lnTo>
                    <a:pt x="21" y="132"/>
                  </a:lnTo>
                  <a:lnTo>
                    <a:pt x="0" y="129"/>
                  </a:lnTo>
                  <a:lnTo>
                    <a:pt x="0" y="0"/>
                  </a:lnTo>
                </a:path>
              </a:pathLst>
            </a:custGeom>
            <a:solidFill>
              <a:srgbClr val="00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rot="10800000">
              <a:off x="8271360" y="5725800"/>
              <a:ext cx="42840" cy="5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8880" bIns="-3888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rot="10800000">
              <a:off x="8252280" y="5725440"/>
              <a:ext cx="5760" cy="576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9960" bIns="-3996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rot="10800000">
              <a:off x="8159040" y="5563800"/>
              <a:ext cx="123840" cy="7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360" bIns="-3636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10800000">
              <a:off x="8224920" y="5576040"/>
              <a:ext cx="56520" cy="20520"/>
            </a:xfrm>
            <a:custGeom>
              <a:avLst/>
              <a:gdLst/>
              <a:ahLst/>
              <a:rect l="l" t="t" r="r" b="b"/>
              <a:pathLst>
                <a:path w="343" h="125">
                  <a:moveTo>
                    <a:pt x="19" y="124"/>
                  </a:moveTo>
                  <a:lnTo>
                    <a:pt x="324" y="124"/>
                  </a:lnTo>
                  <a:lnTo>
                    <a:pt x="342" y="114"/>
                  </a:lnTo>
                  <a:lnTo>
                    <a:pt x="342" y="15"/>
                  </a:lnTo>
                  <a:lnTo>
                    <a:pt x="327" y="0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111"/>
                  </a:lnTo>
                  <a:lnTo>
                    <a:pt x="19" y="124"/>
                  </a:lnTo>
                </a:path>
              </a:pathLst>
            </a:custGeom>
            <a:solidFill>
              <a:srgbClr val="00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rot="10800000">
              <a:off x="8160120" y="5552640"/>
              <a:ext cx="122760" cy="75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720" bIns="-3672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rot="10800000">
              <a:off x="8283960" y="5552280"/>
              <a:ext cx="2880" cy="468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2520" bIns="252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rot="10800000">
              <a:off x="8155080" y="5552280"/>
              <a:ext cx="2880" cy="460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800" bIns="180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rot="10800000">
              <a:off x="8155080" y="5599800"/>
              <a:ext cx="131400" cy="2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41400" bIns="-4140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rot="10800000">
              <a:off x="8155080" y="5604120"/>
              <a:ext cx="131040" cy="7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360" bIns="-3636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rot="10800000">
              <a:off x="8137800" y="5557320"/>
              <a:ext cx="15480" cy="172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7000" bIns="-2700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rot="10800000">
              <a:off x="8140680" y="5581440"/>
              <a:ext cx="12600" cy="122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040" bIns="-3204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rot="10800000">
              <a:off x="8123400" y="5578200"/>
              <a:ext cx="16200" cy="12600"/>
            </a:xfrm>
            <a:custGeom>
              <a:avLst/>
              <a:gdLst/>
              <a:ahLst/>
              <a:rect l="l" t="t" r="r" b="b"/>
              <a:pathLst>
                <a:path w="98" h="77">
                  <a:moveTo>
                    <a:pt x="0" y="0"/>
                  </a:moveTo>
                  <a:lnTo>
                    <a:pt x="42" y="0"/>
                  </a:lnTo>
                  <a:lnTo>
                    <a:pt x="69" y="10"/>
                  </a:lnTo>
                  <a:lnTo>
                    <a:pt x="97" y="10"/>
                  </a:lnTo>
                  <a:lnTo>
                    <a:pt x="97" y="66"/>
                  </a:lnTo>
                  <a:lnTo>
                    <a:pt x="67" y="66"/>
                  </a:lnTo>
                  <a:lnTo>
                    <a:pt x="43" y="76"/>
                  </a:lnTo>
                  <a:lnTo>
                    <a:pt x="0" y="76"/>
                  </a:lnTo>
                  <a:lnTo>
                    <a:pt x="0" y="0"/>
                  </a:lnTo>
                </a:path>
              </a:pathLst>
            </a:custGeom>
            <a:solidFill>
              <a:srgbClr val="00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8288280" y="556308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8286840" y="5601240"/>
              <a:ext cx="6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rot="10800000">
              <a:off x="8281800" y="5355720"/>
              <a:ext cx="101880" cy="302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4040" bIns="-1404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rot="10800000">
              <a:off x="8226720" y="5763600"/>
              <a:ext cx="53280" cy="320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2240" bIns="-1224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rot="10800000">
              <a:off x="8225640" y="5452560"/>
              <a:ext cx="53280" cy="291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5120" bIns="-1512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rot="10800000">
              <a:off x="8232840" y="5457240"/>
              <a:ext cx="40680" cy="20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3400" bIns="-2340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rot="10800000">
              <a:off x="8233200" y="5767200"/>
              <a:ext cx="40680" cy="230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1240" bIns="-2124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rot="10800000">
              <a:off x="8240040" y="5361480"/>
              <a:ext cx="26640" cy="4611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rot="10800000">
              <a:off x="8015760" y="5734080"/>
              <a:ext cx="14400" cy="11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760" bIns="-3276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rot="10800000">
              <a:off x="8027640" y="5707800"/>
              <a:ext cx="14400" cy="11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760" bIns="-3276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rot="10800000">
              <a:off x="8226720" y="5356800"/>
              <a:ext cx="53280" cy="291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5120" bIns="-1512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rot="10800000">
              <a:off x="8233200" y="5360400"/>
              <a:ext cx="40680" cy="20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3400" bIns="-2340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5" name=""/>
          <p:cNvGrpSpPr/>
          <p:nvPr/>
        </p:nvGrpSpPr>
        <p:grpSpPr>
          <a:xfrm>
            <a:off x="8105400" y="4914720"/>
            <a:ext cx="430200" cy="433080"/>
            <a:chOff x="8105400" y="4914720"/>
            <a:chExt cx="430200" cy="433080"/>
          </a:xfrm>
        </p:grpSpPr>
        <p:sp>
          <p:nvSpPr>
            <p:cNvPr id="1006" name=""/>
            <p:cNvSpPr/>
            <p:nvPr/>
          </p:nvSpPr>
          <p:spPr>
            <a:xfrm rot="10800000">
              <a:off x="8105400" y="5079240"/>
              <a:ext cx="279720" cy="195120"/>
            </a:xfrm>
            <a:custGeom>
              <a:avLst/>
              <a:gdLst/>
              <a:ahLst/>
              <a:rect l="l" t="t" r="r" b="b"/>
              <a:pathLst>
                <a:path w="1683" h="1179">
                  <a:moveTo>
                    <a:pt x="1206" y="252"/>
                  </a:moveTo>
                  <a:lnTo>
                    <a:pt x="1206" y="768"/>
                  </a:lnTo>
                  <a:lnTo>
                    <a:pt x="1395" y="768"/>
                  </a:lnTo>
                  <a:lnTo>
                    <a:pt x="1395" y="879"/>
                  </a:lnTo>
                  <a:lnTo>
                    <a:pt x="1596" y="879"/>
                  </a:lnTo>
                  <a:lnTo>
                    <a:pt x="1596" y="1065"/>
                  </a:lnTo>
                  <a:lnTo>
                    <a:pt x="1683" y="1065"/>
                  </a:lnTo>
                  <a:lnTo>
                    <a:pt x="1683" y="1179"/>
                  </a:lnTo>
                  <a:lnTo>
                    <a:pt x="561" y="1179"/>
                  </a:lnTo>
                  <a:lnTo>
                    <a:pt x="561" y="1125"/>
                  </a:lnTo>
                  <a:lnTo>
                    <a:pt x="381" y="1125"/>
                  </a:lnTo>
                  <a:lnTo>
                    <a:pt x="381" y="1065"/>
                  </a:lnTo>
                  <a:lnTo>
                    <a:pt x="0" y="1065"/>
                  </a:lnTo>
                  <a:lnTo>
                    <a:pt x="0" y="876"/>
                  </a:lnTo>
                  <a:lnTo>
                    <a:pt x="189" y="876"/>
                  </a:lnTo>
                  <a:lnTo>
                    <a:pt x="189" y="786"/>
                  </a:lnTo>
                  <a:lnTo>
                    <a:pt x="213" y="768"/>
                  </a:lnTo>
                  <a:lnTo>
                    <a:pt x="579" y="768"/>
                  </a:lnTo>
                  <a:lnTo>
                    <a:pt x="663" y="636"/>
                  </a:lnTo>
                  <a:lnTo>
                    <a:pt x="663" y="0"/>
                  </a:lnTo>
                  <a:lnTo>
                    <a:pt x="1089" y="0"/>
                  </a:lnTo>
                  <a:lnTo>
                    <a:pt x="1089" y="252"/>
                  </a:lnTo>
                  <a:lnTo>
                    <a:pt x="1206" y="252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rot="10800000">
              <a:off x="8300880" y="5209560"/>
              <a:ext cx="51840" cy="669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rot="10800000">
              <a:off x="8501760" y="5067720"/>
              <a:ext cx="33840" cy="2307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rot="10800000">
              <a:off x="8177400" y="5232600"/>
              <a:ext cx="27720" cy="464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rot="10800000">
              <a:off x="8304120" y="5212440"/>
              <a:ext cx="45720" cy="604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rot="10800000">
              <a:off x="8289000" y="5299560"/>
              <a:ext cx="80640" cy="29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rot="10800000">
              <a:off x="8291520" y="5088600"/>
              <a:ext cx="29160" cy="13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rot="10800000">
              <a:off x="8521920" y="5128560"/>
              <a:ext cx="9720" cy="162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rot="10800000">
              <a:off x="8501040" y="5128560"/>
              <a:ext cx="16920" cy="13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rot="10800000">
              <a:off x="8370720" y="5131080"/>
              <a:ext cx="129960" cy="9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rot="10800000">
              <a:off x="8386200" y="5150160"/>
              <a:ext cx="131040" cy="111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rot="10800000">
              <a:off x="8372160" y="5165280"/>
              <a:ext cx="9000" cy="946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rot="10800000">
              <a:off x="8357040" y="5144400"/>
              <a:ext cx="9000" cy="87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rot="10800000">
              <a:off x="8204760" y="5237640"/>
              <a:ext cx="150120" cy="9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rot="10800000">
              <a:off x="8204760" y="5265360"/>
              <a:ext cx="165960" cy="9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rot="10800000">
              <a:off x="8188920" y="5234760"/>
              <a:ext cx="15120" cy="13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rot="10800000">
              <a:off x="8188200" y="5262840"/>
              <a:ext cx="15840" cy="12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rot="10800000">
              <a:off x="8372160" y="5149800"/>
              <a:ext cx="14040" cy="15480"/>
            </a:xfrm>
            <a:custGeom>
              <a:avLst/>
              <a:gdLst/>
              <a:ahLst/>
              <a:rect l="l" t="t" r="r" b="b"/>
              <a:pathLst>
                <a:path w="93" h="102">
                  <a:moveTo>
                    <a:pt x="93" y="102"/>
                  </a:moveTo>
                  <a:lnTo>
                    <a:pt x="0" y="102"/>
                  </a:lnTo>
                  <a:lnTo>
                    <a:pt x="0" y="24"/>
                  </a:lnTo>
                  <a:lnTo>
                    <a:pt x="28" y="0"/>
                  </a:lnTo>
                  <a:lnTo>
                    <a:pt x="93" y="0"/>
                  </a:lnTo>
                  <a:lnTo>
                    <a:pt x="93" y="102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rot="10800000">
              <a:off x="8356680" y="5129640"/>
              <a:ext cx="13680" cy="14400"/>
            </a:xfrm>
            <a:custGeom>
              <a:avLst/>
              <a:gdLst/>
              <a:ahLst/>
              <a:rect l="l" t="t" r="r" b="b"/>
              <a:pathLst>
                <a:path w="93" h="102">
                  <a:moveTo>
                    <a:pt x="93" y="102"/>
                  </a:moveTo>
                  <a:lnTo>
                    <a:pt x="0" y="102"/>
                  </a:lnTo>
                  <a:lnTo>
                    <a:pt x="0" y="24"/>
                  </a:lnTo>
                  <a:lnTo>
                    <a:pt x="28" y="0"/>
                  </a:lnTo>
                  <a:lnTo>
                    <a:pt x="93" y="0"/>
                  </a:lnTo>
                  <a:lnTo>
                    <a:pt x="93" y="102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rot="10800000">
              <a:off x="8516880" y="5145120"/>
              <a:ext cx="14760" cy="16200"/>
            </a:xfrm>
            <a:custGeom>
              <a:avLst/>
              <a:gdLst/>
              <a:ahLst/>
              <a:rect l="l" t="t" r="r" b="b"/>
              <a:pathLst>
                <a:path w="89" h="99">
                  <a:moveTo>
                    <a:pt x="0" y="99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67"/>
                  </a:lnTo>
                  <a:lnTo>
                    <a:pt x="60" y="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rot="10800000">
              <a:off x="8276040" y="5192640"/>
              <a:ext cx="17640" cy="327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rot="10800000">
              <a:off x="8277120" y="5193000"/>
              <a:ext cx="12960" cy="316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rot="10800000">
              <a:off x="8279280" y="5213520"/>
              <a:ext cx="7920" cy="720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rot="10800000">
              <a:off x="8358120" y="5302440"/>
              <a:ext cx="9720" cy="23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rot="10800000">
              <a:off x="8348040" y="5307120"/>
              <a:ext cx="9360" cy="147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rot="10800000">
              <a:off x="8334720" y="5308200"/>
              <a:ext cx="13320" cy="12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rot="10800000">
              <a:off x="8299440" y="5303160"/>
              <a:ext cx="19440" cy="219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rot="10800000">
              <a:off x="8309160" y="5309640"/>
              <a:ext cx="9000" cy="9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10800000">
              <a:off x="8319240" y="5310360"/>
              <a:ext cx="15120" cy="72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rot="10800000">
              <a:off x="8290080" y="5303520"/>
              <a:ext cx="9360" cy="21600"/>
            </a:xfrm>
            <a:custGeom>
              <a:avLst/>
              <a:gdLst/>
              <a:ahLst/>
              <a:rect l="l" t="t" r="r" b="b"/>
              <a:pathLst>
                <a:path w="57" h="132">
                  <a:moveTo>
                    <a:pt x="0" y="0"/>
                  </a:moveTo>
                  <a:lnTo>
                    <a:pt x="26" y="0"/>
                  </a:lnTo>
                  <a:lnTo>
                    <a:pt x="45" y="7"/>
                  </a:lnTo>
                  <a:lnTo>
                    <a:pt x="56" y="22"/>
                  </a:lnTo>
                  <a:lnTo>
                    <a:pt x="57" y="36"/>
                  </a:lnTo>
                  <a:lnTo>
                    <a:pt x="57" y="106"/>
                  </a:lnTo>
                  <a:lnTo>
                    <a:pt x="51" y="117"/>
                  </a:lnTo>
                  <a:lnTo>
                    <a:pt x="39" y="126"/>
                  </a:lnTo>
                  <a:lnTo>
                    <a:pt x="21" y="132"/>
                  </a:lnTo>
                  <a:lnTo>
                    <a:pt x="0" y="1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rot="10800000">
              <a:off x="8318160" y="5252400"/>
              <a:ext cx="16200" cy="93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rot="10800000">
              <a:off x="8273160" y="5253840"/>
              <a:ext cx="44640" cy="64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rot="10800000">
              <a:off x="8254440" y="5253480"/>
              <a:ext cx="6840" cy="720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rot="10800000">
              <a:off x="8160840" y="5091480"/>
              <a:ext cx="125640" cy="9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rot="10800000">
              <a:off x="8228160" y="5104440"/>
              <a:ext cx="56520" cy="20520"/>
            </a:xfrm>
            <a:custGeom>
              <a:avLst/>
              <a:gdLst/>
              <a:ahLst/>
              <a:rect l="l" t="t" r="r" b="b"/>
              <a:pathLst>
                <a:path w="342" h="124">
                  <a:moveTo>
                    <a:pt x="19" y="124"/>
                  </a:moveTo>
                  <a:lnTo>
                    <a:pt x="324" y="124"/>
                  </a:lnTo>
                  <a:lnTo>
                    <a:pt x="342" y="114"/>
                  </a:lnTo>
                  <a:lnTo>
                    <a:pt x="342" y="15"/>
                  </a:lnTo>
                  <a:lnTo>
                    <a:pt x="327" y="0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111"/>
                  </a:lnTo>
                  <a:lnTo>
                    <a:pt x="19" y="124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rot="10800000">
              <a:off x="8161920" y="5080320"/>
              <a:ext cx="124560" cy="9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rot="10800000">
              <a:off x="8286120" y="5079960"/>
              <a:ext cx="4320" cy="482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rot="10800000">
              <a:off x="8156520" y="5079960"/>
              <a:ext cx="4320" cy="47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rot="10800000">
              <a:off x="8156880" y="5127480"/>
              <a:ext cx="133200" cy="4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rot="10800000">
              <a:off x="8156880" y="5131800"/>
              <a:ext cx="132840" cy="9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rot="10800000">
              <a:off x="8139240" y="5085000"/>
              <a:ext cx="16920" cy="187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rot="10800000">
              <a:off x="8142120" y="5108760"/>
              <a:ext cx="14040" cy="136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rot="10800000">
              <a:off x="8123760" y="5108760"/>
              <a:ext cx="18000" cy="14400"/>
            </a:xfrm>
            <a:custGeom>
              <a:avLst/>
              <a:gdLst/>
              <a:ahLst/>
              <a:rect l="l" t="t" r="r" b="b"/>
              <a:pathLst>
                <a:path w="97" h="76">
                  <a:moveTo>
                    <a:pt x="0" y="0"/>
                  </a:moveTo>
                  <a:lnTo>
                    <a:pt x="42" y="0"/>
                  </a:lnTo>
                  <a:lnTo>
                    <a:pt x="69" y="10"/>
                  </a:lnTo>
                  <a:lnTo>
                    <a:pt x="97" y="10"/>
                  </a:lnTo>
                  <a:lnTo>
                    <a:pt x="97" y="66"/>
                  </a:lnTo>
                  <a:lnTo>
                    <a:pt x="67" y="66"/>
                  </a:lnTo>
                  <a:lnTo>
                    <a:pt x="43" y="76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8291160" y="5091480"/>
              <a:ext cx="3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8289720" y="5129640"/>
              <a:ext cx="6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V="1">
              <a:off x="8289000" y="5141520"/>
              <a:ext cx="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rot="10800000">
              <a:off x="8121600" y="5316120"/>
              <a:ext cx="103680" cy="316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rot="10800000">
              <a:off x="8227800" y="5317200"/>
              <a:ext cx="54720" cy="30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rot="10800000">
              <a:off x="8227440" y="5013720"/>
              <a:ext cx="54720" cy="30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rot="10800000">
              <a:off x="8235000" y="5018400"/>
              <a:ext cx="42120" cy="22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rot="10800000">
              <a:off x="8234280" y="5321160"/>
              <a:ext cx="42120" cy="22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rot="10800000">
              <a:off x="8241840" y="4914720"/>
              <a:ext cx="28080" cy="4291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rot="10800000">
              <a:off x="8290080" y="5144400"/>
              <a:ext cx="15840" cy="9000"/>
            </a:xfrm>
            <a:prstGeom prst="rect">
              <a:avLst/>
            </a:prstGeom>
            <a:solidFill>
              <a:srgbClr val="0099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8358480" y="5254920"/>
              <a:ext cx="4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8412120" y="5373720"/>
            <a:ext cx="430200" cy="449280"/>
            <a:chOff x="8412120" y="5373720"/>
            <a:chExt cx="430200" cy="449280"/>
          </a:xfrm>
        </p:grpSpPr>
        <p:sp>
          <p:nvSpPr>
            <p:cNvPr id="1061" name=""/>
            <p:cNvSpPr/>
            <p:nvPr/>
          </p:nvSpPr>
          <p:spPr>
            <a:xfrm>
              <a:off x="8562240" y="5458680"/>
              <a:ext cx="280080" cy="195840"/>
            </a:xfrm>
            <a:custGeom>
              <a:avLst/>
              <a:gdLst/>
              <a:ahLst/>
              <a:rect l="l" t="t" r="r" b="b"/>
              <a:pathLst>
                <a:path w="1684" h="1180">
                  <a:moveTo>
                    <a:pt x="1206" y="252"/>
                  </a:moveTo>
                  <a:lnTo>
                    <a:pt x="1206" y="768"/>
                  </a:lnTo>
                  <a:lnTo>
                    <a:pt x="1395" y="768"/>
                  </a:lnTo>
                  <a:lnTo>
                    <a:pt x="1395" y="879"/>
                  </a:lnTo>
                  <a:lnTo>
                    <a:pt x="1596" y="879"/>
                  </a:lnTo>
                  <a:lnTo>
                    <a:pt x="1596" y="1065"/>
                  </a:lnTo>
                  <a:lnTo>
                    <a:pt x="1683" y="1065"/>
                  </a:lnTo>
                  <a:lnTo>
                    <a:pt x="1683" y="1179"/>
                  </a:lnTo>
                  <a:lnTo>
                    <a:pt x="561" y="1179"/>
                  </a:lnTo>
                  <a:lnTo>
                    <a:pt x="561" y="1125"/>
                  </a:lnTo>
                  <a:lnTo>
                    <a:pt x="381" y="1125"/>
                  </a:lnTo>
                  <a:lnTo>
                    <a:pt x="381" y="1065"/>
                  </a:lnTo>
                  <a:lnTo>
                    <a:pt x="0" y="1065"/>
                  </a:lnTo>
                  <a:lnTo>
                    <a:pt x="0" y="876"/>
                  </a:lnTo>
                  <a:lnTo>
                    <a:pt x="189" y="876"/>
                  </a:lnTo>
                  <a:lnTo>
                    <a:pt x="189" y="786"/>
                  </a:lnTo>
                  <a:lnTo>
                    <a:pt x="213" y="768"/>
                  </a:lnTo>
                  <a:lnTo>
                    <a:pt x="579" y="768"/>
                  </a:lnTo>
                  <a:lnTo>
                    <a:pt x="663" y="636"/>
                  </a:lnTo>
                  <a:lnTo>
                    <a:pt x="663" y="0"/>
                  </a:lnTo>
                  <a:lnTo>
                    <a:pt x="1089" y="0"/>
                  </a:lnTo>
                  <a:lnTo>
                    <a:pt x="1089" y="252"/>
                  </a:lnTo>
                  <a:lnTo>
                    <a:pt x="1206" y="252"/>
                  </a:lnTo>
                </a:path>
              </a:pathLst>
            </a:custGeom>
            <a:solidFill>
              <a:srgbClr val="00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595360" y="5457600"/>
              <a:ext cx="50400" cy="65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21600" bIns="216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8412120" y="5435640"/>
              <a:ext cx="32400" cy="230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8742960" y="5455080"/>
              <a:ext cx="26280" cy="453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080" bIns="1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8598240" y="5460840"/>
              <a:ext cx="44280" cy="59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5120" bIns="1512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8578080" y="5404680"/>
              <a:ext cx="79560" cy="284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5840" bIns="-158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8627400" y="5632560"/>
              <a:ext cx="28080" cy="11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400" bIns="-324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8416080" y="5589720"/>
              <a:ext cx="8640" cy="147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9520" bIns="-2952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8429760" y="5592600"/>
              <a:ext cx="15480" cy="11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400" bIns="-324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8447400" y="5594400"/>
              <a:ext cx="128880" cy="7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360" bIns="-363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8430480" y="5573160"/>
              <a:ext cx="129960" cy="100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4200" bIns="-342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8566920" y="5473800"/>
              <a:ext cx="7920" cy="93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8581680" y="5501880"/>
              <a:ext cx="7920" cy="867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2480" bIns="424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8593200" y="5487480"/>
              <a:ext cx="148680" cy="7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360" bIns="-363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8577360" y="5459400"/>
              <a:ext cx="164880" cy="7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360" bIns="-363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8744040" y="5486040"/>
              <a:ext cx="14040" cy="11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400" bIns="-324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8744040" y="5458320"/>
              <a:ext cx="14400" cy="11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760" bIns="-327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8565120" y="5457600"/>
              <a:ext cx="10440" cy="151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9160" bIns="-291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8580600" y="5484960"/>
              <a:ext cx="10080" cy="15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8440" bIns="-284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60800" y="5568480"/>
              <a:ext cx="14400" cy="15840"/>
            </a:xfrm>
            <a:custGeom>
              <a:avLst/>
              <a:gdLst/>
              <a:ahLst/>
              <a:rect l="l" t="t" r="r" b="b"/>
              <a:pathLst>
                <a:path w="87" h="96">
                  <a:moveTo>
                    <a:pt x="86" y="95"/>
                  </a:moveTo>
                  <a:lnTo>
                    <a:pt x="0" y="95"/>
                  </a:lnTo>
                  <a:lnTo>
                    <a:pt x="0" y="22"/>
                  </a:lnTo>
                  <a:lnTo>
                    <a:pt x="25" y="0"/>
                  </a:lnTo>
                  <a:lnTo>
                    <a:pt x="86" y="0"/>
                  </a:lnTo>
                  <a:lnTo>
                    <a:pt x="86" y="95"/>
                  </a:lnTo>
                </a:path>
              </a:pathLst>
            </a:custGeom>
            <a:solidFill>
              <a:srgbClr val="00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77000" y="5589720"/>
              <a:ext cx="14040" cy="14760"/>
            </a:xfrm>
            <a:custGeom>
              <a:avLst/>
              <a:gdLst/>
              <a:ahLst/>
              <a:rect l="l" t="t" r="r" b="b"/>
              <a:pathLst>
                <a:path w="85" h="90">
                  <a:moveTo>
                    <a:pt x="84" y="89"/>
                  </a:moveTo>
                  <a:lnTo>
                    <a:pt x="0" y="89"/>
                  </a:lnTo>
                  <a:lnTo>
                    <a:pt x="0" y="20"/>
                  </a:lnTo>
                  <a:lnTo>
                    <a:pt x="25" y="0"/>
                  </a:lnTo>
                  <a:lnTo>
                    <a:pt x="84" y="0"/>
                  </a:lnTo>
                  <a:lnTo>
                    <a:pt x="84" y="89"/>
                  </a:lnTo>
                </a:path>
              </a:pathLst>
            </a:custGeom>
            <a:solidFill>
              <a:srgbClr val="00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8415360" y="5572440"/>
              <a:ext cx="14760" cy="16560"/>
            </a:xfrm>
            <a:custGeom>
              <a:avLst/>
              <a:gdLst/>
              <a:ahLst/>
              <a:rect l="l" t="t" r="r" b="b"/>
              <a:pathLst>
                <a:path w="90" h="100">
                  <a:moveTo>
                    <a:pt x="0" y="99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67"/>
                  </a:lnTo>
                  <a:lnTo>
                    <a:pt x="60" y="99"/>
                  </a:lnTo>
                  <a:lnTo>
                    <a:pt x="0" y="99"/>
                  </a:lnTo>
                </a:path>
              </a:pathLst>
            </a:custGeom>
            <a:solidFill>
              <a:srgbClr val="00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8654040" y="5508720"/>
              <a:ext cx="16560" cy="31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2960" bIns="-129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8658000" y="5509440"/>
              <a:ext cx="11520" cy="302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4040" bIns="-140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8660880" y="5513400"/>
              <a:ext cx="6480" cy="576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9960" bIns="-399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80240" y="5407920"/>
              <a:ext cx="8640" cy="219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2320" bIns="-2232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5411880"/>
              <a:ext cx="8280" cy="136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0600" bIns="-306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600040" y="5412960"/>
              <a:ext cx="12240" cy="11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760" bIns="-327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8629200" y="5408280"/>
              <a:ext cx="18000" cy="20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3760" bIns="-237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8629560" y="5415120"/>
              <a:ext cx="7920" cy="7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360" bIns="-363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8613720" y="5416200"/>
              <a:ext cx="14040" cy="61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8160" bIns="-381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647920" y="5407920"/>
              <a:ext cx="9360" cy="21960"/>
            </a:xfrm>
            <a:custGeom>
              <a:avLst/>
              <a:gdLst/>
              <a:ahLst/>
              <a:rect l="l" t="t" r="r" b="b"/>
              <a:pathLst>
                <a:path w="58" h="133">
                  <a:moveTo>
                    <a:pt x="0" y="0"/>
                  </a:moveTo>
                  <a:lnTo>
                    <a:pt x="26" y="0"/>
                  </a:lnTo>
                  <a:lnTo>
                    <a:pt x="45" y="7"/>
                  </a:lnTo>
                  <a:lnTo>
                    <a:pt x="56" y="22"/>
                  </a:lnTo>
                  <a:lnTo>
                    <a:pt x="57" y="36"/>
                  </a:lnTo>
                  <a:lnTo>
                    <a:pt x="57" y="106"/>
                  </a:lnTo>
                  <a:lnTo>
                    <a:pt x="51" y="117"/>
                  </a:lnTo>
                  <a:lnTo>
                    <a:pt x="39" y="126"/>
                  </a:lnTo>
                  <a:lnTo>
                    <a:pt x="21" y="132"/>
                  </a:lnTo>
                  <a:lnTo>
                    <a:pt x="0" y="129"/>
                  </a:lnTo>
                  <a:lnTo>
                    <a:pt x="0" y="0"/>
                  </a:lnTo>
                </a:path>
              </a:pathLst>
            </a:custGeom>
            <a:solidFill>
              <a:srgbClr val="00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613720" y="5472360"/>
              <a:ext cx="15120" cy="82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000" bIns="-360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8630280" y="5473440"/>
              <a:ext cx="43200" cy="5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8880" bIns="-388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8686800" y="5473440"/>
              <a:ext cx="5760" cy="612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9600" bIns="-396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8661600" y="5634000"/>
              <a:ext cx="124560" cy="7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360" bIns="-363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8662680" y="5608800"/>
              <a:ext cx="56880" cy="20520"/>
            </a:xfrm>
            <a:custGeom>
              <a:avLst/>
              <a:gdLst/>
              <a:ahLst/>
              <a:rect l="l" t="t" r="r" b="b"/>
              <a:pathLst>
                <a:path w="343" h="125">
                  <a:moveTo>
                    <a:pt x="19" y="124"/>
                  </a:moveTo>
                  <a:lnTo>
                    <a:pt x="324" y="124"/>
                  </a:lnTo>
                  <a:lnTo>
                    <a:pt x="342" y="114"/>
                  </a:lnTo>
                  <a:lnTo>
                    <a:pt x="342" y="15"/>
                  </a:lnTo>
                  <a:lnTo>
                    <a:pt x="327" y="0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111"/>
                  </a:lnTo>
                  <a:lnTo>
                    <a:pt x="19" y="124"/>
                  </a:lnTo>
                </a:path>
              </a:pathLst>
            </a:custGeom>
            <a:solidFill>
              <a:srgbClr val="00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8661600" y="5645520"/>
              <a:ext cx="123480" cy="7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360" bIns="-363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8657640" y="5606280"/>
              <a:ext cx="2880" cy="471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2880" bIns="28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8787240" y="5607000"/>
              <a:ext cx="2880" cy="464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2160" bIns="21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8658000" y="5602680"/>
              <a:ext cx="132120" cy="2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41400" bIns="-414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8658000" y="5593320"/>
              <a:ext cx="131760" cy="7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360" bIns="-363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791920" y="5630760"/>
              <a:ext cx="15480" cy="172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7000" bIns="-270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791920" y="5612040"/>
              <a:ext cx="12960" cy="12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1680" bIns="-316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8805600" y="5614560"/>
              <a:ext cx="16200" cy="12600"/>
            </a:xfrm>
            <a:custGeom>
              <a:avLst/>
              <a:gdLst/>
              <a:ahLst/>
              <a:rect l="l" t="t" r="r" b="b"/>
              <a:pathLst>
                <a:path w="98" h="77">
                  <a:moveTo>
                    <a:pt x="0" y="0"/>
                  </a:moveTo>
                  <a:lnTo>
                    <a:pt x="42" y="0"/>
                  </a:lnTo>
                  <a:lnTo>
                    <a:pt x="69" y="10"/>
                  </a:lnTo>
                  <a:lnTo>
                    <a:pt x="97" y="10"/>
                  </a:lnTo>
                  <a:lnTo>
                    <a:pt x="97" y="66"/>
                  </a:lnTo>
                  <a:lnTo>
                    <a:pt x="67" y="66"/>
                  </a:lnTo>
                  <a:lnTo>
                    <a:pt x="43" y="76"/>
                  </a:lnTo>
                  <a:lnTo>
                    <a:pt x="0" y="76"/>
                  </a:lnTo>
                  <a:lnTo>
                    <a:pt x="0" y="0"/>
                  </a:lnTo>
                </a:path>
              </a:pathLst>
            </a:custGeom>
            <a:solidFill>
              <a:srgbClr val="00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8587800" y="5604120"/>
              <a:ext cx="6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658360" y="5586120"/>
              <a:ext cx="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8562960" y="5792400"/>
              <a:ext cx="102240" cy="30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3680" bIns="-136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665200" y="5792400"/>
              <a:ext cx="53280" cy="29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4760" bIns="-147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665560" y="5690160"/>
              <a:ext cx="53280" cy="29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4760" bIns="-147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670960" y="5694120"/>
              <a:ext cx="40680" cy="20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3400" bIns="-234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8671680" y="5797080"/>
              <a:ext cx="40680" cy="20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3400" bIns="-234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8678160" y="5373720"/>
              <a:ext cx="26640" cy="4212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8642160" y="5581080"/>
              <a:ext cx="14400" cy="7920"/>
            </a:xfrm>
            <a:prstGeom prst="rect">
              <a:avLst/>
            </a:prstGeom>
            <a:solidFill>
              <a:srgbClr val="0099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360" bIns="-363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8539920" y="5478480"/>
              <a:ext cx="4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8665200" y="5401800"/>
              <a:ext cx="53280" cy="29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4760" bIns="-1476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670960" y="5406840"/>
              <a:ext cx="40680" cy="20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3400" bIns="-234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8564400" y="4932360"/>
            <a:ext cx="371520" cy="433440"/>
            <a:chOff x="8564400" y="4932360"/>
            <a:chExt cx="371520" cy="433440"/>
          </a:xfrm>
        </p:grpSpPr>
        <p:sp>
          <p:nvSpPr>
            <p:cNvPr id="1119" name=""/>
            <p:cNvSpPr/>
            <p:nvPr/>
          </p:nvSpPr>
          <p:spPr>
            <a:xfrm>
              <a:off x="8564400" y="5005800"/>
              <a:ext cx="279360" cy="195120"/>
            </a:xfrm>
            <a:custGeom>
              <a:avLst/>
              <a:gdLst/>
              <a:ahLst/>
              <a:rect l="l" t="t" r="r" b="b"/>
              <a:pathLst>
                <a:path w="1683" h="1179">
                  <a:moveTo>
                    <a:pt x="1206" y="252"/>
                  </a:moveTo>
                  <a:lnTo>
                    <a:pt x="1206" y="768"/>
                  </a:lnTo>
                  <a:lnTo>
                    <a:pt x="1395" y="768"/>
                  </a:lnTo>
                  <a:lnTo>
                    <a:pt x="1395" y="879"/>
                  </a:lnTo>
                  <a:lnTo>
                    <a:pt x="1596" y="879"/>
                  </a:lnTo>
                  <a:lnTo>
                    <a:pt x="1596" y="1065"/>
                  </a:lnTo>
                  <a:lnTo>
                    <a:pt x="1683" y="1065"/>
                  </a:lnTo>
                  <a:lnTo>
                    <a:pt x="1683" y="1179"/>
                  </a:lnTo>
                  <a:lnTo>
                    <a:pt x="561" y="1179"/>
                  </a:lnTo>
                  <a:lnTo>
                    <a:pt x="561" y="1125"/>
                  </a:lnTo>
                  <a:lnTo>
                    <a:pt x="381" y="1125"/>
                  </a:lnTo>
                  <a:lnTo>
                    <a:pt x="381" y="1065"/>
                  </a:lnTo>
                  <a:lnTo>
                    <a:pt x="0" y="1065"/>
                  </a:lnTo>
                  <a:lnTo>
                    <a:pt x="0" y="876"/>
                  </a:lnTo>
                  <a:lnTo>
                    <a:pt x="189" y="876"/>
                  </a:lnTo>
                  <a:lnTo>
                    <a:pt x="189" y="786"/>
                  </a:lnTo>
                  <a:lnTo>
                    <a:pt x="213" y="768"/>
                  </a:lnTo>
                  <a:lnTo>
                    <a:pt x="579" y="768"/>
                  </a:lnTo>
                  <a:lnTo>
                    <a:pt x="663" y="636"/>
                  </a:lnTo>
                  <a:lnTo>
                    <a:pt x="663" y="0"/>
                  </a:lnTo>
                  <a:lnTo>
                    <a:pt x="1089" y="0"/>
                  </a:lnTo>
                  <a:lnTo>
                    <a:pt x="1089" y="252"/>
                  </a:lnTo>
                  <a:lnTo>
                    <a:pt x="1206" y="252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8596800" y="5003640"/>
              <a:ext cx="51840" cy="669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8902080" y="4983840"/>
              <a:ext cx="33840" cy="2311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8744040" y="5001120"/>
              <a:ext cx="27720" cy="464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8598600" y="5005080"/>
              <a:ext cx="45720" cy="604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79520" y="4951080"/>
              <a:ext cx="80640" cy="29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628480" y="5178240"/>
              <a:ext cx="29160" cy="13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762040" y="5033520"/>
              <a:ext cx="149760" cy="9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8762040" y="5006880"/>
              <a:ext cx="165960" cy="9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8745120" y="5032080"/>
              <a:ext cx="15120" cy="13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8745120" y="5004720"/>
              <a:ext cx="15840" cy="12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655480" y="5055120"/>
              <a:ext cx="17640" cy="327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659440" y="5055480"/>
              <a:ext cx="12960" cy="316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8661960" y="5059800"/>
              <a:ext cx="7920" cy="720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8581680" y="4954320"/>
              <a:ext cx="9720" cy="23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8592120" y="4958280"/>
              <a:ext cx="9360" cy="147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8601480" y="4959360"/>
              <a:ext cx="13320" cy="12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8630640" y="4955040"/>
              <a:ext cx="19440" cy="219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8631000" y="4961520"/>
              <a:ext cx="9000" cy="9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614800" y="4962600"/>
              <a:ext cx="15120" cy="72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8650080" y="4955040"/>
              <a:ext cx="9360" cy="21600"/>
            </a:xfrm>
            <a:custGeom>
              <a:avLst/>
              <a:gdLst/>
              <a:ahLst/>
              <a:rect l="l" t="t" r="r" b="b"/>
              <a:pathLst>
                <a:path w="57" h="132">
                  <a:moveTo>
                    <a:pt x="0" y="0"/>
                  </a:moveTo>
                  <a:lnTo>
                    <a:pt x="26" y="0"/>
                  </a:lnTo>
                  <a:lnTo>
                    <a:pt x="45" y="7"/>
                  </a:lnTo>
                  <a:lnTo>
                    <a:pt x="56" y="22"/>
                  </a:lnTo>
                  <a:lnTo>
                    <a:pt x="57" y="36"/>
                  </a:lnTo>
                  <a:lnTo>
                    <a:pt x="57" y="106"/>
                  </a:lnTo>
                  <a:lnTo>
                    <a:pt x="51" y="117"/>
                  </a:lnTo>
                  <a:lnTo>
                    <a:pt x="39" y="126"/>
                  </a:lnTo>
                  <a:lnTo>
                    <a:pt x="21" y="132"/>
                  </a:lnTo>
                  <a:lnTo>
                    <a:pt x="0" y="1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615160" y="5018400"/>
              <a:ext cx="16200" cy="93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631360" y="5019840"/>
              <a:ext cx="44640" cy="64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687880" y="5019840"/>
              <a:ext cx="6840" cy="720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662680" y="5179680"/>
              <a:ext cx="125640" cy="9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664840" y="5155200"/>
              <a:ext cx="56520" cy="20520"/>
            </a:xfrm>
            <a:custGeom>
              <a:avLst/>
              <a:gdLst/>
              <a:ahLst/>
              <a:rect l="l" t="t" r="r" b="b"/>
              <a:pathLst>
                <a:path w="342" h="124">
                  <a:moveTo>
                    <a:pt x="19" y="124"/>
                  </a:moveTo>
                  <a:lnTo>
                    <a:pt x="324" y="124"/>
                  </a:lnTo>
                  <a:lnTo>
                    <a:pt x="342" y="114"/>
                  </a:lnTo>
                  <a:lnTo>
                    <a:pt x="342" y="15"/>
                  </a:lnTo>
                  <a:lnTo>
                    <a:pt x="327" y="0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111"/>
                  </a:lnTo>
                  <a:lnTo>
                    <a:pt x="19" y="124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8662680" y="5191200"/>
              <a:ext cx="124560" cy="9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8658720" y="5152320"/>
              <a:ext cx="4320" cy="482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8788320" y="5153040"/>
              <a:ext cx="4320" cy="47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659440" y="5148360"/>
              <a:ext cx="133200" cy="4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659440" y="5139360"/>
              <a:ext cx="132840" cy="9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793000" y="5176800"/>
              <a:ext cx="16920" cy="187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8793000" y="5157720"/>
              <a:ext cx="14040" cy="136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807400" y="5161320"/>
              <a:ext cx="15840" cy="12240"/>
            </a:xfrm>
            <a:custGeom>
              <a:avLst/>
              <a:gdLst/>
              <a:ahLst/>
              <a:rect l="l" t="t" r="r" b="b"/>
              <a:pathLst>
                <a:path w="97" h="76">
                  <a:moveTo>
                    <a:pt x="0" y="0"/>
                  </a:moveTo>
                  <a:lnTo>
                    <a:pt x="42" y="0"/>
                  </a:lnTo>
                  <a:lnTo>
                    <a:pt x="69" y="10"/>
                  </a:lnTo>
                  <a:lnTo>
                    <a:pt x="97" y="10"/>
                  </a:lnTo>
                  <a:lnTo>
                    <a:pt x="97" y="66"/>
                  </a:lnTo>
                  <a:lnTo>
                    <a:pt x="67" y="66"/>
                  </a:lnTo>
                  <a:lnTo>
                    <a:pt x="43" y="76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627400" y="518904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589960" y="5150880"/>
              <a:ext cx="6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660520" y="5132520"/>
              <a:ext cx="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8723880" y="4932360"/>
              <a:ext cx="103680" cy="316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8666640" y="4932360"/>
              <a:ext cx="54720" cy="30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8667000" y="5235840"/>
              <a:ext cx="54720" cy="30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8672400" y="5239800"/>
              <a:ext cx="42120" cy="22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8672760" y="4936680"/>
              <a:ext cx="42120" cy="22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8679240" y="4936320"/>
              <a:ext cx="27720" cy="4294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8643240" y="5126760"/>
              <a:ext cx="15840" cy="9000"/>
            </a:xfrm>
            <a:prstGeom prst="rect">
              <a:avLst/>
            </a:prstGeom>
            <a:solidFill>
              <a:srgbClr val="0099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8916480" y="5005080"/>
              <a:ext cx="15840" cy="12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8904600" y="5031720"/>
              <a:ext cx="15840" cy="12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5" name=""/>
          <p:cNvGrpSpPr/>
          <p:nvPr/>
        </p:nvGrpSpPr>
        <p:grpSpPr>
          <a:xfrm>
            <a:off x="8943840" y="5361120"/>
            <a:ext cx="371520" cy="466560"/>
            <a:chOff x="8943840" y="5361120"/>
            <a:chExt cx="371520" cy="466560"/>
          </a:xfrm>
        </p:grpSpPr>
        <p:sp>
          <p:nvSpPr>
            <p:cNvPr id="1166" name=""/>
            <p:cNvSpPr/>
            <p:nvPr/>
          </p:nvSpPr>
          <p:spPr>
            <a:xfrm rot="10800000">
              <a:off x="9034920" y="5556240"/>
              <a:ext cx="278640" cy="194760"/>
            </a:xfrm>
            <a:custGeom>
              <a:avLst/>
              <a:gdLst/>
              <a:ahLst/>
              <a:rect l="l" t="t" r="r" b="b"/>
              <a:pathLst>
                <a:path w="1684" h="1180">
                  <a:moveTo>
                    <a:pt x="1206" y="252"/>
                  </a:moveTo>
                  <a:lnTo>
                    <a:pt x="1206" y="768"/>
                  </a:lnTo>
                  <a:lnTo>
                    <a:pt x="1395" y="768"/>
                  </a:lnTo>
                  <a:lnTo>
                    <a:pt x="1395" y="879"/>
                  </a:lnTo>
                  <a:lnTo>
                    <a:pt x="1596" y="879"/>
                  </a:lnTo>
                  <a:lnTo>
                    <a:pt x="1596" y="1065"/>
                  </a:lnTo>
                  <a:lnTo>
                    <a:pt x="1683" y="1065"/>
                  </a:lnTo>
                  <a:lnTo>
                    <a:pt x="1683" y="1179"/>
                  </a:lnTo>
                  <a:lnTo>
                    <a:pt x="561" y="1179"/>
                  </a:lnTo>
                  <a:lnTo>
                    <a:pt x="561" y="1125"/>
                  </a:lnTo>
                  <a:lnTo>
                    <a:pt x="381" y="1125"/>
                  </a:lnTo>
                  <a:lnTo>
                    <a:pt x="381" y="1065"/>
                  </a:lnTo>
                  <a:lnTo>
                    <a:pt x="0" y="1065"/>
                  </a:lnTo>
                  <a:lnTo>
                    <a:pt x="0" y="876"/>
                  </a:lnTo>
                  <a:lnTo>
                    <a:pt x="189" y="876"/>
                  </a:lnTo>
                  <a:lnTo>
                    <a:pt x="189" y="786"/>
                  </a:lnTo>
                  <a:lnTo>
                    <a:pt x="213" y="768"/>
                  </a:lnTo>
                  <a:lnTo>
                    <a:pt x="579" y="768"/>
                  </a:lnTo>
                  <a:lnTo>
                    <a:pt x="663" y="636"/>
                  </a:lnTo>
                  <a:lnTo>
                    <a:pt x="663" y="0"/>
                  </a:lnTo>
                  <a:lnTo>
                    <a:pt x="1089" y="0"/>
                  </a:lnTo>
                  <a:lnTo>
                    <a:pt x="1089" y="252"/>
                  </a:lnTo>
                  <a:lnTo>
                    <a:pt x="1206" y="252"/>
                  </a:lnTo>
                </a:path>
              </a:pathLst>
            </a:custGeom>
            <a:solidFill>
              <a:srgbClr val="00cc99">
                <a:alpha val="50000"/>
              </a:srgbClr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rot="10800000">
              <a:off x="9230400" y="5686920"/>
              <a:ext cx="50040" cy="655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21240" bIns="2124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rot="10800000">
              <a:off x="8943840" y="5543280"/>
              <a:ext cx="32400" cy="2289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rot="10800000">
              <a:off x="9107280" y="5709960"/>
              <a:ext cx="26280" cy="450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720" bIns="72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rot="10800000">
              <a:off x="9234360" y="5691960"/>
              <a:ext cx="44280" cy="590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4760" bIns="1476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rot="10800000">
              <a:off x="9218520" y="5776920"/>
              <a:ext cx="78840" cy="280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6200" bIns="-1620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rot="10800000">
              <a:off x="9221040" y="5566320"/>
              <a:ext cx="27720" cy="118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400" bIns="-3240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rot="10800000">
              <a:off x="8972640" y="5714640"/>
              <a:ext cx="147960" cy="79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360" bIns="-3636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rot="10800000">
              <a:off x="8956800" y="5741640"/>
              <a:ext cx="163800" cy="75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720" bIns="-3672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rot="10800000">
              <a:off x="9118440" y="5712120"/>
              <a:ext cx="14040" cy="118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400" bIns="-3240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rot="10800000">
              <a:off x="9118080" y="5739840"/>
              <a:ext cx="14400" cy="115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760" bIns="-3276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rot="10800000">
              <a:off x="9205560" y="5670000"/>
              <a:ext cx="16200" cy="313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2960" bIns="-1296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rot="10800000">
              <a:off x="9206640" y="5670360"/>
              <a:ext cx="11520" cy="302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4040" bIns="-1404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rot="10800000">
              <a:off x="9208800" y="5690880"/>
              <a:ext cx="6480" cy="576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9960" bIns="-3996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rot="10800000">
              <a:off x="9286920" y="5779800"/>
              <a:ext cx="8280" cy="219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2320" bIns="-2232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rot="10800000">
              <a:off x="9276840" y="5783760"/>
              <a:ext cx="8280" cy="136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0600" bIns="-3060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rot="10800000">
              <a:off x="9263880" y="5784840"/>
              <a:ext cx="11880" cy="115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760" bIns="-3276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rot="10800000">
              <a:off x="9228600" y="5780520"/>
              <a:ext cx="18000" cy="205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3760" bIns="-2376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rot="10800000">
              <a:off x="9238680" y="5787000"/>
              <a:ext cx="7560" cy="75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720" bIns="-3672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rot="10800000">
              <a:off x="9248040" y="5787720"/>
              <a:ext cx="14040" cy="57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8520" bIns="-3852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rot="10800000">
              <a:off x="9218520" y="5779800"/>
              <a:ext cx="9360" cy="21960"/>
            </a:xfrm>
            <a:custGeom>
              <a:avLst/>
              <a:gdLst/>
              <a:ahLst/>
              <a:rect l="l" t="t" r="r" b="b"/>
              <a:pathLst>
                <a:path w="58" h="133">
                  <a:moveTo>
                    <a:pt x="0" y="0"/>
                  </a:moveTo>
                  <a:lnTo>
                    <a:pt x="26" y="0"/>
                  </a:lnTo>
                  <a:lnTo>
                    <a:pt x="45" y="7"/>
                  </a:lnTo>
                  <a:lnTo>
                    <a:pt x="56" y="22"/>
                  </a:lnTo>
                  <a:lnTo>
                    <a:pt x="57" y="36"/>
                  </a:lnTo>
                  <a:lnTo>
                    <a:pt x="57" y="106"/>
                  </a:lnTo>
                  <a:lnTo>
                    <a:pt x="51" y="117"/>
                  </a:lnTo>
                  <a:lnTo>
                    <a:pt x="39" y="126"/>
                  </a:lnTo>
                  <a:lnTo>
                    <a:pt x="21" y="132"/>
                  </a:lnTo>
                  <a:lnTo>
                    <a:pt x="0" y="129"/>
                  </a:lnTo>
                  <a:lnTo>
                    <a:pt x="0" y="0"/>
                  </a:lnTo>
                </a:path>
              </a:pathLst>
            </a:custGeom>
            <a:solidFill>
              <a:srgbClr val="00cc99">
                <a:alpha val="50000"/>
              </a:srgbClr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rot="10800000">
              <a:off x="9247320" y="5729760"/>
              <a:ext cx="14760" cy="79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360" bIns="-3636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rot="10800000">
              <a:off x="9203040" y="5730840"/>
              <a:ext cx="42840" cy="54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8880" bIns="-3888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rot="10800000">
              <a:off x="9183960" y="5730840"/>
              <a:ext cx="5760" cy="576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9960" bIns="-3996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rot="10800000">
              <a:off x="9090720" y="5568840"/>
              <a:ext cx="123840" cy="79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360" bIns="-3636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rot="10800000">
              <a:off x="9156600" y="5581440"/>
              <a:ext cx="56520" cy="20520"/>
            </a:xfrm>
            <a:custGeom>
              <a:avLst/>
              <a:gdLst/>
              <a:ahLst/>
              <a:rect l="l" t="t" r="r" b="b"/>
              <a:pathLst>
                <a:path w="343" h="125">
                  <a:moveTo>
                    <a:pt x="19" y="124"/>
                  </a:moveTo>
                  <a:lnTo>
                    <a:pt x="324" y="124"/>
                  </a:lnTo>
                  <a:lnTo>
                    <a:pt x="342" y="114"/>
                  </a:lnTo>
                  <a:lnTo>
                    <a:pt x="342" y="15"/>
                  </a:lnTo>
                  <a:lnTo>
                    <a:pt x="327" y="0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111"/>
                  </a:lnTo>
                  <a:lnTo>
                    <a:pt x="19" y="124"/>
                  </a:lnTo>
                </a:path>
              </a:pathLst>
            </a:custGeom>
            <a:solidFill>
              <a:srgbClr val="00cc99">
                <a:alpha val="50000"/>
              </a:srgbClr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rot="10800000">
              <a:off x="9091800" y="5557680"/>
              <a:ext cx="122760" cy="75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720" bIns="-3672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rot="10800000">
              <a:off x="9215640" y="5557320"/>
              <a:ext cx="2880" cy="468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2520" bIns="252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rot="10800000">
              <a:off x="9086760" y="5557680"/>
              <a:ext cx="2880" cy="460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800" bIns="180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rot="10800000">
              <a:off x="9086760" y="5605200"/>
              <a:ext cx="131400" cy="28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41400" bIns="-4140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rot="10800000">
              <a:off x="9086760" y="5609160"/>
              <a:ext cx="131040" cy="79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360" bIns="-3636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rot="10800000">
              <a:off x="9069480" y="5562720"/>
              <a:ext cx="15480" cy="172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7000" bIns="-2700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rot="10800000">
              <a:off x="9072360" y="5586480"/>
              <a:ext cx="12600" cy="122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040" bIns="-3204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rot="10800000">
              <a:off x="9055080" y="5583240"/>
              <a:ext cx="16200" cy="12600"/>
            </a:xfrm>
            <a:custGeom>
              <a:avLst/>
              <a:gdLst/>
              <a:ahLst/>
              <a:rect l="l" t="t" r="r" b="b"/>
              <a:pathLst>
                <a:path w="98" h="77">
                  <a:moveTo>
                    <a:pt x="0" y="0"/>
                  </a:moveTo>
                  <a:lnTo>
                    <a:pt x="42" y="0"/>
                  </a:lnTo>
                  <a:lnTo>
                    <a:pt x="69" y="10"/>
                  </a:lnTo>
                  <a:lnTo>
                    <a:pt x="97" y="10"/>
                  </a:lnTo>
                  <a:lnTo>
                    <a:pt x="97" y="66"/>
                  </a:lnTo>
                  <a:lnTo>
                    <a:pt x="67" y="66"/>
                  </a:lnTo>
                  <a:lnTo>
                    <a:pt x="43" y="76"/>
                  </a:lnTo>
                  <a:lnTo>
                    <a:pt x="0" y="76"/>
                  </a:lnTo>
                  <a:lnTo>
                    <a:pt x="0" y="0"/>
                  </a:lnTo>
                </a:path>
              </a:pathLst>
            </a:custGeom>
            <a:solidFill>
              <a:srgbClr val="00cc99">
                <a:alpha val="50000"/>
              </a:srgbClr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rot="10800000">
              <a:off x="9213480" y="5361120"/>
              <a:ext cx="101880" cy="302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4040" bIns="-1404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rot="10800000">
              <a:off x="9158400" y="5768640"/>
              <a:ext cx="53280" cy="320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2240" bIns="-1224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rot="10800000">
              <a:off x="9157320" y="5457960"/>
              <a:ext cx="53280" cy="291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5120" bIns="-1512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rot="10800000">
              <a:off x="9164520" y="5462640"/>
              <a:ext cx="40680" cy="208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3400" bIns="-2340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rot="10800000">
              <a:off x="9164880" y="5772600"/>
              <a:ext cx="40680" cy="230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1240" bIns="-2124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10800000">
              <a:off x="9171720" y="5366880"/>
              <a:ext cx="26640" cy="4608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rot="10800000">
              <a:off x="8947440" y="5739480"/>
              <a:ext cx="14400" cy="115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760" bIns="-3276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rot="10800000">
              <a:off x="8959320" y="5713200"/>
              <a:ext cx="14400" cy="115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760" bIns="-3276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rot="10800000">
              <a:off x="9158400" y="5362200"/>
              <a:ext cx="53280" cy="291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5120" bIns="-1512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rot="10800000">
              <a:off x="9164880" y="5365800"/>
              <a:ext cx="40680" cy="208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3400" bIns="-2340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9055080" y="4916520"/>
            <a:ext cx="371520" cy="434880"/>
            <a:chOff x="9055080" y="4916520"/>
            <a:chExt cx="371520" cy="434880"/>
          </a:xfrm>
        </p:grpSpPr>
        <p:sp>
          <p:nvSpPr>
            <p:cNvPr id="1211" name=""/>
            <p:cNvSpPr/>
            <p:nvPr/>
          </p:nvSpPr>
          <p:spPr>
            <a:xfrm>
              <a:off x="9055080" y="4990320"/>
              <a:ext cx="279360" cy="195840"/>
            </a:xfrm>
            <a:custGeom>
              <a:avLst/>
              <a:gdLst/>
              <a:ahLst/>
              <a:rect l="l" t="t" r="r" b="b"/>
              <a:pathLst>
                <a:path w="1683" h="1179">
                  <a:moveTo>
                    <a:pt x="1206" y="252"/>
                  </a:moveTo>
                  <a:lnTo>
                    <a:pt x="1206" y="768"/>
                  </a:lnTo>
                  <a:lnTo>
                    <a:pt x="1395" y="768"/>
                  </a:lnTo>
                  <a:lnTo>
                    <a:pt x="1395" y="879"/>
                  </a:lnTo>
                  <a:lnTo>
                    <a:pt x="1596" y="879"/>
                  </a:lnTo>
                  <a:lnTo>
                    <a:pt x="1596" y="1065"/>
                  </a:lnTo>
                  <a:lnTo>
                    <a:pt x="1683" y="1065"/>
                  </a:lnTo>
                  <a:lnTo>
                    <a:pt x="1683" y="1179"/>
                  </a:lnTo>
                  <a:lnTo>
                    <a:pt x="561" y="1179"/>
                  </a:lnTo>
                  <a:lnTo>
                    <a:pt x="561" y="1125"/>
                  </a:lnTo>
                  <a:lnTo>
                    <a:pt x="381" y="1125"/>
                  </a:lnTo>
                  <a:lnTo>
                    <a:pt x="381" y="1065"/>
                  </a:lnTo>
                  <a:lnTo>
                    <a:pt x="0" y="1065"/>
                  </a:lnTo>
                  <a:lnTo>
                    <a:pt x="0" y="876"/>
                  </a:lnTo>
                  <a:lnTo>
                    <a:pt x="189" y="876"/>
                  </a:lnTo>
                  <a:lnTo>
                    <a:pt x="189" y="786"/>
                  </a:lnTo>
                  <a:lnTo>
                    <a:pt x="213" y="768"/>
                  </a:lnTo>
                  <a:lnTo>
                    <a:pt x="579" y="768"/>
                  </a:lnTo>
                  <a:lnTo>
                    <a:pt x="663" y="636"/>
                  </a:lnTo>
                  <a:lnTo>
                    <a:pt x="663" y="0"/>
                  </a:lnTo>
                  <a:lnTo>
                    <a:pt x="1089" y="0"/>
                  </a:lnTo>
                  <a:lnTo>
                    <a:pt x="1089" y="252"/>
                  </a:lnTo>
                  <a:lnTo>
                    <a:pt x="1206" y="252"/>
                  </a:lnTo>
                  <a:close/>
                </a:path>
              </a:pathLst>
            </a:cu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9087480" y="4988160"/>
              <a:ext cx="51840" cy="673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9392760" y="4968360"/>
              <a:ext cx="33840" cy="2318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9234720" y="4985640"/>
              <a:ext cx="27720" cy="468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9089280" y="4989600"/>
              <a:ext cx="45720" cy="608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9070200" y="4935240"/>
              <a:ext cx="80640" cy="298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9119160" y="5163120"/>
              <a:ext cx="29160" cy="133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9252720" y="5018040"/>
              <a:ext cx="149760" cy="90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9252720" y="4991040"/>
              <a:ext cx="165960" cy="90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9235800" y="5016600"/>
              <a:ext cx="15120" cy="133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9235800" y="4989240"/>
              <a:ext cx="15840" cy="129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9146160" y="5039640"/>
              <a:ext cx="17640" cy="327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9150120" y="5040000"/>
              <a:ext cx="12960" cy="316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9152640" y="5044320"/>
              <a:ext cx="7920" cy="72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9072360" y="4938480"/>
              <a:ext cx="9720" cy="234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9082800" y="4942440"/>
              <a:ext cx="9360" cy="151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9092160" y="4943880"/>
              <a:ext cx="13320" cy="129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9121320" y="4939200"/>
              <a:ext cx="19440" cy="219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9121680" y="4945680"/>
              <a:ext cx="9000" cy="90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9105480" y="4946760"/>
              <a:ext cx="15120" cy="72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9140760" y="4939200"/>
              <a:ext cx="9360" cy="21600"/>
            </a:xfrm>
            <a:custGeom>
              <a:avLst/>
              <a:gdLst/>
              <a:ahLst/>
              <a:rect l="l" t="t" r="r" b="b"/>
              <a:pathLst>
                <a:path w="57" h="132">
                  <a:moveTo>
                    <a:pt x="0" y="0"/>
                  </a:moveTo>
                  <a:lnTo>
                    <a:pt x="26" y="0"/>
                  </a:lnTo>
                  <a:lnTo>
                    <a:pt x="45" y="7"/>
                  </a:lnTo>
                  <a:lnTo>
                    <a:pt x="56" y="22"/>
                  </a:lnTo>
                  <a:lnTo>
                    <a:pt x="57" y="36"/>
                  </a:lnTo>
                  <a:lnTo>
                    <a:pt x="57" y="106"/>
                  </a:lnTo>
                  <a:lnTo>
                    <a:pt x="51" y="117"/>
                  </a:lnTo>
                  <a:lnTo>
                    <a:pt x="39" y="126"/>
                  </a:lnTo>
                  <a:lnTo>
                    <a:pt x="21" y="132"/>
                  </a:lnTo>
                  <a:lnTo>
                    <a:pt x="0" y="1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9105840" y="5002920"/>
              <a:ext cx="16200" cy="93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9122040" y="5004360"/>
              <a:ext cx="44640" cy="64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9178560" y="5004000"/>
              <a:ext cx="6840" cy="72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9153360" y="5164920"/>
              <a:ext cx="125640" cy="90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9155520" y="5140080"/>
              <a:ext cx="56520" cy="20520"/>
            </a:xfrm>
            <a:custGeom>
              <a:avLst/>
              <a:gdLst/>
              <a:ahLst/>
              <a:rect l="l" t="t" r="r" b="b"/>
              <a:pathLst>
                <a:path w="342" h="124">
                  <a:moveTo>
                    <a:pt x="19" y="124"/>
                  </a:moveTo>
                  <a:lnTo>
                    <a:pt x="324" y="124"/>
                  </a:lnTo>
                  <a:lnTo>
                    <a:pt x="342" y="114"/>
                  </a:lnTo>
                  <a:lnTo>
                    <a:pt x="342" y="15"/>
                  </a:lnTo>
                  <a:lnTo>
                    <a:pt x="327" y="0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111"/>
                  </a:lnTo>
                  <a:lnTo>
                    <a:pt x="19" y="124"/>
                  </a:lnTo>
                  <a:close/>
                </a:path>
              </a:pathLst>
            </a:cu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9153360" y="5176080"/>
              <a:ext cx="124560" cy="90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9149400" y="5137200"/>
              <a:ext cx="4320" cy="482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9279000" y="5137920"/>
              <a:ext cx="4320" cy="478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9150120" y="5133240"/>
              <a:ext cx="133200" cy="43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9150120" y="5124240"/>
              <a:ext cx="132840" cy="90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9283680" y="5161680"/>
              <a:ext cx="16920" cy="187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9283680" y="5142600"/>
              <a:ext cx="14040" cy="136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9298080" y="5146200"/>
              <a:ext cx="15840" cy="12600"/>
            </a:xfrm>
            <a:custGeom>
              <a:avLst/>
              <a:gdLst/>
              <a:ahLst/>
              <a:rect l="l" t="t" r="r" b="b"/>
              <a:pathLst>
                <a:path w="97" h="76">
                  <a:moveTo>
                    <a:pt x="0" y="0"/>
                  </a:moveTo>
                  <a:lnTo>
                    <a:pt x="42" y="0"/>
                  </a:lnTo>
                  <a:lnTo>
                    <a:pt x="69" y="10"/>
                  </a:lnTo>
                  <a:lnTo>
                    <a:pt x="97" y="10"/>
                  </a:lnTo>
                  <a:lnTo>
                    <a:pt x="97" y="66"/>
                  </a:lnTo>
                  <a:lnTo>
                    <a:pt x="67" y="66"/>
                  </a:lnTo>
                  <a:lnTo>
                    <a:pt x="43" y="76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9080640" y="5135760"/>
              <a:ext cx="6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9214560" y="4916520"/>
              <a:ext cx="103680" cy="316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9157320" y="4916520"/>
              <a:ext cx="54720" cy="306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9157680" y="5221080"/>
              <a:ext cx="54720" cy="306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9163080" y="5224680"/>
              <a:ext cx="42120" cy="223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9163440" y="4920840"/>
              <a:ext cx="42120" cy="223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9169920" y="4920480"/>
              <a:ext cx="27720" cy="4309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9407160" y="4989600"/>
              <a:ext cx="15840" cy="129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9395280" y="5016240"/>
              <a:ext cx="15840" cy="129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>
            <a:off x="8842320" y="450864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cc"/>
                </a:solidFill>
                <a:latin typeface="Arial"/>
              </a:rPr>
              <a:t>Op 77-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316480" y="4964040"/>
            <a:ext cx="0" cy="2462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070600" y="4387680"/>
            <a:ext cx="56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969696"/>
                </a:solidFill>
                <a:latin typeface="Arial"/>
              </a:rPr>
              <a:t>Op 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657320" y="458460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cc"/>
                </a:solidFill>
                <a:latin typeface="Arial"/>
              </a:rPr>
              <a:t>Op 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rot="16200000">
            <a:off x="399960" y="4687560"/>
            <a:ext cx="88920" cy="12708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V="1">
            <a:off x="1149480" y="3151080"/>
            <a:ext cx="48960" cy="604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1065240" y="327672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cc"/>
                </a:solidFill>
                <a:latin typeface="Arial"/>
              </a:rPr>
              <a:t>Op 20-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995480" y="327672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cc"/>
                </a:solidFill>
                <a:latin typeface="Arial"/>
              </a:rPr>
              <a:t>Op 20-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rot="16200000">
            <a:off x="5090400" y="5140800"/>
            <a:ext cx="88920" cy="12852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5021280" y="4964040"/>
            <a:ext cx="0" cy="2462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4" name=""/>
          <p:cNvGrpSpPr/>
          <p:nvPr/>
        </p:nvGrpSpPr>
        <p:grpSpPr>
          <a:xfrm>
            <a:off x="5113440" y="4621320"/>
            <a:ext cx="291600" cy="469440"/>
            <a:chOff x="5113440" y="4621320"/>
            <a:chExt cx="291600" cy="469440"/>
          </a:xfrm>
        </p:grpSpPr>
        <p:sp>
          <p:nvSpPr>
            <p:cNvPr id="1265" name=""/>
            <p:cNvSpPr/>
            <p:nvPr/>
          </p:nvSpPr>
          <p:spPr>
            <a:xfrm rot="10800000">
              <a:off x="5113440" y="4684680"/>
              <a:ext cx="120240" cy="536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rot="10800000">
              <a:off x="5227560" y="4738680"/>
              <a:ext cx="162360" cy="2307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rot="10800000">
              <a:off x="5334120" y="4738680"/>
              <a:ext cx="55800" cy="446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rot="10800000">
              <a:off x="5290920" y="4861440"/>
              <a:ext cx="38880" cy="4068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9" name=""/>
            <p:cNvGrpSpPr/>
            <p:nvPr/>
          </p:nvGrpSpPr>
          <p:grpSpPr>
            <a:xfrm>
              <a:off x="5305320" y="4968360"/>
              <a:ext cx="15120" cy="111240"/>
              <a:chOff x="5305320" y="4968360"/>
              <a:chExt cx="15120" cy="111240"/>
            </a:xfrm>
          </p:grpSpPr>
          <p:sp>
            <p:nvSpPr>
              <p:cNvPr id="1270" name=""/>
              <p:cNvSpPr/>
              <p:nvPr/>
            </p:nvSpPr>
            <p:spPr>
              <a:xfrm flipV="1">
                <a:off x="5320440" y="4968360"/>
                <a:ext cx="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flipV="1">
                <a:off x="5305320" y="4968360"/>
                <a:ext cx="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2" name=""/>
            <p:cNvGrpSpPr/>
            <p:nvPr/>
          </p:nvGrpSpPr>
          <p:grpSpPr>
            <a:xfrm>
              <a:off x="5304240" y="4627440"/>
              <a:ext cx="15120" cy="110880"/>
              <a:chOff x="5304240" y="4627440"/>
              <a:chExt cx="15120" cy="110880"/>
            </a:xfrm>
          </p:grpSpPr>
          <p:sp>
            <p:nvSpPr>
              <p:cNvPr id="1273" name=""/>
              <p:cNvSpPr/>
              <p:nvPr/>
            </p:nvSpPr>
            <p:spPr>
              <a:xfrm flipV="1">
                <a:off x="5319360" y="4627440"/>
                <a:ext cx="0" cy="11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flipV="1">
                <a:off x="5304240" y="4627440"/>
                <a:ext cx="0" cy="11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5" name=""/>
            <p:cNvGrpSpPr/>
            <p:nvPr/>
          </p:nvGrpSpPr>
          <p:grpSpPr>
            <a:xfrm>
              <a:off x="5245200" y="4840560"/>
              <a:ext cx="123480" cy="81720"/>
              <a:chOff x="5245200" y="4840560"/>
              <a:chExt cx="123480" cy="81720"/>
            </a:xfrm>
          </p:grpSpPr>
          <p:sp>
            <p:nvSpPr>
              <p:cNvPr id="1276" name=""/>
              <p:cNvSpPr/>
              <p:nvPr/>
            </p:nvSpPr>
            <p:spPr>
              <a:xfrm rot="10800000">
                <a:off x="5245200" y="4840560"/>
                <a:ext cx="123480" cy="81720"/>
              </a:xfrm>
              <a:prstGeom prst="rect">
                <a:avLst/>
              </a:prstGeom>
              <a:solidFill>
                <a:srgbClr val="0099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flipH="1">
                <a:off x="5246280" y="4857480"/>
                <a:ext cx="122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flipH="1">
                <a:off x="5246280" y="4905360"/>
                <a:ext cx="122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9" name=""/>
            <p:cNvSpPr/>
            <p:nvPr/>
          </p:nvSpPr>
          <p:spPr>
            <a:xfrm flipV="1">
              <a:off x="5319720" y="4621320"/>
              <a:ext cx="5760" cy="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 flipV="1">
              <a:off x="5303160" y="4621320"/>
              <a:ext cx="108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rot="10800000">
              <a:off x="5309640" y="5014440"/>
              <a:ext cx="7920" cy="34560"/>
            </a:xfrm>
            <a:prstGeom prst="downArrow">
              <a:avLst>
                <a:gd name="adj1" fmla="val 50000"/>
                <a:gd name="adj2" fmla="val 109091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rot="10800000">
              <a:off x="5307480" y="4656240"/>
              <a:ext cx="10080" cy="33480"/>
            </a:xfrm>
            <a:prstGeom prst="downArrow">
              <a:avLst>
                <a:gd name="adj1" fmla="val 50000"/>
                <a:gd name="adj2" fmla="val 83036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rot="10800000">
              <a:off x="5284080" y="5072400"/>
              <a:ext cx="63000" cy="18360"/>
            </a:xfrm>
            <a:custGeom>
              <a:avLst/>
              <a:gdLst/>
              <a:ahLst/>
              <a:rect l="l" t="t" r="r" b="b"/>
              <a:pathLst>
                <a:path w="252" h="41">
                  <a:moveTo>
                    <a:pt x="0" y="35"/>
                  </a:moveTo>
                  <a:cubicBezTo>
                    <a:pt x="12" y="33"/>
                    <a:pt x="24" y="28"/>
                    <a:pt x="36" y="29"/>
                  </a:cubicBezTo>
                  <a:cubicBezTo>
                    <a:pt x="43" y="30"/>
                    <a:pt x="47" y="41"/>
                    <a:pt x="54" y="41"/>
                  </a:cubicBezTo>
                  <a:cubicBezTo>
                    <a:pt x="61" y="41"/>
                    <a:pt x="65" y="32"/>
                    <a:pt x="72" y="29"/>
                  </a:cubicBezTo>
                  <a:cubicBezTo>
                    <a:pt x="136" y="0"/>
                    <a:pt x="85" y="32"/>
                    <a:pt x="126" y="5"/>
                  </a:cubicBezTo>
                  <a:cubicBezTo>
                    <a:pt x="134" y="17"/>
                    <a:pt x="138" y="31"/>
                    <a:pt x="156" y="29"/>
                  </a:cubicBezTo>
                  <a:cubicBezTo>
                    <a:pt x="169" y="28"/>
                    <a:pt x="192" y="17"/>
                    <a:pt x="192" y="17"/>
                  </a:cubicBezTo>
                  <a:cubicBezTo>
                    <a:pt x="225" y="28"/>
                    <a:pt x="221" y="5"/>
                    <a:pt x="252" y="5"/>
                  </a:cubicBezTo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rot="10800000">
              <a:off x="5238000" y="4729320"/>
              <a:ext cx="7920" cy="550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rot="10800000">
              <a:off x="5213520" y="4727520"/>
              <a:ext cx="34560" cy="7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rot="10800000">
              <a:off x="5235120" y="4725720"/>
              <a:ext cx="14040" cy="140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7" name=""/>
            <p:cNvGrpSpPr/>
            <p:nvPr/>
          </p:nvGrpSpPr>
          <p:grpSpPr>
            <a:xfrm>
              <a:off x="5345640" y="4752000"/>
              <a:ext cx="34200" cy="18000"/>
              <a:chOff x="5345640" y="4752000"/>
              <a:chExt cx="34200" cy="18000"/>
            </a:xfrm>
          </p:grpSpPr>
          <p:grpSp>
            <p:nvGrpSpPr>
              <p:cNvPr id="1288" name=""/>
              <p:cNvGrpSpPr/>
              <p:nvPr/>
            </p:nvGrpSpPr>
            <p:grpSpPr>
              <a:xfrm>
                <a:off x="5345640" y="4752000"/>
                <a:ext cx="34200" cy="18000"/>
                <a:chOff x="5345640" y="4752000"/>
                <a:chExt cx="34200" cy="18000"/>
              </a:xfrm>
            </p:grpSpPr>
            <p:sp>
              <p:nvSpPr>
                <p:cNvPr id="1289" name=""/>
                <p:cNvSpPr/>
                <p:nvPr/>
              </p:nvSpPr>
              <p:spPr>
                <a:xfrm rot="10800000">
                  <a:off x="5354280" y="4752000"/>
                  <a:ext cx="25560" cy="17640"/>
                </a:xfrm>
                <a:prstGeom prst="rect">
                  <a:avLst/>
                </a:prstGeom>
                <a:solidFill>
                  <a:srgbClr val="00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 rot="10800000">
                  <a:off x="5345640" y="4752000"/>
                  <a:ext cx="8280" cy="18000"/>
                </a:xfrm>
                <a:custGeom>
                  <a:avLst/>
                  <a:gdLst/>
                  <a:ahLst/>
                  <a:rect l="l" t="t" r="r" b="b"/>
                  <a:pathLst>
                    <a:path w="39" h="83">
                      <a:moveTo>
                        <a:pt x="1" y="83"/>
                      </a:moveTo>
                      <a:cubicBezTo>
                        <a:pt x="20" y="70"/>
                        <a:pt x="39" y="58"/>
                        <a:pt x="39" y="44"/>
                      </a:cubicBezTo>
                      <a:cubicBezTo>
                        <a:pt x="39" y="30"/>
                        <a:pt x="6" y="7"/>
                        <a:pt x="0" y="0"/>
                      </a:cubicBezTo>
                    </a:path>
                  </a:pathLst>
                </a:custGeom>
                <a:solidFill>
                  <a:srgbClr val="0099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1" name=""/>
              <p:cNvSpPr/>
              <p:nvPr/>
            </p:nvSpPr>
            <p:spPr>
              <a:xfrm flipH="1">
                <a:off x="5350680" y="4766400"/>
                <a:ext cx="3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H="1">
                <a:off x="5350680" y="4755960"/>
                <a:ext cx="3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flipH="1">
                <a:off x="5350680" y="4763520"/>
                <a:ext cx="3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flipH="1">
                <a:off x="5350680" y="4761000"/>
                <a:ext cx="3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flipH="1">
                <a:off x="5350680" y="4758480"/>
                <a:ext cx="3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349960" y="4755600"/>
                <a:ext cx="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7" name=""/>
            <p:cNvGrpSpPr/>
            <p:nvPr/>
          </p:nvGrpSpPr>
          <p:grpSpPr>
            <a:xfrm>
              <a:off x="5142960" y="4929840"/>
              <a:ext cx="65160" cy="37440"/>
              <a:chOff x="5142960" y="4929840"/>
              <a:chExt cx="65160" cy="37440"/>
            </a:xfrm>
          </p:grpSpPr>
          <p:sp>
            <p:nvSpPr>
              <p:cNvPr id="1298" name=""/>
              <p:cNvSpPr/>
              <p:nvPr/>
            </p:nvSpPr>
            <p:spPr>
              <a:xfrm rot="10800000">
                <a:off x="5142960" y="4929840"/>
                <a:ext cx="65160" cy="3744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rot="10800000">
                <a:off x="5167080" y="4939920"/>
                <a:ext cx="27000" cy="1620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H="1">
                <a:off x="5150880" y="4957200"/>
                <a:ext cx="93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 flipV="1">
                <a:off x="5160600" y="4947120"/>
                <a:ext cx="0" cy="1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flipV="1">
                <a:off x="5149800" y="4947120"/>
                <a:ext cx="0" cy="1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rot="10800000">
                <a:off x="5150160" y="4941360"/>
                <a:ext cx="10440" cy="576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0" y="2"/>
                    </a:moveTo>
                    <a:cubicBezTo>
                      <a:pt x="9" y="14"/>
                      <a:pt x="18" y="26"/>
                      <a:pt x="26" y="26"/>
                    </a:cubicBezTo>
                    <a:cubicBezTo>
                      <a:pt x="34" y="26"/>
                      <a:pt x="44" y="5"/>
                      <a:pt x="47" y="0"/>
                    </a:cubicBezTo>
                  </a:path>
                </a:pathLst>
              </a:custGeom>
              <a:solidFill>
                <a:srgbClr val="0099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rot="10800000">
                <a:off x="5151240" y="4947480"/>
                <a:ext cx="7920" cy="8640"/>
              </a:xfrm>
              <a:prstGeom prst="rect">
                <a:avLst/>
              </a:prstGeom>
              <a:solidFill>
                <a:srgbClr val="009900"/>
              </a:solidFill>
              <a:ln w="648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flipV="1">
                <a:off x="5155200" y="4936320"/>
                <a:ext cx="0" cy="86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6" name=""/>
            <p:cNvSpPr/>
            <p:nvPr/>
          </p:nvSpPr>
          <p:spPr>
            <a:xfrm rot="10800000">
              <a:off x="5318640" y="4758120"/>
              <a:ext cx="26280" cy="18000"/>
            </a:xfrm>
            <a:custGeom>
              <a:avLst/>
              <a:gdLst/>
              <a:ahLst/>
              <a:rect l="l" t="t" r="r" b="b"/>
              <a:pathLst>
                <a:path w="127" h="60">
                  <a:moveTo>
                    <a:pt x="0" y="51"/>
                  </a:moveTo>
                  <a:cubicBezTo>
                    <a:pt x="43" y="55"/>
                    <a:pt x="87" y="60"/>
                    <a:pt x="107" y="51"/>
                  </a:cubicBezTo>
                  <a:cubicBezTo>
                    <a:pt x="127" y="42"/>
                    <a:pt x="118" y="9"/>
                    <a:pt x="120" y="0"/>
                  </a:cubicBezTo>
                </a:path>
              </a:pathLst>
            </a:custGeom>
            <a:solidFill>
              <a:srgbClr val="009900"/>
            </a:solidFill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rot="10800000">
              <a:off x="5239080" y="4786560"/>
              <a:ext cx="5760" cy="153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rot="10800000">
              <a:off x="5200920" y="4933800"/>
              <a:ext cx="41760" cy="57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rot="10800000">
              <a:off x="5233680" y="4929480"/>
              <a:ext cx="13320" cy="122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rot="10800000">
              <a:off x="5194800" y="4930560"/>
              <a:ext cx="12240" cy="13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rot="10800000">
              <a:off x="5220720" y="4791960"/>
              <a:ext cx="6840" cy="46440"/>
            </a:xfrm>
            <a:prstGeom prst="rect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rot="10800000">
              <a:off x="5220360" y="4881960"/>
              <a:ext cx="6120" cy="46800"/>
            </a:xfrm>
            <a:prstGeom prst="rect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rot="10800000">
              <a:off x="5391360" y="4792680"/>
              <a:ext cx="6840" cy="45720"/>
            </a:xfrm>
            <a:prstGeom prst="rect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rot="10800000">
              <a:off x="5391360" y="4880520"/>
              <a:ext cx="6840" cy="46080"/>
            </a:xfrm>
            <a:prstGeom prst="rect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V="1">
              <a:off x="5220360" y="4892040"/>
              <a:ext cx="0" cy="1296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V="1">
              <a:off x="5219280" y="4802040"/>
              <a:ext cx="0" cy="1404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V="1">
              <a:off x="5398200" y="4905360"/>
              <a:ext cx="0" cy="1296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V="1">
              <a:off x="5398200" y="4817520"/>
              <a:ext cx="0" cy="1404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rot="10800000">
              <a:off x="5395320" y="4828320"/>
              <a:ext cx="6120" cy="6120"/>
            </a:xfrm>
            <a:prstGeom prst="ellipse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rot="10800000">
              <a:off x="5217480" y="4798800"/>
              <a:ext cx="5760" cy="6120"/>
            </a:xfrm>
            <a:prstGeom prst="ellipse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rot="10800000">
              <a:off x="5217480" y="4889160"/>
              <a:ext cx="5760" cy="5760"/>
            </a:xfrm>
            <a:prstGeom prst="ellipse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 rot="10800000">
              <a:off x="5394600" y="4916520"/>
              <a:ext cx="6840" cy="5760"/>
            </a:xfrm>
            <a:prstGeom prst="ellipse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rot="10800000">
              <a:off x="5294160" y="4717080"/>
              <a:ext cx="32400" cy="21240"/>
            </a:xfrm>
            <a:prstGeom prst="rect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rot="10800000">
              <a:off x="5298120" y="4969800"/>
              <a:ext cx="31680" cy="21240"/>
            </a:xfrm>
            <a:prstGeom prst="rect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H="1">
              <a:off x="5150160" y="4947840"/>
              <a:ext cx="100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159160" y="4948560"/>
              <a:ext cx="0" cy="9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155200" y="4948560"/>
              <a:ext cx="0" cy="9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150880" y="4948560"/>
              <a:ext cx="0" cy="9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153040" y="4948560"/>
              <a:ext cx="0" cy="9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157000" y="4948560"/>
              <a:ext cx="0" cy="9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rot="10800000">
              <a:off x="5290920" y="4998960"/>
              <a:ext cx="13320" cy="10080"/>
            </a:xfrm>
            <a:prstGeom prst="rect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H="1">
              <a:off x="5283000" y="5007960"/>
              <a:ext cx="6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>
              <a:off x="5283000" y="5000040"/>
              <a:ext cx="68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H="1">
              <a:off x="5283000" y="5005080"/>
              <a:ext cx="68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H="1" flipV="1">
              <a:off x="5283000" y="5002200"/>
              <a:ext cx="6840" cy="7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282640" y="4999320"/>
              <a:ext cx="0" cy="10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277600" y="5001480"/>
              <a:ext cx="0" cy="6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H="1">
              <a:off x="5278680" y="4998960"/>
              <a:ext cx="4320" cy="4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H="1" flipV="1">
              <a:off x="5277600" y="5006160"/>
              <a:ext cx="4320" cy="4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H="1">
              <a:off x="5398200" y="4908960"/>
              <a:ext cx="6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H="1">
              <a:off x="5213160" y="4902120"/>
              <a:ext cx="61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5213520" y="4811040"/>
              <a:ext cx="6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>
              <a:off x="5398200" y="4822200"/>
              <a:ext cx="6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4290840" y="4603680"/>
            <a:ext cx="276120" cy="606240"/>
            <a:chOff x="4290840" y="4603680"/>
            <a:chExt cx="276120" cy="606240"/>
          </a:xfrm>
        </p:grpSpPr>
        <p:sp>
          <p:nvSpPr>
            <p:cNvPr id="1345" name=""/>
            <p:cNvSpPr/>
            <p:nvPr/>
          </p:nvSpPr>
          <p:spPr>
            <a:xfrm rot="5400000">
              <a:off x="4414320" y="4712040"/>
              <a:ext cx="184680" cy="921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rot="5400000">
              <a:off x="4477320" y="5103000"/>
              <a:ext cx="78480" cy="273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rot="5400000">
              <a:off x="4419360" y="5121720"/>
              <a:ext cx="131760" cy="38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rot="5400000">
              <a:off x="4483080" y="5082480"/>
              <a:ext cx="13320" cy="108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rot="5400000">
              <a:off x="4509360" y="5069160"/>
              <a:ext cx="10080" cy="363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rot="5400000">
              <a:off x="4415400" y="4955760"/>
              <a:ext cx="248040" cy="9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rot="5400000">
              <a:off x="4533480" y="5078880"/>
              <a:ext cx="12960" cy="140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rot="5400000">
              <a:off x="4459680" y="4753080"/>
              <a:ext cx="156960" cy="6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rot="5400000">
              <a:off x="4533480" y="4667040"/>
              <a:ext cx="10080" cy="111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rot="5400000">
              <a:off x="4542480" y="4841280"/>
              <a:ext cx="9000" cy="50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rot="5400000">
              <a:off x="4454280" y="4714560"/>
              <a:ext cx="8280" cy="7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rot="8100000">
              <a:off x="4412160" y="4689720"/>
              <a:ext cx="32400" cy="47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rot="5400000">
              <a:off x="4466880" y="4760640"/>
              <a:ext cx="70200" cy="273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rot="5400000">
              <a:off x="4493160" y="5167080"/>
              <a:ext cx="47880" cy="277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rot="5400000">
              <a:off x="4459320" y="5017680"/>
              <a:ext cx="205200" cy="100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rot="5400000">
              <a:off x="4531320" y="5114160"/>
              <a:ext cx="10080" cy="367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rot="5400000">
              <a:off x="4506120" y="5127840"/>
              <a:ext cx="13320" cy="100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rot="5400000">
              <a:off x="4471200" y="4895280"/>
              <a:ext cx="30240" cy="511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rot="5400000">
              <a:off x="4469400" y="4593240"/>
              <a:ext cx="30240" cy="507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rot="5400000">
              <a:off x="4272840" y="4822560"/>
              <a:ext cx="428040" cy="162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rot="5400000">
              <a:off x="4476960" y="4603320"/>
              <a:ext cx="17280" cy="252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rot="5400000">
              <a:off x="4527720" y="4890960"/>
              <a:ext cx="10080" cy="58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rot="5400000">
              <a:off x="4500720" y="4912920"/>
              <a:ext cx="15120" cy="151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rot="5400000">
              <a:off x="4551840" y="4914000"/>
              <a:ext cx="15120" cy="151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rot="5400000">
              <a:off x="4551840" y="5125320"/>
              <a:ext cx="15120" cy="151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rot="5400000">
              <a:off x="4509360" y="4754520"/>
              <a:ext cx="60120" cy="23400"/>
            </a:xfrm>
            <a:prstGeom prst="rect">
              <a:avLst/>
            </a:prstGeom>
            <a:solidFill>
              <a:srgbClr val="009900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1" name=""/>
            <p:cNvGrpSpPr/>
            <p:nvPr/>
          </p:nvGrpSpPr>
          <p:grpSpPr>
            <a:xfrm>
              <a:off x="4290840" y="5113080"/>
              <a:ext cx="120960" cy="96840"/>
              <a:chOff x="4290840" y="5113080"/>
              <a:chExt cx="120960" cy="96840"/>
            </a:xfrm>
          </p:grpSpPr>
          <p:sp>
            <p:nvSpPr>
              <p:cNvPr id="1372" name=""/>
              <p:cNvSpPr/>
              <p:nvPr/>
            </p:nvSpPr>
            <p:spPr>
              <a:xfrm rot="5400000">
                <a:off x="4302720" y="5100840"/>
                <a:ext cx="96840" cy="12096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rot="5400000">
                <a:off x="4326840" y="5124600"/>
                <a:ext cx="43560" cy="71640"/>
              </a:xfrm>
              <a:prstGeom prst="rect">
                <a:avLst/>
              </a:prstGeom>
              <a:solidFill>
                <a:srgbClr val="009900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4" name=""/>
          <p:cNvSpPr/>
          <p:nvPr/>
        </p:nvSpPr>
        <p:spPr>
          <a:xfrm>
            <a:off x="4197240" y="444168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969696"/>
                </a:solidFill>
                <a:latin typeface="Arial"/>
              </a:rPr>
              <a:t>Op 90-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5" name=""/>
          <p:cNvGrpSpPr/>
          <p:nvPr/>
        </p:nvGrpSpPr>
        <p:grpSpPr>
          <a:xfrm>
            <a:off x="3911760" y="4602240"/>
            <a:ext cx="280080" cy="607680"/>
            <a:chOff x="3911760" y="4602240"/>
            <a:chExt cx="280080" cy="607680"/>
          </a:xfrm>
        </p:grpSpPr>
        <p:grpSp>
          <p:nvGrpSpPr>
            <p:cNvPr id="1376" name=""/>
            <p:cNvGrpSpPr/>
            <p:nvPr/>
          </p:nvGrpSpPr>
          <p:grpSpPr>
            <a:xfrm>
              <a:off x="3911760" y="5113080"/>
              <a:ext cx="120240" cy="96840"/>
              <a:chOff x="3911760" y="5113080"/>
              <a:chExt cx="120240" cy="96840"/>
            </a:xfrm>
          </p:grpSpPr>
          <p:sp>
            <p:nvSpPr>
              <p:cNvPr id="1377" name=""/>
              <p:cNvSpPr/>
              <p:nvPr/>
            </p:nvSpPr>
            <p:spPr>
              <a:xfrm rot="5400000">
                <a:off x="3923280" y="5101200"/>
                <a:ext cx="96840" cy="12024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rot="5400000">
                <a:off x="3951000" y="5126040"/>
                <a:ext cx="42840" cy="71280"/>
              </a:xfrm>
              <a:prstGeom prst="rect">
                <a:avLst/>
              </a:prstGeom>
              <a:solidFill>
                <a:srgbClr val="009900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9" name=""/>
            <p:cNvGrpSpPr/>
            <p:nvPr/>
          </p:nvGrpSpPr>
          <p:grpSpPr>
            <a:xfrm>
              <a:off x="4026240" y="4602240"/>
              <a:ext cx="165600" cy="601920"/>
              <a:chOff x="4026240" y="4602240"/>
              <a:chExt cx="165600" cy="601920"/>
            </a:xfrm>
          </p:grpSpPr>
          <p:sp>
            <p:nvSpPr>
              <p:cNvPr id="1380" name=""/>
              <p:cNvSpPr/>
              <p:nvPr/>
            </p:nvSpPr>
            <p:spPr>
              <a:xfrm rot="5400000">
                <a:off x="4039560" y="4710600"/>
                <a:ext cx="183960" cy="9180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rot="5400000">
                <a:off x="4102200" y="5100840"/>
                <a:ext cx="78480" cy="2736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rot="5400000">
                <a:off x="4044600" y="5118840"/>
                <a:ext cx="131760" cy="3888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rot="5400000">
                <a:off x="4109040" y="5081040"/>
                <a:ext cx="12960" cy="1008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rot="5400000">
                <a:off x="4132800" y="5066280"/>
                <a:ext cx="10080" cy="3780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 rot="5400000">
                <a:off x="4041000" y="4952880"/>
                <a:ext cx="246960" cy="900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 rot="5400000">
                <a:off x="4158000" y="5076360"/>
                <a:ext cx="14040" cy="1404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 rot="5400000">
                <a:off x="4084920" y="4752000"/>
                <a:ext cx="157320" cy="684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rot="5400000">
                <a:off x="4158720" y="4665960"/>
                <a:ext cx="10080" cy="1080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rot="5400000">
                <a:off x="4167360" y="4838760"/>
                <a:ext cx="9000" cy="504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rot="5400000">
                <a:off x="4079160" y="4713120"/>
                <a:ext cx="7920" cy="828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rot="8100000">
                <a:off x="4038120" y="4688640"/>
                <a:ext cx="32400" cy="4680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rot="5400000">
                <a:off x="4091760" y="4758480"/>
                <a:ext cx="70560" cy="2736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rot="5400000">
                <a:off x="4119120" y="5164560"/>
                <a:ext cx="46800" cy="2736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rot="5400000">
                <a:off x="4084560" y="5014800"/>
                <a:ext cx="204120" cy="1008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rot="5400000">
                <a:off x="4156560" y="5110920"/>
                <a:ext cx="10080" cy="3672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rot="5400000">
                <a:off x="4131720" y="5125320"/>
                <a:ext cx="12240" cy="1008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rot="5400000">
                <a:off x="4095720" y="4893120"/>
                <a:ext cx="30240" cy="5076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rot="5400000">
                <a:off x="4094640" y="4591800"/>
                <a:ext cx="30600" cy="5112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rot="5400000">
                <a:off x="3898080" y="4820760"/>
                <a:ext cx="426960" cy="1620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rot="5400000">
                <a:off x="4102200" y="4602240"/>
                <a:ext cx="17280" cy="2520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rot="5400000">
                <a:off x="4152240" y="4888800"/>
                <a:ext cx="10080" cy="5796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rot="5400000">
                <a:off x="4125600" y="4910760"/>
                <a:ext cx="15120" cy="1512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rot="5400000">
                <a:off x="4176360" y="4911480"/>
                <a:ext cx="15480" cy="1548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rot="5400000">
                <a:off x="4176000" y="5122800"/>
                <a:ext cx="16200" cy="1548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 rot="5400000">
                <a:off x="4134600" y="4753440"/>
                <a:ext cx="60480" cy="23040"/>
              </a:xfrm>
              <a:prstGeom prst="rect">
                <a:avLst/>
              </a:prstGeom>
              <a:solidFill>
                <a:srgbClr val="0099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06" name=""/>
          <p:cNvSpPr/>
          <p:nvPr/>
        </p:nvSpPr>
        <p:spPr>
          <a:xfrm rot="5400000">
            <a:off x="3920760" y="5189760"/>
            <a:ext cx="336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 rot="10800000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3762360" y="432756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969696"/>
                </a:solidFill>
                <a:latin typeface="Arial"/>
              </a:rPr>
              <a:t>Op 90-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3561840" y="4603680"/>
            <a:ext cx="279360" cy="606240"/>
            <a:chOff x="3561840" y="4603680"/>
            <a:chExt cx="279360" cy="606240"/>
          </a:xfrm>
        </p:grpSpPr>
        <p:grpSp>
          <p:nvGrpSpPr>
            <p:cNvPr id="1409" name=""/>
            <p:cNvGrpSpPr/>
            <p:nvPr/>
          </p:nvGrpSpPr>
          <p:grpSpPr>
            <a:xfrm>
              <a:off x="3561840" y="5113080"/>
              <a:ext cx="120600" cy="96840"/>
              <a:chOff x="3561840" y="5113080"/>
              <a:chExt cx="120600" cy="96840"/>
            </a:xfrm>
          </p:grpSpPr>
          <p:sp>
            <p:nvSpPr>
              <p:cNvPr id="1410" name=""/>
              <p:cNvSpPr/>
              <p:nvPr/>
            </p:nvSpPr>
            <p:spPr>
              <a:xfrm rot="5400000">
                <a:off x="3573720" y="5101200"/>
                <a:ext cx="96840" cy="12060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 rot="5400000">
                <a:off x="3601440" y="5125680"/>
                <a:ext cx="42480" cy="71640"/>
              </a:xfrm>
              <a:prstGeom prst="rect">
                <a:avLst/>
              </a:prstGeom>
              <a:solidFill>
                <a:srgbClr val="009900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2" name=""/>
            <p:cNvGrpSpPr/>
            <p:nvPr/>
          </p:nvGrpSpPr>
          <p:grpSpPr>
            <a:xfrm>
              <a:off x="3674520" y="4603680"/>
              <a:ext cx="166680" cy="601560"/>
              <a:chOff x="3674520" y="4603680"/>
              <a:chExt cx="166680" cy="601560"/>
            </a:xfrm>
          </p:grpSpPr>
          <p:sp>
            <p:nvSpPr>
              <p:cNvPr id="1413" name=""/>
              <p:cNvSpPr/>
              <p:nvPr/>
            </p:nvSpPr>
            <p:spPr>
              <a:xfrm rot="5400000">
                <a:off x="3688560" y="4711680"/>
                <a:ext cx="183600" cy="9180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 rot="5400000">
                <a:off x="3751560" y="5101920"/>
                <a:ext cx="78480" cy="2736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rot="5400000">
                <a:off x="3693600" y="5119920"/>
                <a:ext cx="131760" cy="3888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rot="5400000">
                <a:off x="3758040" y="5082120"/>
                <a:ext cx="12960" cy="1008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 rot="5400000">
                <a:off x="3781800" y="5067360"/>
                <a:ext cx="10080" cy="3780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rot="5400000">
                <a:off x="3688560" y="4955040"/>
                <a:ext cx="248040" cy="900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rot="5400000">
                <a:off x="3807360" y="5077440"/>
                <a:ext cx="14040" cy="1404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 rot="5400000">
                <a:off x="3734280" y="4753080"/>
                <a:ext cx="156960" cy="684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rot="5400000">
                <a:off x="3808080" y="4667400"/>
                <a:ext cx="10080" cy="1044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rot="5400000">
                <a:off x="3816720" y="4840200"/>
                <a:ext cx="9000" cy="504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 rot="5400000">
                <a:off x="3728520" y="4714560"/>
                <a:ext cx="8280" cy="828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rot="8100000">
                <a:off x="3686760" y="4689720"/>
                <a:ext cx="32400" cy="4788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 rot="5400000">
                <a:off x="3741120" y="4759560"/>
                <a:ext cx="70200" cy="2736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rot="5400000">
                <a:off x="3768120" y="5165640"/>
                <a:ext cx="46800" cy="2736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 rot="5400000">
                <a:off x="3733920" y="5015880"/>
                <a:ext cx="204120" cy="1044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rot="5400000">
                <a:off x="3805560" y="5112000"/>
                <a:ext cx="10080" cy="3672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 rot="5400000">
                <a:off x="3780720" y="5126760"/>
                <a:ext cx="12960" cy="1008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rot="5400000">
                <a:off x="3744720" y="4894560"/>
                <a:ext cx="30240" cy="5076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 rot="5400000">
                <a:off x="3743640" y="4593240"/>
                <a:ext cx="30240" cy="5076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 rot="5400000">
                <a:off x="3547440" y="4821840"/>
                <a:ext cx="426960" cy="1620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rot="5400000">
                <a:off x="3751200" y="4603320"/>
                <a:ext cx="17280" cy="2520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rot="5400000">
                <a:off x="3801960" y="4889880"/>
                <a:ext cx="10080" cy="5832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 rot="5400000">
                <a:off x="3774600" y="4911840"/>
                <a:ext cx="15480" cy="1512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rot="5400000">
                <a:off x="3825720" y="4912560"/>
                <a:ext cx="15120" cy="1548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 rot="5400000">
                <a:off x="3825360" y="5123880"/>
                <a:ext cx="16200" cy="1548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 rot="5400000">
                <a:off x="3783960" y="4754520"/>
                <a:ext cx="60120" cy="23400"/>
              </a:xfrm>
              <a:prstGeom prst="rect">
                <a:avLst/>
              </a:prstGeom>
              <a:solidFill>
                <a:srgbClr val="0099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9" name=""/>
          <p:cNvSpPr/>
          <p:nvPr/>
        </p:nvSpPr>
        <p:spPr>
          <a:xfrm>
            <a:off x="3321000" y="444168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969696"/>
                </a:solidFill>
                <a:latin typeface="Arial"/>
              </a:rPr>
              <a:t>Op 90-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2834280" y="409896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969696"/>
                </a:solidFill>
                <a:latin typeface="Arial"/>
              </a:rPr>
              <a:t>Op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flipH="1" flipV="1">
            <a:off x="2787120" y="4568760"/>
            <a:ext cx="109800" cy="17136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flipH="1">
            <a:off x="2162160" y="4568760"/>
            <a:ext cx="63648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2100960" y="432756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969696"/>
                </a:solidFill>
                <a:latin typeface="Arial"/>
              </a:rPr>
              <a:t>Op 1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 flipV="1">
            <a:off x="2060640" y="4568400"/>
            <a:ext cx="109440" cy="19548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431720" y="4533840"/>
            <a:ext cx="73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969696"/>
                </a:solidFill>
                <a:latin typeface="Arial"/>
              </a:rPr>
              <a:t>Op 120-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 flipH="1">
            <a:off x="2893680" y="4740120"/>
            <a:ext cx="53820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2941560" y="4304880"/>
            <a:ext cx="434520" cy="537120"/>
            <a:chOff x="2941560" y="4304880"/>
            <a:chExt cx="434520" cy="537120"/>
          </a:xfrm>
        </p:grpSpPr>
        <p:sp>
          <p:nvSpPr>
            <p:cNvPr id="1448" name=""/>
            <p:cNvSpPr/>
            <p:nvPr/>
          </p:nvSpPr>
          <p:spPr>
            <a:xfrm rot="16200000">
              <a:off x="2966760" y="4711320"/>
              <a:ext cx="47880" cy="33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9" name=""/>
            <p:cNvGrpSpPr/>
            <p:nvPr/>
          </p:nvGrpSpPr>
          <p:grpSpPr>
            <a:xfrm>
              <a:off x="2986920" y="4615920"/>
              <a:ext cx="6840" cy="219600"/>
              <a:chOff x="2986920" y="4615920"/>
              <a:chExt cx="6840" cy="219600"/>
            </a:xfrm>
          </p:grpSpPr>
          <p:sp>
            <p:nvSpPr>
              <p:cNvPr id="1450" name=""/>
              <p:cNvSpPr/>
              <p:nvPr/>
            </p:nvSpPr>
            <p:spPr>
              <a:xfrm flipV="1">
                <a:off x="2993760" y="4615920"/>
                <a:ext cx="0" cy="21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flipV="1">
                <a:off x="2986920" y="4615920"/>
                <a:ext cx="0" cy="21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2" name=""/>
            <p:cNvGrpSpPr/>
            <p:nvPr/>
          </p:nvGrpSpPr>
          <p:grpSpPr>
            <a:xfrm>
              <a:off x="3028320" y="4615560"/>
              <a:ext cx="7920" cy="222840"/>
              <a:chOff x="3028320" y="4615560"/>
              <a:chExt cx="7920" cy="222840"/>
            </a:xfrm>
          </p:grpSpPr>
          <p:sp>
            <p:nvSpPr>
              <p:cNvPr id="1453" name=""/>
              <p:cNvSpPr/>
              <p:nvPr/>
            </p:nvSpPr>
            <p:spPr>
              <a:xfrm flipV="1">
                <a:off x="3036240" y="4615560"/>
                <a:ext cx="0" cy="22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flipV="1">
                <a:off x="3028320" y="4615560"/>
                <a:ext cx="0" cy="22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5" name=""/>
            <p:cNvSpPr/>
            <p:nvPr/>
          </p:nvSpPr>
          <p:spPr>
            <a:xfrm rot="16200000">
              <a:off x="3111840" y="4537080"/>
              <a:ext cx="181800" cy="1234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rot="16200000">
              <a:off x="3138480" y="4573080"/>
              <a:ext cx="112320" cy="1872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rot="16200000">
              <a:off x="3180240" y="4416120"/>
              <a:ext cx="78840" cy="777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261600" y="4309920"/>
              <a:ext cx="31680" cy="3960"/>
            </a:xfrm>
            <a:custGeom>
              <a:avLst/>
              <a:gdLst/>
              <a:ahLst/>
              <a:rect l="l" t="t" r="r" b="b"/>
              <a:pathLst>
                <a:path w="252" h="41">
                  <a:moveTo>
                    <a:pt x="0" y="35"/>
                  </a:moveTo>
                  <a:cubicBezTo>
                    <a:pt x="12" y="33"/>
                    <a:pt x="24" y="28"/>
                    <a:pt x="36" y="29"/>
                  </a:cubicBezTo>
                  <a:cubicBezTo>
                    <a:pt x="43" y="30"/>
                    <a:pt x="47" y="41"/>
                    <a:pt x="54" y="41"/>
                  </a:cubicBezTo>
                  <a:cubicBezTo>
                    <a:pt x="61" y="41"/>
                    <a:pt x="65" y="32"/>
                    <a:pt x="72" y="29"/>
                  </a:cubicBezTo>
                  <a:cubicBezTo>
                    <a:pt x="136" y="0"/>
                    <a:pt x="85" y="32"/>
                    <a:pt x="126" y="5"/>
                  </a:cubicBezTo>
                  <a:cubicBezTo>
                    <a:pt x="134" y="17"/>
                    <a:pt x="138" y="31"/>
                    <a:pt x="156" y="29"/>
                  </a:cubicBezTo>
                  <a:cubicBezTo>
                    <a:pt x="169" y="28"/>
                    <a:pt x="192" y="17"/>
                    <a:pt x="192" y="17"/>
                  </a:cubicBezTo>
                  <a:cubicBezTo>
                    <a:pt x="225" y="28"/>
                    <a:pt x="221" y="5"/>
                    <a:pt x="252" y="5"/>
                  </a:cubicBezTo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rot="18900000">
              <a:off x="3265920" y="4320000"/>
              <a:ext cx="52920" cy="234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V="1">
              <a:off x="3236040" y="4311720"/>
              <a:ext cx="42840" cy="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V="1">
              <a:off x="3244320" y="4310640"/>
              <a:ext cx="468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2" name=""/>
            <p:cNvGrpSpPr/>
            <p:nvPr/>
          </p:nvGrpSpPr>
          <p:grpSpPr>
            <a:xfrm>
              <a:off x="3196080" y="4314240"/>
              <a:ext cx="47880" cy="140760"/>
              <a:chOff x="3196080" y="4314240"/>
              <a:chExt cx="47880" cy="140760"/>
            </a:xfrm>
          </p:grpSpPr>
          <p:sp>
            <p:nvSpPr>
              <p:cNvPr id="1463" name=""/>
              <p:cNvSpPr/>
              <p:nvPr/>
            </p:nvSpPr>
            <p:spPr>
              <a:xfrm rot="10800000">
                <a:off x="3197160" y="4379400"/>
                <a:ext cx="5760" cy="23040"/>
              </a:xfrm>
              <a:prstGeom prst="downArrow">
                <a:avLst>
                  <a:gd name="adj1" fmla="val 50000"/>
                  <a:gd name="adj2" fmla="val 100000"/>
                </a:avLst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236400" y="4380120"/>
                <a:ext cx="6120" cy="22680"/>
              </a:xfrm>
              <a:prstGeom prst="downArrow">
                <a:avLst>
                  <a:gd name="adj1" fmla="val 50000"/>
                  <a:gd name="adj2" fmla="val 92647"/>
                </a:avLst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204720" y="4455000"/>
                <a:ext cx="2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6" name=""/>
              <p:cNvGrpSpPr/>
              <p:nvPr/>
            </p:nvGrpSpPr>
            <p:grpSpPr>
              <a:xfrm>
                <a:off x="3236040" y="4362480"/>
                <a:ext cx="7560" cy="78840"/>
                <a:chOff x="3236040" y="4362480"/>
                <a:chExt cx="7560" cy="78840"/>
              </a:xfrm>
            </p:grpSpPr>
            <p:sp>
              <p:nvSpPr>
                <p:cNvPr id="1467" name=""/>
                <p:cNvSpPr/>
                <p:nvPr/>
              </p:nvSpPr>
              <p:spPr>
                <a:xfrm>
                  <a:off x="3236040" y="4362480"/>
                  <a:ext cx="0" cy="78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3243600" y="4362480"/>
                  <a:ext cx="0" cy="78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9" name=""/>
              <p:cNvGrpSpPr/>
              <p:nvPr/>
            </p:nvGrpSpPr>
            <p:grpSpPr>
              <a:xfrm>
                <a:off x="3196440" y="4314240"/>
                <a:ext cx="6840" cy="127800"/>
                <a:chOff x="3196440" y="4314240"/>
                <a:chExt cx="6840" cy="127800"/>
              </a:xfrm>
            </p:grpSpPr>
            <p:sp>
              <p:nvSpPr>
                <p:cNvPr id="1470" name=""/>
                <p:cNvSpPr/>
                <p:nvPr/>
              </p:nvSpPr>
              <p:spPr>
                <a:xfrm>
                  <a:off x="3196440" y="4314240"/>
                  <a:ext cx="0" cy="12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3203280" y="4314240"/>
                  <a:ext cx="0" cy="12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2" name=""/>
              <p:cNvSpPr/>
              <p:nvPr/>
            </p:nvSpPr>
            <p:spPr>
              <a:xfrm>
                <a:off x="3202920" y="4442040"/>
                <a:ext cx="504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 flipH="1">
                <a:off x="3228120" y="4440960"/>
                <a:ext cx="756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207960" y="4447440"/>
                <a:ext cx="2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196440" y="4442040"/>
                <a:ext cx="0" cy="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flipV="1">
                <a:off x="3231360" y="4443120"/>
                <a:ext cx="12600" cy="1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 flipV="1">
                <a:off x="3243960" y="4436640"/>
                <a:ext cx="0" cy="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196080" y="4447080"/>
                <a:ext cx="9000" cy="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V="1">
                <a:off x="3236040" y="4357800"/>
                <a:ext cx="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0" name=""/>
            <p:cNvSpPr/>
            <p:nvPr/>
          </p:nvSpPr>
          <p:spPr>
            <a:xfrm rot="16200000">
              <a:off x="3270960" y="4514760"/>
              <a:ext cx="18000" cy="3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 rot="16200000">
              <a:off x="3276720" y="4514040"/>
              <a:ext cx="18000" cy="50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rot="16200000">
              <a:off x="3281760" y="4532400"/>
              <a:ext cx="15120" cy="100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V="1">
              <a:off x="3290400" y="4520160"/>
              <a:ext cx="0" cy="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rot="16200000">
              <a:off x="3288240" y="4512600"/>
              <a:ext cx="7920" cy="79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rot="16200000">
              <a:off x="3270240" y="4511160"/>
              <a:ext cx="174600" cy="367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rot="16200000">
              <a:off x="3330720" y="4678920"/>
              <a:ext cx="48960" cy="273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7" name=""/>
            <p:cNvGrpSpPr/>
            <p:nvPr/>
          </p:nvGrpSpPr>
          <p:grpSpPr>
            <a:xfrm>
              <a:off x="3349800" y="4680720"/>
              <a:ext cx="12240" cy="23400"/>
              <a:chOff x="3349800" y="4680720"/>
              <a:chExt cx="12240" cy="23400"/>
            </a:xfrm>
          </p:grpSpPr>
          <p:grpSp>
            <p:nvGrpSpPr>
              <p:cNvPr id="1488" name=""/>
              <p:cNvGrpSpPr/>
              <p:nvPr/>
            </p:nvGrpSpPr>
            <p:grpSpPr>
              <a:xfrm>
                <a:off x="3349800" y="4680720"/>
                <a:ext cx="12240" cy="23400"/>
                <a:chOff x="3349800" y="4680720"/>
                <a:chExt cx="12240" cy="23400"/>
              </a:xfrm>
            </p:grpSpPr>
            <p:sp>
              <p:nvSpPr>
                <p:cNvPr id="1489" name=""/>
                <p:cNvSpPr/>
                <p:nvPr/>
              </p:nvSpPr>
              <p:spPr>
                <a:xfrm rot="16200000">
                  <a:off x="3347280" y="4689360"/>
                  <a:ext cx="17280" cy="12240"/>
                </a:xfrm>
                <a:prstGeom prst="rect">
                  <a:avLst/>
                </a:prstGeom>
                <a:solidFill>
                  <a:srgbClr val="00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 rot="16200000">
                  <a:off x="3353040" y="4677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39" h="83">
                      <a:moveTo>
                        <a:pt x="1" y="83"/>
                      </a:moveTo>
                      <a:cubicBezTo>
                        <a:pt x="20" y="70"/>
                        <a:pt x="39" y="58"/>
                        <a:pt x="39" y="44"/>
                      </a:cubicBezTo>
                      <a:cubicBezTo>
                        <a:pt x="39" y="30"/>
                        <a:pt x="6" y="7"/>
                        <a:pt x="0" y="0"/>
                      </a:cubicBezTo>
                    </a:path>
                  </a:pathLst>
                </a:custGeom>
                <a:solidFill>
                  <a:srgbClr val="0099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1" name=""/>
              <p:cNvSpPr/>
              <p:nvPr/>
            </p:nvSpPr>
            <p:spPr>
              <a:xfrm flipV="1">
                <a:off x="3352320" y="4684320"/>
                <a:ext cx="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 flipV="1">
                <a:off x="3359160" y="4684320"/>
                <a:ext cx="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 flipV="1">
                <a:off x="3354120" y="4684320"/>
                <a:ext cx="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flipV="1">
                <a:off x="3355920" y="4684320"/>
                <a:ext cx="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V="1">
                <a:off x="3357720" y="4684320"/>
                <a:ext cx="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flipH="1">
                <a:off x="3351960" y="4683600"/>
                <a:ext cx="75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7" name=""/>
            <p:cNvSpPr/>
            <p:nvPr/>
          </p:nvSpPr>
          <p:spPr>
            <a:xfrm rot="16200000">
              <a:off x="3354840" y="4678560"/>
              <a:ext cx="5760" cy="50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rot="16200000">
              <a:off x="3296160" y="4556160"/>
              <a:ext cx="123840" cy="90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rot="16200000">
              <a:off x="3330720" y="4642560"/>
              <a:ext cx="54000" cy="39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rot="16200000">
              <a:off x="3258000" y="4524840"/>
              <a:ext cx="9000" cy="1900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rot="16200000">
              <a:off x="3351960" y="4612320"/>
              <a:ext cx="12960" cy="13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 rot="16200000">
              <a:off x="3135240" y="4588560"/>
              <a:ext cx="5040" cy="633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rot="16200000">
              <a:off x="3163680" y="4612680"/>
              <a:ext cx="12960" cy="129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rot="16200000">
              <a:off x="3113640" y="4587840"/>
              <a:ext cx="21240" cy="367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rot="16200000">
              <a:off x="3256560" y="4635720"/>
              <a:ext cx="22320" cy="39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rot="16200000">
              <a:off x="3186720" y="4455000"/>
              <a:ext cx="99000" cy="30600"/>
            </a:xfrm>
            <a:prstGeom prst="rect">
              <a:avLst/>
            </a:prstGeom>
            <a:solidFill>
              <a:srgbClr val="009900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rot="16200000">
              <a:off x="3121560" y="4609440"/>
              <a:ext cx="5760" cy="367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 rot="16200000">
              <a:off x="3205440" y="4709520"/>
              <a:ext cx="50040" cy="745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 flipV="1">
              <a:off x="3101040" y="4721760"/>
              <a:ext cx="92880" cy="5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rot="16200000">
              <a:off x="3120840" y="4699800"/>
              <a:ext cx="55080" cy="90720"/>
            </a:xfrm>
            <a:custGeom>
              <a:avLst/>
              <a:gdLst/>
              <a:ahLst/>
              <a:rect l="l" t="t" r="r" b="b"/>
              <a:pathLst>
                <a:path w="371" h="609">
                  <a:moveTo>
                    <a:pt x="5" y="603"/>
                  </a:moveTo>
                  <a:cubicBezTo>
                    <a:pt x="36" y="604"/>
                    <a:pt x="57" y="606"/>
                    <a:pt x="86" y="607"/>
                  </a:cubicBezTo>
                  <a:cubicBezTo>
                    <a:pt x="99" y="609"/>
                    <a:pt x="125" y="606"/>
                    <a:pt x="125" y="606"/>
                  </a:cubicBezTo>
                  <a:cubicBezTo>
                    <a:pt x="136" y="601"/>
                    <a:pt x="147" y="602"/>
                    <a:pt x="159" y="601"/>
                  </a:cubicBezTo>
                  <a:cubicBezTo>
                    <a:pt x="187" y="603"/>
                    <a:pt x="207" y="605"/>
                    <a:pt x="234" y="603"/>
                  </a:cubicBezTo>
                  <a:cubicBezTo>
                    <a:pt x="251" y="604"/>
                    <a:pt x="268" y="601"/>
                    <a:pt x="285" y="600"/>
                  </a:cubicBezTo>
                  <a:cubicBezTo>
                    <a:pt x="286" y="600"/>
                    <a:pt x="333" y="602"/>
                    <a:pt x="341" y="600"/>
                  </a:cubicBezTo>
                  <a:cubicBezTo>
                    <a:pt x="343" y="599"/>
                    <a:pt x="345" y="576"/>
                    <a:pt x="347" y="571"/>
                  </a:cubicBezTo>
                  <a:cubicBezTo>
                    <a:pt x="348" y="559"/>
                    <a:pt x="352" y="548"/>
                    <a:pt x="356" y="537"/>
                  </a:cubicBezTo>
                  <a:cubicBezTo>
                    <a:pt x="354" y="525"/>
                    <a:pt x="355" y="513"/>
                    <a:pt x="351" y="502"/>
                  </a:cubicBezTo>
                  <a:cubicBezTo>
                    <a:pt x="352" y="470"/>
                    <a:pt x="356" y="440"/>
                    <a:pt x="359" y="409"/>
                  </a:cubicBezTo>
                  <a:cubicBezTo>
                    <a:pt x="360" y="381"/>
                    <a:pt x="359" y="369"/>
                    <a:pt x="369" y="346"/>
                  </a:cubicBezTo>
                  <a:cubicBezTo>
                    <a:pt x="368" y="343"/>
                    <a:pt x="368" y="338"/>
                    <a:pt x="366" y="336"/>
                  </a:cubicBezTo>
                  <a:cubicBezTo>
                    <a:pt x="365" y="335"/>
                    <a:pt x="364" y="341"/>
                    <a:pt x="363" y="340"/>
                  </a:cubicBezTo>
                  <a:cubicBezTo>
                    <a:pt x="361" y="339"/>
                    <a:pt x="360" y="322"/>
                    <a:pt x="359" y="319"/>
                  </a:cubicBezTo>
                  <a:cubicBezTo>
                    <a:pt x="362" y="296"/>
                    <a:pt x="357" y="334"/>
                    <a:pt x="362" y="277"/>
                  </a:cubicBezTo>
                  <a:cubicBezTo>
                    <a:pt x="363" y="266"/>
                    <a:pt x="366" y="243"/>
                    <a:pt x="366" y="243"/>
                  </a:cubicBezTo>
                  <a:cubicBezTo>
                    <a:pt x="367" y="212"/>
                    <a:pt x="368" y="181"/>
                    <a:pt x="371" y="150"/>
                  </a:cubicBezTo>
                  <a:cubicBezTo>
                    <a:pt x="370" y="107"/>
                    <a:pt x="371" y="80"/>
                    <a:pt x="366" y="43"/>
                  </a:cubicBezTo>
                  <a:cubicBezTo>
                    <a:pt x="365" y="34"/>
                    <a:pt x="368" y="17"/>
                    <a:pt x="357" y="15"/>
                  </a:cubicBezTo>
                  <a:cubicBezTo>
                    <a:pt x="350" y="12"/>
                    <a:pt x="349" y="5"/>
                    <a:pt x="344" y="0"/>
                  </a:cubicBezTo>
                  <a:cubicBezTo>
                    <a:pt x="331" y="2"/>
                    <a:pt x="327" y="17"/>
                    <a:pt x="321" y="28"/>
                  </a:cubicBezTo>
                  <a:cubicBezTo>
                    <a:pt x="320" y="35"/>
                    <a:pt x="315" y="36"/>
                    <a:pt x="312" y="42"/>
                  </a:cubicBezTo>
                  <a:cubicBezTo>
                    <a:pt x="311" y="49"/>
                    <a:pt x="306" y="54"/>
                    <a:pt x="303" y="61"/>
                  </a:cubicBezTo>
                  <a:cubicBezTo>
                    <a:pt x="301" y="72"/>
                    <a:pt x="290" y="83"/>
                    <a:pt x="285" y="93"/>
                  </a:cubicBezTo>
                  <a:cubicBezTo>
                    <a:pt x="283" y="106"/>
                    <a:pt x="278" y="114"/>
                    <a:pt x="267" y="121"/>
                  </a:cubicBezTo>
                  <a:cubicBezTo>
                    <a:pt x="264" y="126"/>
                    <a:pt x="264" y="131"/>
                    <a:pt x="261" y="136"/>
                  </a:cubicBezTo>
                  <a:cubicBezTo>
                    <a:pt x="260" y="143"/>
                    <a:pt x="257" y="146"/>
                    <a:pt x="258" y="153"/>
                  </a:cubicBezTo>
                  <a:cubicBezTo>
                    <a:pt x="252" y="158"/>
                    <a:pt x="249" y="164"/>
                    <a:pt x="243" y="169"/>
                  </a:cubicBezTo>
                  <a:cubicBezTo>
                    <a:pt x="239" y="178"/>
                    <a:pt x="237" y="185"/>
                    <a:pt x="228" y="190"/>
                  </a:cubicBezTo>
                  <a:cubicBezTo>
                    <a:pt x="226" y="202"/>
                    <a:pt x="218" y="215"/>
                    <a:pt x="209" y="223"/>
                  </a:cubicBezTo>
                  <a:cubicBezTo>
                    <a:pt x="207" y="229"/>
                    <a:pt x="201" y="241"/>
                    <a:pt x="201" y="241"/>
                  </a:cubicBezTo>
                  <a:cubicBezTo>
                    <a:pt x="199" y="249"/>
                    <a:pt x="195" y="255"/>
                    <a:pt x="189" y="261"/>
                  </a:cubicBezTo>
                  <a:cubicBezTo>
                    <a:pt x="188" y="269"/>
                    <a:pt x="185" y="276"/>
                    <a:pt x="180" y="283"/>
                  </a:cubicBezTo>
                  <a:cubicBezTo>
                    <a:pt x="179" y="289"/>
                    <a:pt x="176" y="290"/>
                    <a:pt x="177" y="297"/>
                  </a:cubicBezTo>
                  <a:cubicBezTo>
                    <a:pt x="168" y="306"/>
                    <a:pt x="164" y="318"/>
                    <a:pt x="155" y="327"/>
                  </a:cubicBezTo>
                  <a:cubicBezTo>
                    <a:pt x="152" y="338"/>
                    <a:pt x="150" y="348"/>
                    <a:pt x="143" y="357"/>
                  </a:cubicBezTo>
                  <a:cubicBezTo>
                    <a:pt x="140" y="367"/>
                    <a:pt x="130" y="377"/>
                    <a:pt x="123" y="385"/>
                  </a:cubicBezTo>
                  <a:cubicBezTo>
                    <a:pt x="112" y="415"/>
                    <a:pt x="89" y="440"/>
                    <a:pt x="75" y="469"/>
                  </a:cubicBezTo>
                  <a:cubicBezTo>
                    <a:pt x="74" y="475"/>
                    <a:pt x="72" y="479"/>
                    <a:pt x="69" y="484"/>
                  </a:cubicBezTo>
                  <a:cubicBezTo>
                    <a:pt x="67" y="493"/>
                    <a:pt x="69" y="487"/>
                    <a:pt x="63" y="499"/>
                  </a:cubicBezTo>
                  <a:cubicBezTo>
                    <a:pt x="62" y="501"/>
                    <a:pt x="60" y="505"/>
                    <a:pt x="60" y="505"/>
                  </a:cubicBezTo>
                  <a:cubicBezTo>
                    <a:pt x="59" y="511"/>
                    <a:pt x="50" y="520"/>
                    <a:pt x="50" y="520"/>
                  </a:cubicBezTo>
                  <a:cubicBezTo>
                    <a:pt x="48" y="525"/>
                    <a:pt x="45" y="529"/>
                    <a:pt x="42" y="534"/>
                  </a:cubicBezTo>
                  <a:cubicBezTo>
                    <a:pt x="40" y="544"/>
                    <a:pt x="25" y="565"/>
                    <a:pt x="18" y="574"/>
                  </a:cubicBezTo>
                  <a:cubicBezTo>
                    <a:pt x="17" y="581"/>
                    <a:pt x="12" y="586"/>
                    <a:pt x="9" y="592"/>
                  </a:cubicBezTo>
                  <a:cubicBezTo>
                    <a:pt x="8" y="596"/>
                    <a:pt x="8" y="597"/>
                    <a:pt x="6" y="601"/>
                  </a:cubicBezTo>
                  <a:cubicBezTo>
                    <a:pt x="5" y="603"/>
                    <a:pt x="0" y="604"/>
                    <a:pt x="2" y="606"/>
                  </a:cubicBezTo>
                  <a:cubicBezTo>
                    <a:pt x="3" y="607"/>
                    <a:pt x="22" y="601"/>
                    <a:pt x="23" y="601"/>
                  </a:cubicBezTo>
                  <a:cubicBezTo>
                    <a:pt x="33" y="606"/>
                    <a:pt x="38" y="604"/>
                    <a:pt x="50" y="603"/>
                  </a:cubicBezTo>
                  <a:cubicBezTo>
                    <a:pt x="62" y="608"/>
                    <a:pt x="58" y="607"/>
                    <a:pt x="68" y="607"/>
                  </a:cubicBezTo>
                </a:path>
              </a:pathLst>
            </a:custGeom>
            <a:solidFill>
              <a:srgbClr val="009900"/>
            </a:solidFill>
            <a:ln w="1260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H="1" flipV="1">
              <a:off x="3100680" y="4721760"/>
              <a:ext cx="91800" cy="5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rot="16200000">
              <a:off x="3133080" y="4659480"/>
              <a:ext cx="71640" cy="50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rot="16200000">
              <a:off x="3107880" y="4566600"/>
              <a:ext cx="16200" cy="3488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rot="16200000">
              <a:off x="3164040" y="4692960"/>
              <a:ext cx="12240" cy="129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rot="16200000">
              <a:off x="3260880" y="4645800"/>
              <a:ext cx="12240" cy="111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189240" y="4311720"/>
              <a:ext cx="30600" cy="3960"/>
            </a:xfrm>
            <a:custGeom>
              <a:avLst/>
              <a:gdLst/>
              <a:ahLst/>
              <a:rect l="l" t="t" r="r" b="b"/>
              <a:pathLst>
                <a:path w="252" h="41">
                  <a:moveTo>
                    <a:pt x="0" y="35"/>
                  </a:moveTo>
                  <a:cubicBezTo>
                    <a:pt x="12" y="33"/>
                    <a:pt x="24" y="28"/>
                    <a:pt x="36" y="29"/>
                  </a:cubicBezTo>
                  <a:cubicBezTo>
                    <a:pt x="43" y="30"/>
                    <a:pt x="47" y="41"/>
                    <a:pt x="54" y="41"/>
                  </a:cubicBezTo>
                  <a:cubicBezTo>
                    <a:pt x="61" y="41"/>
                    <a:pt x="65" y="32"/>
                    <a:pt x="72" y="29"/>
                  </a:cubicBezTo>
                  <a:cubicBezTo>
                    <a:pt x="136" y="0"/>
                    <a:pt x="85" y="32"/>
                    <a:pt x="126" y="5"/>
                  </a:cubicBezTo>
                  <a:cubicBezTo>
                    <a:pt x="134" y="17"/>
                    <a:pt x="138" y="31"/>
                    <a:pt x="156" y="29"/>
                  </a:cubicBezTo>
                  <a:cubicBezTo>
                    <a:pt x="169" y="28"/>
                    <a:pt x="192" y="17"/>
                    <a:pt x="192" y="17"/>
                  </a:cubicBezTo>
                  <a:cubicBezTo>
                    <a:pt x="225" y="28"/>
                    <a:pt x="221" y="5"/>
                    <a:pt x="252" y="5"/>
                  </a:cubicBezTo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rot="16200000">
              <a:off x="3189600" y="4691160"/>
              <a:ext cx="12240" cy="1296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>
              <a:off x="2999520" y="460260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H="1" flipV="1">
              <a:off x="3023280" y="4608360"/>
              <a:ext cx="3600" cy="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2993040" y="4608360"/>
              <a:ext cx="9000" cy="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H="1">
              <a:off x="3002760" y="4609800"/>
              <a:ext cx="2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>
              <a:off x="2986920" y="4601520"/>
              <a:ext cx="1332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987280" y="461376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 flipV="1">
              <a:off x="3026880" y="4602600"/>
              <a:ext cx="8280" cy="1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 rot="16200000">
              <a:off x="3025800" y="4785480"/>
              <a:ext cx="57960" cy="266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V="1">
              <a:off x="3193200" y="4714920"/>
              <a:ext cx="0" cy="1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975400" y="4836600"/>
              <a:ext cx="31320" cy="3960"/>
            </a:xfrm>
            <a:custGeom>
              <a:avLst/>
              <a:gdLst/>
              <a:ahLst/>
              <a:rect l="l" t="t" r="r" b="b"/>
              <a:pathLst>
                <a:path w="252" h="41">
                  <a:moveTo>
                    <a:pt x="0" y="35"/>
                  </a:moveTo>
                  <a:cubicBezTo>
                    <a:pt x="12" y="33"/>
                    <a:pt x="24" y="28"/>
                    <a:pt x="36" y="29"/>
                  </a:cubicBezTo>
                  <a:cubicBezTo>
                    <a:pt x="43" y="30"/>
                    <a:pt x="47" y="41"/>
                    <a:pt x="54" y="41"/>
                  </a:cubicBezTo>
                  <a:cubicBezTo>
                    <a:pt x="61" y="41"/>
                    <a:pt x="65" y="32"/>
                    <a:pt x="72" y="29"/>
                  </a:cubicBezTo>
                  <a:cubicBezTo>
                    <a:pt x="136" y="0"/>
                    <a:pt x="85" y="32"/>
                    <a:pt x="126" y="5"/>
                  </a:cubicBezTo>
                  <a:cubicBezTo>
                    <a:pt x="134" y="17"/>
                    <a:pt x="138" y="31"/>
                    <a:pt x="156" y="29"/>
                  </a:cubicBezTo>
                  <a:cubicBezTo>
                    <a:pt x="169" y="28"/>
                    <a:pt x="192" y="17"/>
                    <a:pt x="192" y="17"/>
                  </a:cubicBezTo>
                  <a:cubicBezTo>
                    <a:pt x="225" y="28"/>
                    <a:pt x="221" y="5"/>
                    <a:pt x="252" y="5"/>
                  </a:cubicBezTo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016080" y="4837680"/>
              <a:ext cx="31680" cy="3960"/>
            </a:xfrm>
            <a:custGeom>
              <a:avLst/>
              <a:gdLst/>
              <a:ahLst/>
              <a:rect l="l" t="t" r="r" b="b"/>
              <a:pathLst>
                <a:path w="252" h="41">
                  <a:moveTo>
                    <a:pt x="0" y="35"/>
                  </a:moveTo>
                  <a:cubicBezTo>
                    <a:pt x="12" y="33"/>
                    <a:pt x="24" y="28"/>
                    <a:pt x="36" y="29"/>
                  </a:cubicBezTo>
                  <a:cubicBezTo>
                    <a:pt x="43" y="30"/>
                    <a:pt x="47" y="41"/>
                    <a:pt x="54" y="41"/>
                  </a:cubicBezTo>
                  <a:cubicBezTo>
                    <a:pt x="61" y="41"/>
                    <a:pt x="65" y="32"/>
                    <a:pt x="72" y="29"/>
                  </a:cubicBezTo>
                  <a:cubicBezTo>
                    <a:pt x="136" y="0"/>
                    <a:pt x="85" y="32"/>
                    <a:pt x="126" y="5"/>
                  </a:cubicBezTo>
                  <a:cubicBezTo>
                    <a:pt x="134" y="17"/>
                    <a:pt x="138" y="31"/>
                    <a:pt x="156" y="29"/>
                  </a:cubicBezTo>
                  <a:cubicBezTo>
                    <a:pt x="169" y="28"/>
                    <a:pt x="192" y="17"/>
                    <a:pt x="192" y="17"/>
                  </a:cubicBezTo>
                  <a:cubicBezTo>
                    <a:pt x="225" y="28"/>
                    <a:pt x="221" y="5"/>
                    <a:pt x="252" y="5"/>
                  </a:cubicBezTo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 rot="10800000">
              <a:off x="3029040" y="4788720"/>
              <a:ext cx="6120" cy="22320"/>
            </a:xfrm>
            <a:prstGeom prst="downArrow">
              <a:avLst>
                <a:gd name="adj1" fmla="val 50000"/>
                <a:gd name="adj2" fmla="val 91176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988360" y="4788720"/>
              <a:ext cx="5040" cy="22320"/>
            </a:xfrm>
            <a:prstGeom prst="downArrow">
              <a:avLst>
                <a:gd name="adj1" fmla="val 50000"/>
                <a:gd name="adj2" fmla="val 110714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V="1">
              <a:off x="3035520" y="4613760"/>
              <a:ext cx="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rot="16200000">
              <a:off x="3351600" y="4497120"/>
              <a:ext cx="12240" cy="140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rot="16200000">
              <a:off x="3032640" y="4762440"/>
              <a:ext cx="31680" cy="39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rot="16200000">
              <a:off x="3042360" y="4773960"/>
              <a:ext cx="10440" cy="100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rot="16200000">
              <a:off x="3236040" y="4488480"/>
              <a:ext cx="28440" cy="201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rot="16200000">
              <a:off x="3239640" y="4493160"/>
              <a:ext cx="22320" cy="9000"/>
            </a:xfrm>
            <a:prstGeom prst="leftRightArrow">
              <a:avLst>
                <a:gd name="adj1" fmla="val 50000"/>
                <a:gd name="adj2" fmla="val 4937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rot="16200000">
              <a:off x="3270960" y="4733280"/>
              <a:ext cx="25200" cy="133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rot="16200000">
              <a:off x="3042000" y="4732920"/>
              <a:ext cx="25200" cy="140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rot="16200000">
              <a:off x="2932920" y="4734000"/>
              <a:ext cx="32400" cy="1512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rot="16200000">
              <a:off x="3224880" y="4449240"/>
              <a:ext cx="55080" cy="1224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rot="5400000">
              <a:off x="3309840" y="4788000"/>
              <a:ext cx="55440" cy="52200"/>
            </a:xfrm>
            <a:prstGeom prst="rect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rot="5400000">
              <a:off x="3327120" y="4820040"/>
              <a:ext cx="21240" cy="19440"/>
            </a:xfrm>
            <a:prstGeom prst="rect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rot="5400000">
              <a:off x="3331080" y="4823640"/>
              <a:ext cx="12960" cy="12240"/>
            </a:xfrm>
            <a:prstGeom prst="ellipse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rot="5400000">
              <a:off x="3340800" y="4802400"/>
              <a:ext cx="35640" cy="20160"/>
            </a:xfrm>
            <a:prstGeom prst="rect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rot="16200000">
              <a:off x="3355920" y="4832640"/>
              <a:ext cx="5040" cy="504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6" name=""/>
          <p:cNvGrpSpPr/>
          <p:nvPr/>
        </p:nvGrpSpPr>
        <p:grpSpPr>
          <a:xfrm>
            <a:off x="2177640" y="4522680"/>
            <a:ext cx="646560" cy="266400"/>
            <a:chOff x="2177640" y="4522680"/>
            <a:chExt cx="646560" cy="266400"/>
          </a:xfrm>
        </p:grpSpPr>
        <p:grpSp>
          <p:nvGrpSpPr>
            <p:cNvPr id="1547" name=""/>
            <p:cNvGrpSpPr/>
            <p:nvPr/>
          </p:nvGrpSpPr>
          <p:grpSpPr>
            <a:xfrm>
              <a:off x="2689560" y="4713480"/>
              <a:ext cx="17280" cy="17280"/>
              <a:chOff x="2689560" y="4713480"/>
              <a:chExt cx="17280" cy="17280"/>
            </a:xfrm>
          </p:grpSpPr>
          <p:sp>
            <p:nvSpPr>
              <p:cNvPr id="1548" name=""/>
              <p:cNvSpPr/>
              <p:nvPr/>
            </p:nvSpPr>
            <p:spPr>
              <a:xfrm flipV="1">
                <a:off x="2698200" y="4726440"/>
                <a:ext cx="0" cy="3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 flipV="1">
                <a:off x="2698200" y="4722480"/>
                <a:ext cx="0" cy="3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rot="10800000">
                <a:off x="2693160" y="471816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108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10800000"/>
                  </a:path>
                </a:pathLst>
              </a:custGeom>
              <a:solidFill>
                <a:srgbClr val="009900"/>
              </a:solidFill>
              <a:ln cap="rnd"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flipV="1">
                <a:off x="2698200" y="4714200"/>
                <a:ext cx="0" cy="3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rot="10800000">
                <a:off x="2689560" y="4713480"/>
                <a:ext cx="17280" cy="1728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27000" bIns="-27000" anchor="ctr" rot="10800000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3" name=""/>
            <p:cNvSpPr/>
            <p:nvPr/>
          </p:nvSpPr>
          <p:spPr>
            <a:xfrm rot="10800000">
              <a:off x="2538000" y="4562640"/>
              <a:ext cx="60120" cy="26280"/>
            </a:xfrm>
            <a:prstGeom prst="rect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rot="10800000">
              <a:off x="2568240" y="4692960"/>
              <a:ext cx="23760" cy="9720"/>
            </a:xfrm>
            <a:prstGeom prst="rect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rot="10800000">
              <a:off x="2258640" y="4529160"/>
              <a:ext cx="345600" cy="156960"/>
            </a:xfrm>
            <a:prstGeom prst="rect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rot="10800000">
              <a:off x="2620800" y="4552200"/>
              <a:ext cx="52920" cy="34560"/>
            </a:xfrm>
            <a:prstGeom prst="rect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rot="10800000">
              <a:off x="2223360" y="4552200"/>
              <a:ext cx="52560" cy="34560"/>
            </a:xfrm>
            <a:prstGeom prst="rect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H="1">
              <a:off x="2180160" y="4575960"/>
              <a:ext cx="42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flipH="1">
              <a:off x="2180160" y="4563000"/>
              <a:ext cx="42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 rot="10800000">
              <a:off x="2177640" y="4548960"/>
              <a:ext cx="3960" cy="35280"/>
            </a:xfrm>
            <a:custGeom>
              <a:avLst/>
              <a:gdLst/>
              <a:ahLst/>
              <a:rect l="l" t="t" r="r" b="b"/>
              <a:pathLst>
                <a:path w="21" h="200">
                  <a:moveTo>
                    <a:pt x="9" y="0"/>
                  </a:moveTo>
                  <a:cubicBezTo>
                    <a:pt x="10" y="11"/>
                    <a:pt x="13" y="22"/>
                    <a:pt x="15" y="33"/>
                  </a:cubicBezTo>
                  <a:cubicBezTo>
                    <a:pt x="16" y="46"/>
                    <a:pt x="14" y="59"/>
                    <a:pt x="18" y="71"/>
                  </a:cubicBezTo>
                  <a:cubicBezTo>
                    <a:pt x="19" y="80"/>
                    <a:pt x="20" y="87"/>
                    <a:pt x="15" y="95"/>
                  </a:cubicBezTo>
                  <a:cubicBezTo>
                    <a:pt x="16" y="104"/>
                    <a:pt x="17" y="106"/>
                    <a:pt x="21" y="113"/>
                  </a:cubicBezTo>
                  <a:cubicBezTo>
                    <a:pt x="17" y="118"/>
                    <a:pt x="12" y="119"/>
                    <a:pt x="15" y="126"/>
                  </a:cubicBezTo>
                  <a:cubicBezTo>
                    <a:pt x="13" y="135"/>
                    <a:pt x="12" y="140"/>
                    <a:pt x="7" y="147"/>
                  </a:cubicBezTo>
                  <a:cubicBezTo>
                    <a:pt x="4" y="161"/>
                    <a:pt x="8" y="174"/>
                    <a:pt x="10" y="188"/>
                  </a:cubicBezTo>
                  <a:cubicBezTo>
                    <a:pt x="7" y="192"/>
                    <a:pt x="0" y="200"/>
                    <a:pt x="0" y="200"/>
                  </a:cubicBezTo>
                </a:path>
              </a:pathLst>
            </a:custGeom>
            <a:solidFill>
              <a:srgbClr val="00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 rot="10800000">
              <a:off x="2805120" y="4551480"/>
              <a:ext cx="2880" cy="35280"/>
            </a:xfrm>
            <a:custGeom>
              <a:avLst/>
              <a:gdLst/>
              <a:ahLst/>
              <a:rect l="l" t="t" r="r" b="b"/>
              <a:pathLst>
                <a:path w="21" h="200">
                  <a:moveTo>
                    <a:pt x="9" y="0"/>
                  </a:moveTo>
                  <a:cubicBezTo>
                    <a:pt x="10" y="11"/>
                    <a:pt x="13" y="22"/>
                    <a:pt x="15" y="33"/>
                  </a:cubicBezTo>
                  <a:cubicBezTo>
                    <a:pt x="16" y="46"/>
                    <a:pt x="14" y="59"/>
                    <a:pt x="18" y="71"/>
                  </a:cubicBezTo>
                  <a:cubicBezTo>
                    <a:pt x="19" y="80"/>
                    <a:pt x="20" y="87"/>
                    <a:pt x="15" y="95"/>
                  </a:cubicBezTo>
                  <a:cubicBezTo>
                    <a:pt x="16" y="104"/>
                    <a:pt x="17" y="106"/>
                    <a:pt x="21" y="113"/>
                  </a:cubicBezTo>
                  <a:cubicBezTo>
                    <a:pt x="17" y="118"/>
                    <a:pt x="12" y="119"/>
                    <a:pt x="15" y="126"/>
                  </a:cubicBezTo>
                  <a:cubicBezTo>
                    <a:pt x="13" y="135"/>
                    <a:pt x="12" y="140"/>
                    <a:pt x="7" y="147"/>
                  </a:cubicBezTo>
                  <a:cubicBezTo>
                    <a:pt x="4" y="161"/>
                    <a:pt x="8" y="174"/>
                    <a:pt x="10" y="188"/>
                  </a:cubicBezTo>
                  <a:cubicBezTo>
                    <a:pt x="7" y="192"/>
                    <a:pt x="0" y="200"/>
                    <a:pt x="0" y="200"/>
                  </a:cubicBezTo>
                </a:path>
              </a:pathLst>
            </a:custGeom>
            <a:solidFill>
              <a:srgbClr val="00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rot="10800000">
              <a:off x="2705400" y="4692600"/>
              <a:ext cx="118800" cy="35280"/>
            </a:xfrm>
            <a:prstGeom prst="rect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rot="10800000">
              <a:off x="2709360" y="4703400"/>
              <a:ext cx="5760" cy="18000"/>
            </a:xfrm>
            <a:prstGeom prst="rect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rot="10800000">
              <a:off x="2301480" y="4678200"/>
              <a:ext cx="302040" cy="9000"/>
            </a:xfrm>
            <a:prstGeom prst="rect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H="1">
              <a:off x="2674080" y="4564800"/>
              <a:ext cx="1317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H="1">
              <a:off x="2674080" y="4577040"/>
              <a:ext cx="1317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rot="10800000">
              <a:off x="2189520" y="4561920"/>
              <a:ext cx="23040" cy="12240"/>
            </a:xfrm>
            <a:prstGeom prst="rightArrow">
              <a:avLst>
                <a:gd name="adj1" fmla="val 50000"/>
                <a:gd name="adj2" fmla="val 47059"/>
              </a:avLst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rot="8100000">
              <a:off x="2679840" y="4687560"/>
              <a:ext cx="4680" cy="42840"/>
            </a:xfrm>
            <a:prstGeom prst="rect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rot="10800000">
              <a:off x="2455560" y="4693320"/>
              <a:ext cx="216360" cy="5040"/>
            </a:xfrm>
            <a:prstGeom prst="rect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rot="10800000">
              <a:off x="2664360" y="4691880"/>
              <a:ext cx="10440" cy="7920"/>
            </a:xfrm>
            <a:prstGeom prst="roundRect">
              <a:avLst>
                <a:gd name="adj" fmla="val 16667"/>
              </a:avLst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rot="10800000">
              <a:off x="2451960" y="4690440"/>
              <a:ext cx="10800" cy="7200"/>
            </a:xfrm>
            <a:prstGeom prst="roundRect">
              <a:avLst>
                <a:gd name="adj" fmla="val 16667"/>
              </a:avLst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rot="10800000">
              <a:off x="2768760" y="4564440"/>
              <a:ext cx="22680" cy="11160"/>
            </a:xfrm>
            <a:prstGeom prst="rightArrow">
              <a:avLst>
                <a:gd name="adj1" fmla="val 50000"/>
                <a:gd name="adj2" fmla="val 50806"/>
              </a:avLst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rot="10800000">
              <a:off x="2348640" y="4707360"/>
              <a:ext cx="23760" cy="5040"/>
            </a:xfrm>
            <a:prstGeom prst="rect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rot="10800000">
              <a:off x="2348640" y="4702320"/>
              <a:ext cx="23760" cy="3960"/>
            </a:xfrm>
            <a:prstGeom prst="rect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 rot="10800000">
              <a:off x="2348640" y="4698000"/>
              <a:ext cx="23760" cy="4680"/>
            </a:xfrm>
            <a:prstGeom prst="rect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rot="10800000">
              <a:off x="2348640" y="4694040"/>
              <a:ext cx="23760" cy="4680"/>
            </a:xfrm>
            <a:prstGeom prst="rect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rot="10800000">
              <a:off x="2371680" y="4689360"/>
              <a:ext cx="4680" cy="33120"/>
            </a:xfrm>
            <a:prstGeom prst="can">
              <a:avLst>
                <a:gd name="adj" fmla="val 25000"/>
              </a:avLst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rot="10800000">
              <a:off x="2345760" y="4689360"/>
              <a:ext cx="4680" cy="33120"/>
            </a:xfrm>
            <a:prstGeom prst="can">
              <a:avLst>
                <a:gd name="adj" fmla="val 25000"/>
              </a:avLst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rot="10800000">
              <a:off x="2391480" y="4692960"/>
              <a:ext cx="23760" cy="9720"/>
            </a:xfrm>
            <a:prstGeom prst="rect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rot="10800000">
              <a:off x="2391480" y="4526280"/>
              <a:ext cx="23040" cy="9720"/>
            </a:xfrm>
            <a:prstGeom prst="rect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rot="10800000">
              <a:off x="2564280" y="4526280"/>
              <a:ext cx="23760" cy="9720"/>
            </a:xfrm>
            <a:prstGeom prst="rect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2395800" y="4705200"/>
              <a:ext cx="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H="1">
              <a:off x="2394360" y="4707360"/>
              <a:ext cx="2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4" name=""/>
            <p:cNvGrpSpPr/>
            <p:nvPr/>
          </p:nvGrpSpPr>
          <p:grpSpPr>
            <a:xfrm>
              <a:off x="2587320" y="4704480"/>
              <a:ext cx="2160" cy="2880"/>
              <a:chOff x="2587320" y="4704480"/>
              <a:chExt cx="2160" cy="2880"/>
            </a:xfrm>
          </p:grpSpPr>
          <p:sp>
            <p:nvSpPr>
              <p:cNvPr id="1585" name=""/>
              <p:cNvSpPr/>
              <p:nvPr/>
            </p:nvSpPr>
            <p:spPr>
              <a:xfrm>
                <a:off x="2588400" y="4704480"/>
                <a:ext cx="0" cy="2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flipH="1">
                <a:off x="2587320" y="4707360"/>
                <a:ext cx="21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7" name=""/>
            <p:cNvSpPr/>
            <p:nvPr/>
          </p:nvSpPr>
          <p:spPr>
            <a:xfrm flipH="1">
              <a:off x="2392200" y="4523400"/>
              <a:ext cx="3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V="1">
              <a:off x="2394360" y="4523400"/>
              <a:ext cx="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9" name=""/>
            <p:cNvGrpSpPr/>
            <p:nvPr/>
          </p:nvGrpSpPr>
          <p:grpSpPr>
            <a:xfrm>
              <a:off x="2583720" y="4522680"/>
              <a:ext cx="3240" cy="2160"/>
              <a:chOff x="2583720" y="4522680"/>
              <a:chExt cx="3240" cy="2160"/>
            </a:xfrm>
          </p:grpSpPr>
          <p:sp>
            <p:nvSpPr>
              <p:cNvPr id="1590" name=""/>
              <p:cNvSpPr/>
              <p:nvPr/>
            </p:nvSpPr>
            <p:spPr>
              <a:xfrm flipH="1">
                <a:off x="2583720" y="4522680"/>
                <a:ext cx="32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flipV="1">
                <a:off x="2585160" y="4523040"/>
                <a:ext cx="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2" name=""/>
            <p:cNvSpPr/>
            <p:nvPr/>
          </p:nvSpPr>
          <p:spPr>
            <a:xfrm rot="10800000">
              <a:off x="2328120" y="4568400"/>
              <a:ext cx="46080" cy="83160"/>
            </a:xfrm>
            <a:prstGeom prst="rect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rot="10800000">
              <a:off x="2373840" y="4583880"/>
              <a:ext cx="37800" cy="52920"/>
            </a:xfrm>
            <a:prstGeom prst="rect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4" name=""/>
            <p:cNvGrpSpPr/>
            <p:nvPr/>
          </p:nvGrpSpPr>
          <p:grpSpPr>
            <a:xfrm>
              <a:off x="2374920" y="4604040"/>
              <a:ext cx="27720" cy="14760"/>
              <a:chOff x="2374920" y="4604040"/>
              <a:chExt cx="27720" cy="14760"/>
            </a:xfrm>
          </p:grpSpPr>
          <p:grpSp>
            <p:nvGrpSpPr>
              <p:cNvPr id="1595" name=""/>
              <p:cNvGrpSpPr/>
              <p:nvPr/>
            </p:nvGrpSpPr>
            <p:grpSpPr>
              <a:xfrm>
                <a:off x="2374920" y="4604040"/>
                <a:ext cx="27720" cy="14760"/>
                <a:chOff x="2374920" y="4604040"/>
                <a:chExt cx="27720" cy="14760"/>
              </a:xfrm>
            </p:grpSpPr>
            <p:sp>
              <p:nvSpPr>
                <p:cNvPr id="1596" name=""/>
                <p:cNvSpPr/>
                <p:nvPr/>
              </p:nvSpPr>
              <p:spPr>
                <a:xfrm rot="10800000">
                  <a:off x="2382120" y="4604040"/>
                  <a:ext cx="20520" cy="14400"/>
                </a:xfrm>
                <a:prstGeom prst="rect">
                  <a:avLst/>
                </a:prstGeom>
                <a:solidFill>
                  <a:srgbClr val="00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 rot="10800000">
                  <a:off x="2374920" y="4604040"/>
                  <a:ext cx="6840" cy="14760"/>
                </a:xfrm>
                <a:custGeom>
                  <a:avLst/>
                  <a:gdLst/>
                  <a:ahLst/>
                  <a:rect l="l" t="t" r="r" b="b"/>
                  <a:pathLst>
                    <a:path w="39" h="83">
                      <a:moveTo>
                        <a:pt x="1" y="83"/>
                      </a:moveTo>
                      <a:cubicBezTo>
                        <a:pt x="20" y="70"/>
                        <a:pt x="39" y="58"/>
                        <a:pt x="39" y="44"/>
                      </a:cubicBezTo>
                      <a:cubicBezTo>
                        <a:pt x="39" y="30"/>
                        <a:pt x="6" y="7"/>
                        <a:pt x="0" y="0"/>
                      </a:cubicBezTo>
                    </a:path>
                  </a:pathLst>
                </a:custGeom>
                <a:solidFill>
                  <a:srgbClr val="0099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8" name=""/>
              <p:cNvSpPr/>
              <p:nvPr/>
            </p:nvSpPr>
            <p:spPr>
              <a:xfrm flipH="1">
                <a:off x="2379240" y="4615560"/>
                <a:ext cx="2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flipH="1">
                <a:off x="2379240" y="4607280"/>
                <a:ext cx="2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H="1">
                <a:off x="2379240" y="4613400"/>
                <a:ext cx="2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flipH="1">
                <a:off x="2379240" y="4611240"/>
                <a:ext cx="2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H="1">
                <a:off x="2379240" y="4609440"/>
                <a:ext cx="2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2378520" y="4606920"/>
                <a:ext cx="0" cy="9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4" name=""/>
            <p:cNvSpPr/>
            <p:nvPr/>
          </p:nvSpPr>
          <p:spPr>
            <a:xfrm rot="10800000">
              <a:off x="2246760" y="4542120"/>
              <a:ext cx="27000" cy="9720"/>
            </a:xfrm>
            <a:prstGeom prst="rect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V="1">
              <a:off x="2675520" y="4553640"/>
              <a:ext cx="0" cy="3312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 rot="10800000">
              <a:off x="2313720" y="4552200"/>
              <a:ext cx="286200" cy="5760"/>
            </a:xfrm>
            <a:prstGeom prst="rect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rot="10800000">
              <a:off x="2226960" y="4719600"/>
              <a:ext cx="65880" cy="61560"/>
            </a:xfrm>
            <a:prstGeom prst="rect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rot="10800000">
              <a:off x="2268360" y="4720320"/>
              <a:ext cx="24840" cy="26280"/>
            </a:xfrm>
            <a:prstGeom prst="rect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rot="10800000">
              <a:off x="2271600" y="4726440"/>
              <a:ext cx="15480" cy="15480"/>
            </a:xfrm>
            <a:prstGeom prst="ellipse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rot="10800000">
              <a:off x="2239560" y="4764600"/>
              <a:ext cx="42840" cy="24480"/>
            </a:xfrm>
            <a:prstGeom prst="rect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rot="10800000">
              <a:off x="2643840" y="4631760"/>
              <a:ext cx="20520" cy="53280"/>
            </a:xfrm>
            <a:prstGeom prst="rect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2" name=""/>
            <p:cNvGrpSpPr/>
            <p:nvPr/>
          </p:nvGrpSpPr>
          <p:grpSpPr>
            <a:xfrm>
              <a:off x="2649240" y="4655520"/>
              <a:ext cx="10800" cy="24480"/>
              <a:chOff x="2649240" y="4655520"/>
              <a:chExt cx="10800" cy="24480"/>
            </a:xfrm>
          </p:grpSpPr>
          <p:grpSp>
            <p:nvGrpSpPr>
              <p:cNvPr id="1613" name=""/>
              <p:cNvGrpSpPr/>
              <p:nvPr/>
            </p:nvGrpSpPr>
            <p:grpSpPr>
              <a:xfrm>
                <a:off x="2649240" y="4655520"/>
                <a:ext cx="10800" cy="24480"/>
                <a:chOff x="2649240" y="4655520"/>
                <a:chExt cx="10800" cy="24480"/>
              </a:xfrm>
            </p:grpSpPr>
            <p:sp>
              <p:nvSpPr>
                <p:cNvPr id="1614" name=""/>
                <p:cNvSpPr/>
                <p:nvPr/>
              </p:nvSpPr>
              <p:spPr>
                <a:xfrm rot="16200000">
                  <a:off x="2645280" y="4665240"/>
                  <a:ext cx="18360" cy="10800"/>
                </a:xfrm>
                <a:prstGeom prst="rect">
                  <a:avLst/>
                </a:prstGeom>
                <a:solidFill>
                  <a:srgbClr val="00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 rot="16200000">
                  <a:off x="2651400" y="4653000"/>
                  <a:ext cx="6120" cy="10800"/>
                </a:xfrm>
                <a:custGeom>
                  <a:avLst/>
                  <a:gdLst/>
                  <a:ahLst/>
                  <a:rect l="l" t="t" r="r" b="b"/>
                  <a:pathLst>
                    <a:path w="39" h="83">
                      <a:moveTo>
                        <a:pt x="1" y="83"/>
                      </a:moveTo>
                      <a:cubicBezTo>
                        <a:pt x="20" y="70"/>
                        <a:pt x="39" y="58"/>
                        <a:pt x="39" y="44"/>
                      </a:cubicBezTo>
                      <a:cubicBezTo>
                        <a:pt x="39" y="30"/>
                        <a:pt x="6" y="7"/>
                        <a:pt x="0" y="0"/>
                      </a:cubicBezTo>
                    </a:path>
                  </a:pathLst>
                </a:custGeom>
                <a:solidFill>
                  <a:srgbClr val="0099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6" name=""/>
              <p:cNvSpPr/>
              <p:nvPr/>
            </p:nvSpPr>
            <p:spPr>
              <a:xfrm flipV="1">
                <a:off x="2651400" y="4659480"/>
                <a:ext cx="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 flipV="1">
                <a:off x="2657520" y="4659480"/>
                <a:ext cx="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 flipV="1">
                <a:off x="2653200" y="4659480"/>
                <a:ext cx="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flipV="1">
                <a:off x="2654640" y="4659480"/>
                <a:ext cx="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flipV="1">
                <a:off x="2656080" y="4659480"/>
                <a:ext cx="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 flipH="1">
                <a:off x="2651400" y="4658760"/>
                <a:ext cx="64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2" name=""/>
            <p:cNvSpPr/>
            <p:nvPr/>
          </p:nvSpPr>
          <p:spPr>
            <a:xfrm>
              <a:off x="2651760" y="4642920"/>
              <a:ext cx="7200" cy="10800"/>
            </a:xfrm>
            <a:custGeom>
              <a:avLst/>
              <a:gdLst>
                <a:gd name="textAreaLeft" fmla="*/ 1440 w 7200"/>
                <a:gd name="textAreaRight" fmla="*/ 5760 w 7200"/>
                <a:gd name="textAreaTop" fmla="*/ 2160 h 10800"/>
                <a:gd name="textAreaBottom" fmla="*/ 8640 h 1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649960" y="4638240"/>
              <a:ext cx="12960" cy="4680"/>
            </a:xfrm>
            <a:custGeom>
              <a:avLst/>
              <a:gdLst>
                <a:gd name="textAreaLeft" fmla="*/ 2880 w 12960"/>
                <a:gd name="textAreaRight" fmla="*/ 10080 w 12960"/>
                <a:gd name="textAreaTop" fmla="*/ 1080 h 4680"/>
                <a:gd name="textAreaBottom" fmla="*/ 3600 h 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rot="10800000">
              <a:off x="2620440" y="4616640"/>
              <a:ext cx="36000" cy="18000"/>
            </a:xfrm>
            <a:custGeom>
              <a:avLst/>
              <a:gdLst/>
              <a:ahLst/>
              <a:rect l="l" t="t" r="r" b="b"/>
              <a:pathLst>
                <a:path w="204" h="105">
                  <a:moveTo>
                    <a:pt x="0" y="0"/>
                  </a:moveTo>
                  <a:cubicBezTo>
                    <a:pt x="22" y="35"/>
                    <a:pt x="44" y="70"/>
                    <a:pt x="78" y="87"/>
                  </a:cubicBezTo>
                  <a:cubicBezTo>
                    <a:pt x="112" y="104"/>
                    <a:pt x="182" y="102"/>
                    <a:pt x="204" y="105"/>
                  </a:cubicBezTo>
                </a:path>
              </a:pathLst>
            </a:custGeom>
            <a:solidFill>
              <a:srgbClr val="009900"/>
            </a:solidFill>
            <a:ln w="507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rot="10800000">
              <a:off x="2651400" y="4632120"/>
              <a:ext cx="9720" cy="9720"/>
            </a:xfrm>
            <a:prstGeom prst="donut">
              <a:avLst>
                <a:gd name="adj" fmla="val 25000"/>
              </a:avLst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rot="10800000">
              <a:off x="2550600" y="4564800"/>
              <a:ext cx="50040" cy="24480"/>
            </a:xfrm>
            <a:prstGeom prst="rect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rot="10800000">
              <a:off x="2572200" y="4566960"/>
              <a:ext cx="19800" cy="18720"/>
            </a:xfrm>
            <a:prstGeom prst="ellipse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rot="10800000">
              <a:off x="2229120" y="4589280"/>
              <a:ext cx="12240" cy="7200"/>
            </a:xfrm>
            <a:prstGeom prst="rect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H="1">
              <a:off x="2235600" y="4593600"/>
              <a:ext cx="115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rot="5400000">
              <a:off x="2248560" y="4586040"/>
              <a:ext cx="9000" cy="13680"/>
            </a:xfrm>
            <a:custGeom>
              <a:avLst/>
              <a:gdLst>
                <a:gd name="textAreaLeft" fmla="*/ 1080 w 9000"/>
                <a:gd name="textAreaRight" fmla="*/ 7920 w 9000"/>
                <a:gd name="textAreaTop" fmla="*/ 1800 h 13680"/>
                <a:gd name="textAreaBottom" fmla="*/ 11880 h 1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843" y="21600"/>
                  </a:lnTo>
                  <a:lnTo>
                    <a:pt x="2757" y="21600"/>
                  </a:lnTo>
                  <a:close/>
                </a:path>
              </a:pathLst>
            </a:cu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 rot="10800000">
              <a:off x="2224800" y="4584960"/>
              <a:ext cx="15480" cy="4680"/>
            </a:xfrm>
            <a:prstGeom prst="rect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rot="10800000">
              <a:off x="2462400" y="4609080"/>
              <a:ext cx="15480" cy="14760"/>
            </a:xfrm>
            <a:prstGeom prst="ellipse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rot="10800000">
              <a:off x="2464200" y="4630320"/>
              <a:ext cx="14760" cy="14040"/>
            </a:xfrm>
            <a:prstGeom prst="donut">
              <a:avLst>
                <a:gd name="adj" fmla="val 25000"/>
              </a:avLst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 rot="10800000">
              <a:off x="2468880" y="4622040"/>
              <a:ext cx="4680" cy="16200"/>
            </a:xfrm>
            <a:prstGeom prst="can">
              <a:avLst>
                <a:gd name="adj" fmla="val 25000"/>
              </a:avLst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rot="10800000">
              <a:off x="2465640" y="4620600"/>
              <a:ext cx="9000" cy="5040"/>
            </a:xfrm>
            <a:prstGeom prst="rect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>
              <a:off x="2465640" y="4623480"/>
              <a:ext cx="9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257920" y="4588560"/>
              <a:ext cx="0" cy="7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250360" y="4590000"/>
              <a:ext cx="0" cy="5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2274480" y="4654800"/>
              <a:ext cx="345600" cy="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rot="10800000">
              <a:off x="2348640" y="4631760"/>
              <a:ext cx="5760" cy="5760"/>
            </a:xfrm>
            <a:prstGeom prst="ellipse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rot="10800000">
              <a:off x="2342160" y="4631760"/>
              <a:ext cx="5760" cy="5760"/>
            </a:xfrm>
            <a:prstGeom prst="ellipse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rot="10800000">
              <a:off x="2284920" y="4721400"/>
              <a:ext cx="5400" cy="5760"/>
            </a:xfrm>
            <a:prstGeom prst="ellipse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rot="10800000">
              <a:off x="2278440" y="4747320"/>
              <a:ext cx="13680" cy="12960"/>
            </a:xfrm>
            <a:prstGeom prst="rect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rot="10800000">
              <a:off x="2279520" y="4744440"/>
              <a:ext cx="12960" cy="4680"/>
            </a:xfrm>
            <a:custGeom>
              <a:avLst/>
              <a:gdLst/>
              <a:ahLst/>
              <a:rect l="l" t="t" r="r" b="b"/>
              <a:pathLst>
                <a:path w="74" h="31">
                  <a:moveTo>
                    <a:pt x="3" y="4"/>
                  </a:moveTo>
                  <a:cubicBezTo>
                    <a:pt x="0" y="23"/>
                    <a:pt x="0" y="22"/>
                    <a:pt x="20" y="25"/>
                  </a:cubicBezTo>
                  <a:cubicBezTo>
                    <a:pt x="33" y="31"/>
                    <a:pt x="49" y="24"/>
                    <a:pt x="63" y="24"/>
                  </a:cubicBezTo>
                  <a:cubicBezTo>
                    <a:pt x="69" y="22"/>
                    <a:pt x="71" y="20"/>
                    <a:pt x="74" y="15"/>
                  </a:cubicBezTo>
                  <a:cubicBezTo>
                    <a:pt x="65" y="0"/>
                    <a:pt x="51" y="8"/>
                    <a:pt x="33" y="9"/>
                  </a:cubicBezTo>
                  <a:cubicBezTo>
                    <a:pt x="24" y="11"/>
                    <a:pt x="18" y="8"/>
                    <a:pt x="9" y="6"/>
                  </a:cubicBezTo>
                  <a:cubicBezTo>
                    <a:pt x="3" y="10"/>
                    <a:pt x="2" y="9"/>
                    <a:pt x="2" y="16"/>
                  </a:cubicBezTo>
                  <a:lnTo>
                    <a:pt x="15" y="24"/>
                  </a:lnTo>
                </a:path>
              </a:pathLst>
            </a:custGeom>
            <a:solidFill>
              <a:srgbClr val="009900"/>
            </a:solidFill>
            <a:ln w="64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rot="10800000">
              <a:off x="2309040" y="4670280"/>
              <a:ext cx="287280" cy="5760"/>
            </a:xfrm>
            <a:prstGeom prst="rect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6" name=""/>
          <p:cNvGrpSpPr/>
          <p:nvPr/>
        </p:nvGrpSpPr>
        <p:grpSpPr>
          <a:xfrm>
            <a:off x="1574640" y="4747680"/>
            <a:ext cx="488880" cy="376560"/>
            <a:chOff x="1574640" y="4747680"/>
            <a:chExt cx="488880" cy="376560"/>
          </a:xfrm>
        </p:grpSpPr>
        <p:sp>
          <p:nvSpPr>
            <p:cNvPr id="1647" name=""/>
            <p:cNvSpPr/>
            <p:nvPr/>
          </p:nvSpPr>
          <p:spPr>
            <a:xfrm flipH="1" flipV="1">
              <a:off x="1859400" y="4747680"/>
              <a:ext cx="2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>
              <a:off x="1574640" y="4764240"/>
              <a:ext cx="16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815480" y="4765320"/>
              <a:ext cx="24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V="1">
              <a:off x="1575720" y="4747680"/>
              <a:ext cx="48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1754280" y="4883040"/>
              <a:ext cx="144000" cy="7164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1771560" y="4954680"/>
              <a:ext cx="25560" cy="180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828800" y="4855320"/>
              <a:ext cx="34560" cy="2736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771560" y="5084640"/>
              <a:ext cx="140040" cy="39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870560" y="4880880"/>
              <a:ext cx="11160" cy="2149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868760" y="5091840"/>
              <a:ext cx="15480" cy="122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898280" y="4899240"/>
              <a:ext cx="21240" cy="2520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V="1">
              <a:off x="1836000" y="4809240"/>
              <a:ext cx="0" cy="7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V="1">
              <a:off x="1856160" y="4804920"/>
              <a:ext cx="0" cy="7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1720440" y="4767480"/>
              <a:ext cx="4176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720440" y="4971960"/>
              <a:ext cx="38880" cy="3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758240" y="5007960"/>
              <a:ext cx="3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V="1">
              <a:off x="1789920" y="4971600"/>
              <a:ext cx="46800" cy="3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H="1" flipV="1">
              <a:off x="1816560" y="4766040"/>
              <a:ext cx="39600" cy="3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 flipH="1" flipV="1">
              <a:off x="1789920" y="4767120"/>
              <a:ext cx="4680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>
              <a:off x="1762560" y="476748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 flipH="1">
              <a:off x="1699920" y="4764240"/>
              <a:ext cx="3852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720440" y="4809240"/>
              <a:ext cx="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700280" y="4804200"/>
              <a:ext cx="0" cy="18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837080" y="49557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857600" y="495576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699200" y="4984200"/>
              <a:ext cx="48960" cy="4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V="1">
              <a:off x="1797120" y="4982040"/>
              <a:ext cx="60840" cy="4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749240" y="5028120"/>
              <a:ext cx="4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rot="2700000">
              <a:off x="1722240" y="4764960"/>
              <a:ext cx="7920" cy="44640"/>
            </a:xfrm>
            <a:prstGeom prst="downArrow">
              <a:avLst>
                <a:gd name="adj1" fmla="val 50000"/>
                <a:gd name="adj2" fmla="val 140909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t" anchorCtr="1" vert="eaVert" rot="10800000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rot="18900000">
              <a:off x="1819800" y="4766040"/>
              <a:ext cx="9000" cy="40680"/>
            </a:xfrm>
            <a:prstGeom prst="upArrow">
              <a:avLst>
                <a:gd name="adj1" fmla="val 50000"/>
                <a:gd name="adj2" fmla="val 113000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868760" y="4868640"/>
              <a:ext cx="15480" cy="129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821960" y="4914720"/>
              <a:ext cx="9000" cy="9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738080" y="4818600"/>
              <a:ext cx="26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005560" y="4818600"/>
              <a:ext cx="0" cy="23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H="1" flipV="1">
              <a:off x="1738080" y="5047200"/>
              <a:ext cx="2685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H="1" flipV="1">
              <a:off x="1737000" y="4818600"/>
              <a:ext cx="72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3" name=""/>
          <p:cNvGrpSpPr/>
          <p:nvPr/>
        </p:nvGrpSpPr>
        <p:grpSpPr>
          <a:xfrm>
            <a:off x="1042920" y="4747680"/>
            <a:ext cx="490320" cy="376560"/>
            <a:chOff x="1042920" y="4747680"/>
            <a:chExt cx="490320" cy="376560"/>
          </a:xfrm>
        </p:grpSpPr>
        <p:sp>
          <p:nvSpPr>
            <p:cNvPr id="1684" name=""/>
            <p:cNvSpPr/>
            <p:nvPr/>
          </p:nvSpPr>
          <p:spPr>
            <a:xfrm flipH="1" flipV="1">
              <a:off x="1328760" y="4747680"/>
              <a:ext cx="2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H="1">
              <a:off x="1042920" y="47642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284480" y="4765320"/>
              <a:ext cx="24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 flipV="1">
              <a:off x="1044000" y="4747680"/>
              <a:ext cx="488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222920" y="4883040"/>
              <a:ext cx="144360" cy="7164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240560" y="4954680"/>
              <a:ext cx="25560" cy="180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297800" y="4855320"/>
              <a:ext cx="34560" cy="2736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240560" y="5084640"/>
              <a:ext cx="140400" cy="39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339920" y="4880880"/>
              <a:ext cx="11160" cy="2149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337760" y="5091840"/>
              <a:ext cx="15120" cy="122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367640" y="4899240"/>
              <a:ext cx="21600" cy="2520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V="1">
              <a:off x="1305000" y="4809240"/>
              <a:ext cx="0" cy="7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V="1">
              <a:off x="1325520" y="4804920"/>
              <a:ext cx="0" cy="7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>
              <a:off x="1189440" y="4767480"/>
              <a:ext cx="4176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1189440" y="4971960"/>
              <a:ext cx="38520" cy="3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227240" y="5007960"/>
              <a:ext cx="3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V="1">
              <a:off x="1258920" y="4971600"/>
              <a:ext cx="46800" cy="3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 flipV="1">
              <a:off x="1285560" y="4766040"/>
              <a:ext cx="39600" cy="3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 flipV="1">
              <a:off x="1258920" y="4767120"/>
              <a:ext cx="4680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>
              <a:off x="1231200" y="476748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1168560" y="4764240"/>
              <a:ext cx="3852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189440" y="4809240"/>
              <a:ext cx="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168920" y="4804200"/>
              <a:ext cx="0" cy="18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306080" y="49557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326600" y="495576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167840" y="4984200"/>
              <a:ext cx="48960" cy="4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V="1">
              <a:off x="1266120" y="4982040"/>
              <a:ext cx="61200" cy="4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217880" y="5028120"/>
              <a:ext cx="4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rot="2700000">
              <a:off x="1190880" y="4764960"/>
              <a:ext cx="7920" cy="45000"/>
            </a:xfrm>
            <a:prstGeom prst="downArrow">
              <a:avLst>
                <a:gd name="adj1" fmla="val 50000"/>
                <a:gd name="adj2" fmla="val 142045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t" anchorCtr="1" vert="eaVert" rot="10800000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 rot="18900000">
              <a:off x="1288800" y="4766040"/>
              <a:ext cx="9000" cy="40680"/>
            </a:xfrm>
            <a:prstGeom prst="upArrow">
              <a:avLst>
                <a:gd name="adj1" fmla="val 50000"/>
                <a:gd name="adj2" fmla="val 113000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337760" y="4868640"/>
              <a:ext cx="15120" cy="129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290600" y="4914720"/>
              <a:ext cx="9000" cy="9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206720" y="4818600"/>
              <a:ext cx="26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474920" y="4818600"/>
              <a:ext cx="0" cy="23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H="1" flipV="1">
              <a:off x="1206720" y="5047200"/>
              <a:ext cx="2692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 flipV="1">
              <a:off x="1205280" y="4818600"/>
              <a:ext cx="108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0" name=""/>
          <p:cNvSpPr/>
          <p:nvPr/>
        </p:nvSpPr>
        <p:spPr>
          <a:xfrm>
            <a:off x="941040" y="4419720"/>
            <a:ext cx="73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969696"/>
                </a:solidFill>
                <a:latin typeface="Arial"/>
              </a:rPr>
              <a:t>Op 120-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1" name=""/>
          <p:cNvGrpSpPr/>
          <p:nvPr/>
        </p:nvGrpSpPr>
        <p:grpSpPr>
          <a:xfrm>
            <a:off x="585720" y="4649760"/>
            <a:ext cx="456840" cy="623160"/>
            <a:chOff x="585720" y="4649760"/>
            <a:chExt cx="456840" cy="623160"/>
          </a:xfrm>
        </p:grpSpPr>
        <p:graphicFrame>
          <p:nvGraphicFramePr>
            <p:cNvPr id="1722" name=""/>
            <p:cNvGraphicFramePr/>
            <p:nvPr/>
          </p:nvGraphicFramePr>
          <p:xfrm>
            <a:off x="655920" y="4649760"/>
            <a:ext cx="386640" cy="3956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72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55920" y="4649760"/>
                      <a:ext cx="386640" cy="39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4" name=""/>
            <p:cNvSpPr/>
            <p:nvPr/>
          </p:nvSpPr>
          <p:spPr>
            <a:xfrm rot="21566400">
              <a:off x="653400" y="5053680"/>
              <a:ext cx="37440" cy="590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 flipV="1">
              <a:off x="736200" y="4947480"/>
              <a:ext cx="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36200" y="5158080"/>
              <a:ext cx="15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 flipV="1">
              <a:off x="888120" y="4947480"/>
              <a:ext cx="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 flipH="1">
              <a:off x="735840" y="4948200"/>
              <a:ext cx="15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 rot="16200000">
              <a:off x="789480" y="5074200"/>
              <a:ext cx="37800" cy="223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 rot="21566400">
              <a:off x="773640" y="5008320"/>
              <a:ext cx="15120" cy="673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 rot="16200000">
              <a:off x="529200" y="5166720"/>
              <a:ext cx="162360" cy="496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 rot="16200000">
              <a:off x="743400" y="5156640"/>
              <a:ext cx="77400" cy="140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rot="16200000">
              <a:off x="723600" y="5183640"/>
              <a:ext cx="55800" cy="770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rot="16200000">
              <a:off x="792720" y="5164200"/>
              <a:ext cx="77400" cy="129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 rot="16200000">
              <a:off x="836280" y="5177160"/>
              <a:ext cx="56160" cy="770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rot="16200000">
              <a:off x="753480" y="4997520"/>
              <a:ext cx="106200" cy="1198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 rot="16200000">
              <a:off x="803520" y="5069160"/>
              <a:ext cx="34560" cy="2016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 rot="16200000">
              <a:off x="746640" y="5038920"/>
              <a:ext cx="56160" cy="140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9" name=""/>
          <p:cNvSpPr/>
          <p:nvPr/>
        </p:nvSpPr>
        <p:spPr>
          <a:xfrm flipH="1">
            <a:off x="396360" y="4756320"/>
            <a:ext cx="166716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15160" y="453384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cc"/>
                </a:solidFill>
                <a:latin typeface="Arial"/>
              </a:rPr>
              <a:t>Op 1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rot="12600000">
            <a:off x="2081160" y="4584240"/>
            <a:ext cx="84240" cy="13356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 flipV="1">
            <a:off x="9336240" y="2410920"/>
            <a:ext cx="0" cy="122868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 rot="5400000">
            <a:off x="7707600" y="1235880"/>
            <a:ext cx="125640" cy="10476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 flipV="1">
            <a:off x="9334440" y="1317600"/>
            <a:ext cx="0" cy="58896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9217080" y="1289160"/>
            <a:ext cx="12060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 flipV="1">
            <a:off x="9336240" y="1285920"/>
            <a:ext cx="0" cy="4752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 flipV="1">
            <a:off x="4384800" y="1386000"/>
            <a:ext cx="0" cy="137160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9336240" y="1876320"/>
            <a:ext cx="0" cy="58752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9336240" y="5945040"/>
            <a:ext cx="0" cy="39240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8307360" y="3639960"/>
            <a:ext cx="102888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4915080" y="3639960"/>
            <a:ext cx="0" cy="63828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5807160" y="4278240"/>
            <a:ext cx="0" cy="137340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4911840" y="4278240"/>
            <a:ext cx="89532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5807160" y="5638680"/>
            <a:ext cx="0" cy="19692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 flipH="1">
            <a:off x="5806800" y="5830920"/>
            <a:ext cx="24444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5491080" y="5210280"/>
            <a:ext cx="0" cy="112716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 flipH="1">
            <a:off x="5487480" y="6335640"/>
            <a:ext cx="34308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8" name=""/>
          <p:cNvGrpSpPr/>
          <p:nvPr/>
        </p:nvGrpSpPr>
        <p:grpSpPr>
          <a:xfrm>
            <a:off x="4591080" y="4763880"/>
            <a:ext cx="627120" cy="268200"/>
            <a:chOff x="4591080" y="4763880"/>
            <a:chExt cx="627120" cy="268200"/>
          </a:xfrm>
        </p:grpSpPr>
        <p:graphicFrame>
          <p:nvGraphicFramePr>
            <p:cNvPr id="1759" name=""/>
            <p:cNvGraphicFramePr/>
            <p:nvPr/>
          </p:nvGraphicFramePr>
          <p:xfrm>
            <a:off x="4591080" y="4772520"/>
            <a:ext cx="627120" cy="2221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760" name="" descr=""/>
                    <p:cNvPicPr/>
                    <p:nvPr/>
                  </p:nvPicPr>
                  <p:blipFill>
                    <a:blip r:embed="rId16">
                      <a:alphaModFix amt="50000"/>
                    </a:blip>
                    <a:stretch/>
                  </p:blipFill>
                  <p:spPr>
                    <a:xfrm>
                      <a:off x="4591080" y="4772520"/>
                      <a:ext cx="627120" cy="22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61" name=""/>
            <p:cNvSpPr/>
            <p:nvPr/>
          </p:nvSpPr>
          <p:spPr>
            <a:xfrm rot="10800000">
              <a:off x="4914360" y="4977360"/>
              <a:ext cx="86760" cy="396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rot="10800000">
              <a:off x="4986360" y="4842360"/>
              <a:ext cx="78480" cy="630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V="1">
              <a:off x="5033160" y="4763880"/>
              <a:ext cx="0" cy="2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5009760" y="4763880"/>
              <a:ext cx="0" cy="2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5024880" y="4897800"/>
              <a:ext cx="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6" name=""/>
          <p:cNvGrpSpPr/>
          <p:nvPr/>
        </p:nvGrpSpPr>
        <p:grpSpPr>
          <a:xfrm>
            <a:off x="8012160" y="1017720"/>
            <a:ext cx="1217160" cy="609120"/>
            <a:chOff x="8012160" y="1017720"/>
            <a:chExt cx="1217160" cy="609120"/>
          </a:xfrm>
        </p:grpSpPr>
        <p:sp>
          <p:nvSpPr>
            <p:cNvPr id="1767" name=""/>
            <p:cNvSpPr/>
            <p:nvPr/>
          </p:nvSpPr>
          <p:spPr>
            <a:xfrm>
              <a:off x="8091720" y="1229760"/>
              <a:ext cx="224640" cy="1317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8316360" y="1269720"/>
              <a:ext cx="66240" cy="529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8382960" y="1216440"/>
              <a:ext cx="237600" cy="1584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8435880" y="1096920"/>
              <a:ext cx="131760" cy="1191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8422560" y="1374840"/>
              <a:ext cx="158040" cy="1591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8620920" y="1269720"/>
              <a:ext cx="66240" cy="529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8687160" y="1216440"/>
              <a:ext cx="237600" cy="1584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8925120" y="1269720"/>
              <a:ext cx="66240" cy="529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8991720" y="1216440"/>
              <a:ext cx="237600" cy="1584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8727120" y="1374840"/>
              <a:ext cx="158040" cy="1591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8740440" y="1096920"/>
              <a:ext cx="131760" cy="1191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9044640" y="1096920"/>
              <a:ext cx="131760" cy="1191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8131680" y="1454760"/>
              <a:ext cx="158040" cy="1191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8012160" y="1256400"/>
              <a:ext cx="79560" cy="662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8488080" y="1534320"/>
              <a:ext cx="39600" cy="925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8488080" y="1017720"/>
              <a:ext cx="26280" cy="792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3" name=""/>
          <p:cNvSpPr/>
          <p:nvPr/>
        </p:nvSpPr>
        <p:spPr>
          <a:xfrm>
            <a:off x="8409960" y="80820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cc"/>
                </a:solidFill>
                <a:latin typeface="Arial"/>
              </a:rPr>
              <a:t>Op 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602040" y="1935000"/>
            <a:ext cx="65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cc"/>
                </a:solidFill>
                <a:latin typeface="Arial"/>
              </a:rPr>
              <a:t>Op 40-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1996560" y="204156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969696"/>
                </a:solidFill>
                <a:latin typeface="Arial"/>
              </a:rPr>
              <a:t>Op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 rot="16200000">
            <a:off x="5578200" y="3381120"/>
            <a:ext cx="154080" cy="11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 rot="16200000">
            <a:off x="5675040" y="3285720"/>
            <a:ext cx="11160" cy="61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8" name=""/>
          <p:cNvGrpSpPr/>
          <p:nvPr/>
        </p:nvGrpSpPr>
        <p:grpSpPr>
          <a:xfrm>
            <a:off x="5540400" y="3247560"/>
            <a:ext cx="396360" cy="445680"/>
            <a:chOff x="5540400" y="3247560"/>
            <a:chExt cx="396360" cy="445680"/>
          </a:xfrm>
        </p:grpSpPr>
        <p:sp>
          <p:nvSpPr>
            <p:cNvPr id="1789" name=""/>
            <p:cNvSpPr/>
            <p:nvPr/>
          </p:nvSpPr>
          <p:spPr>
            <a:xfrm rot="16200000">
              <a:off x="5861520" y="3479400"/>
              <a:ext cx="29520" cy="47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rot="16200000">
              <a:off x="5691240" y="3296520"/>
              <a:ext cx="21240" cy="334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719680" y="3488760"/>
              <a:ext cx="6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2" name=""/>
            <p:cNvGrpSpPr/>
            <p:nvPr/>
          </p:nvGrpSpPr>
          <p:grpSpPr>
            <a:xfrm>
              <a:off x="5540400" y="3247560"/>
              <a:ext cx="396360" cy="445680"/>
              <a:chOff x="5540400" y="3247560"/>
              <a:chExt cx="396360" cy="445680"/>
            </a:xfrm>
          </p:grpSpPr>
          <p:sp>
            <p:nvSpPr>
              <p:cNvPr id="1793" name=""/>
              <p:cNvSpPr/>
              <p:nvPr/>
            </p:nvSpPr>
            <p:spPr>
              <a:xfrm rot="16200000">
                <a:off x="5437080" y="3384000"/>
                <a:ext cx="236520" cy="3024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rot="16200000">
                <a:off x="5655600" y="3436560"/>
                <a:ext cx="52920" cy="7524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 rot="16200000">
                <a:off x="5886720" y="3264840"/>
                <a:ext cx="67320" cy="3240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rot="16200000">
                <a:off x="5864040" y="3631320"/>
                <a:ext cx="29520" cy="4644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 rot="16200000">
                <a:off x="5657400" y="3464640"/>
                <a:ext cx="443880" cy="1332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 rot="16200000">
                <a:off x="5600160" y="3400920"/>
                <a:ext cx="12240" cy="11412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rot="16200000">
                <a:off x="5667840" y="3280320"/>
                <a:ext cx="201960" cy="212040"/>
              </a:xfrm>
              <a:custGeom>
                <a:avLst/>
                <a:gdLst/>
                <a:ahLst/>
                <a:rect l="l" t="t" r="r" b="b"/>
                <a:pathLst>
                  <a:path w="525" h="551">
                    <a:moveTo>
                      <a:pt x="172" y="0"/>
                    </a:moveTo>
                    <a:lnTo>
                      <a:pt x="172" y="81"/>
                    </a:lnTo>
                    <a:lnTo>
                      <a:pt x="133" y="81"/>
                    </a:lnTo>
                    <a:lnTo>
                      <a:pt x="133" y="207"/>
                    </a:lnTo>
                    <a:lnTo>
                      <a:pt x="102" y="207"/>
                    </a:lnTo>
                    <a:lnTo>
                      <a:pt x="102" y="221"/>
                    </a:lnTo>
                    <a:lnTo>
                      <a:pt x="84" y="221"/>
                    </a:lnTo>
                    <a:lnTo>
                      <a:pt x="76" y="233"/>
                    </a:lnTo>
                    <a:lnTo>
                      <a:pt x="76" y="321"/>
                    </a:lnTo>
                    <a:lnTo>
                      <a:pt x="0" y="320"/>
                    </a:lnTo>
                    <a:lnTo>
                      <a:pt x="0" y="549"/>
                    </a:lnTo>
                    <a:lnTo>
                      <a:pt x="525" y="551"/>
                    </a:lnTo>
                    <a:lnTo>
                      <a:pt x="523" y="513"/>
                    </a:lnTo>
                    <a:lnTo>
                      <a:pt x="466" y="512"/>
                    </a:lnTo>
                    <a:lnTo>
                      <a:pt x="466" y="462"/>
                    </a:lnTo>
                    <a:lnTo>
                      <a:pt x="525" y="462"/>
                    </a:lnTo>
                    <a:lnTo>
                      <a:pt x="525" y="329"/>
                    </a:lnTo>
                    <a:lnTo>
                      <a:pt x="472" y="327"/>
                    </a:lnTo>
                    <a:lnTo>
                      <a:pt x="472" y="150"/>
                    </a:lnTo>
                    <a:lnTo>
                      <a:pt x="424" y="150"/>
                    </a:lnTo>
                    <a:lnTo>
                      <a:pt x="426" y="0"/>
                    </a:lnTo>
                    <a:lnTo>
                      <a:pt x="172" y="0"/>
                    </a:lnTo>
                    <a:close/>
                  </a:path>
                </a:pathLst>
              </a:custGeom>
              <a:solidFill>
                <a:srgbClr val="0099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 rot="16200000">
                <a:off x="5800680" y="3374280"/>
                <a:ext cx="197640" cy="2520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1" name=""/>
            <p:cNvSpPr/>
            <p:nvPr/>
          </p:nvSpPr>
          <p:spPr>
            <a:xfrm rot="16200000">
              <a:off x="5907240" y="3348360"/>
              <a:ext cx="26280" cy="7920"/>
            </a:xfrm>
            <a:prstGeom prst="rect">
              <a:avLst/>
            </a:prstGeom>
            <a:solidFill>
              <a:srgbClr val="0099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2" name=""/>
          <p:cNvGrpSpPr/>
          <p:nvPr/>
        </p:nvGrpSpPr>
        <p:grpSpPr>
          <a:xfrm>
            <a:off x="5722560" y="3546360"/>
            <a:ext cx="436680" cy="134640"/>
            <a:chOff x="5722560" y="3546360"/>
            <a:chExt cx="436680" cy="134640"/>
          </a:xfrm>
        </p:grpSpPr>
        <p:sp>
          <p:nvSpPr>
            <p:cNvPr id="1803" name=""/>
            <p:cNvSpPr/>
            <p:nvPr/>
          </p:nvSpPr>
          <p:spPr>
            <a:xfrm flipH="1">
              <a:off x="5883480" y="36442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 flipH="1" flipV="1">
              <a:off x="5994720" y="3586680"/>
              <a:ext cx="42480" cy="3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036840" y="3625560"/>
              <a:ext cx="11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 flipH="1">
              <a:off x="5883120" y="3587040"/>
              <a:ext cx="11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H="1">
              <a:off x="5821200" y="3586680"/>
              <a:ext cx="46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 flipH="1">
              <a:off x="5884560" y="3624840"/>
              <a:ext cx="12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 flipH="1" flipV="1">
              <a:off x="5988960" y="3605400"/>
              <a:ext cx="20160" cy="1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H="1">
              <a:off x="5883480" y="3605400"/>
              <a:ext cx="10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H="1">
              <a:off x="5833440" y="360504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 flipH="1">
              <a:off x="5808600" y="3624120"/>
              <a:ext cx="6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H="1">
              <a:off x="5807880" y="3605400"/>
              <a:ext cx="25560" cy="1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 flipH="1">
              <a:off x="5780520" y="3586680"/>
              <a:ext cx="42480" cy="3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 flipH="1">
              <a:off x="5730120" y="3643560"/>
              <a:ext cx="13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5730120" y="3619440"/>
              <a:ext cx="1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733360" y="3546360"/>
              <a:ext cx="0" cy="1800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733360" y="3564720"/>
              <a:ext cx="5040" cy="468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H="1">
              <a:off x="5726880" y="3569400"/>
              <a:ext cx="11520" cy="432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727600" y="3574080"/>
              <a:ext cx="10440" cy="936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H="1">
              <a:off x="5727240" y="3583800"/>
              <a:ext cx="10440" cy="504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727240" y="3589200"/>
              <a:ext cx="10440" cy="828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 flipH="1">
              <a:off x="5726880" y="3597480"/>
              <a:ext cx="10080" cy="684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727240" y="3604680"/>
              <a:ext cx="9360" cy="900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H="1">
              <a:off x="5727600" y="3614760"/>
              <a:ext cx="9000" cy="684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727600" y="3621960"/>
              <a:ext cx="8640" cy="900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5726520" y="3630600"/>
              <a:ext cx="9360" cy="864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726880" y="3639240"/>
              <a:ext cx="8640" cy="1080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 flipH="1">
              <a:off x="5730840" y="3650760"/>
              <a:ext cx="4680" cy="324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730840" y="3654360"/>
              <a:ext cx="0" cy="2124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722560" y="3546360"/>
              <a:ext cx="0" cy="131400"/>
            </a:xfrm>
            <a:prstGeom prst="line">
              <a:avLst/>
            </a:prstGeom>
            <a:ln w="6480">
              <a:solidFill>
                <a:srgbClr val="80808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2" name=""/>
            <p:cNvGrpSpPr/>
            <p:nvPr/>
          </p:nvGrpSpPr>
          <p:grpSpPr>
            <a:xfrm>
              <a:off x="6147720" y="3573720"/>
              <a:ext cx="11520" cy="107280"/>
              <a:chOff x="6147720" y="3573720"/>
              <a:chExt cx="11520" cy="107280"/>
            </a:xfrm>
          </p:grpSpPr>
          <p:sp>
            <p:nvSpPr>
              <p:cNvPr id="1833" name=""/>
              <p:cNvSpPr/>
              <p:nvPr/>
            </p:nvSpPr>
            <p:spPr>
              <a:xfrm>
                <a:off x="6154200" y="3573720"/>
                <a:ext cx="0" cy="18000"/>
              </a:xfrm>
              <a:prstGeom prst="line">
                <a:avLst/>
              </a:prstGeom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6154200" y="3592440"/>
                <a:ext cx="5040" cy="4680"/>
              </a:xfrm>
              <a:prstGeom prst="line">
                <a:avLst/>
              </a:prstGeom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 flipH="1">
                <a:off x="6147720" y="3596760"/>
                <a:ext cx="11520" cy="4320"/>
              </a:xfrm>
              <a:prstGeom prst="line">
                <a:avLst/>
              </a:prstGeom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6148800" y="3601440"/>
                <a:ext cx="10440" cy="9720"/>
              </a:xfrm>
              <a:prstGeom prst="line">
                <a:avLst/>
              </a:prstGeom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flipH="1">
                <a:off x="6148440" y="3611520"/>
                <a:ext cx="10440" cy="5040"/>
              </a:xfrm>
              <a:prstGeom prst="line">
                <a:avLst/>
              </a:prstGeom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6148440" y="3616200"/>
                <a:ext cx="10440" cy="8640"/>
              </a:xfrm>
              <a:prstGeom prst="line">
                <a:avLst/>
              </a:prstGeom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flipH="1">
                <a:off x="6147720" y="3624840"/>
                <a:ext cx="10080" cy="6480"/>
              </a:xfrm>
              <a:prstGeom prst="line">
                <a:avLst/>
              </a:prstGeom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6148080" y="3632400"/>
                <a:ext cx="9360" cy="9000"/>
              </a:xfrm>
              <a:prstGeom prst="line">
                <a:avLst/>
              </a:prstGeom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 flipH="1">
                <a:off x="6148440" y="3642120"/>
                <a:ext cx="9000" cy="6840"/>
              </a:xfrm>
              <a:prstGeom prst="line">
                <a:avLst/>
              </a:prstGeom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6148440" y="3649320"/>
                <a:ext cx="8640" cy="9000"/>
              </a:xfrm>
              <a:prstGeom prst="line">
                <a:avLst/>
              </a:prstGeom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flipH="1">
                <a:off x="6147720" y="3657960"/>
                <a:ext cx="9360" cy="8640"/>
              </a:xfrm>
              <a:prstGeom prst="line">
                <a:avLst/>
              </a:prstGeom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147720" y="3667320"/>
                <a:ext cx="8640" cy="10440"/>
              </a:xfrm>
              <a:prstGeom prst="line">
                <a:avLst/>
              </a:prstGeom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flipH="1">
                <a:off x="6152040" y="3678120"/>
                <a:ext cx="4680" cy="2880"/>
              </a:xfrm>
              <a:prstGeom prst="line">
                <a:avLst/>
              </a:prstGeom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6" name=""/>
            <p:cNvSpPr/>
            <p:nvPr/>
          </p:nvSpPr>
          <p:spPr>
            <a:xfrm rot="5400000">
              <a:off x="5824080" y="3577680"/>
              <a:ext cx="23400" cy="122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5740560" y="3619800"/>
              <a:ext cx="4428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8" name=""/>
          <p:cNvSpPr/>
          <p:nvPr/>
        </p:nvSpPr>
        <p:spPr>
          <a:xfrm>
            <a:off x="3176640" y="2606760"/>
            <a:ext cx="52200" cy="1141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3176640" y="2448000"/>
            <a:ext cx="52200" cy="1159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3546360" y="2606760"/>
            <a:ext cx="50760" cy="1141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3289320" y="2606760"/>
            <a:ext cx="50760" cy="1141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3438360" y="2448000"/>
            <a:ext cx="51120" cy="1159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3289320" y="2451240"/>
            <a:ext cx="50760" cy="1141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3438360" y="2606760"/>
            <a:ext cx="51120" cy="1141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2898720" y="2573280"/>
            <a:ext cx="928800" cy="237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3138480" y="2550960"/>
            <a:ext cx="495360" cy="698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646440" y="2448000"/>
            <a:ext cx="61920" cy="460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3065400" y="2548080"/>
            <a:ext cx="82440" cy="950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065400" y="2620800"/>
            <a:ext cx="36720" cy="255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535200" y="2776680"/>
            <a:ext cx="100080" cy="648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3043080" y="219384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969696"/>
                </a:solidFill>
                <a:latin typeface="Arial"/>
              </a:rPr>
              <a:t>Op 30-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3065400" y="342900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969696"/>
                </a:solidFill>
                <a:latin typeface="Arial"/>
              </a:rPr>
              <a:t>Op 30-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 rot="5400000">
            <a:off x="3933360" y="3124080"/>
            <a:ext cx="123840" cy="10476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2984400" y="3411360"/>
            <a:ext cx="149400" cy="320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2995560" y="3384720"/>
            <a:ext cx="41400" cy="237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3198960" y="3186000"/>
            <a:ext cx="52200" cy="1144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3197160" y="3027240"/>
            <a:ext cx="52560" cy="1144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3567240" y="3184560"/>
            <a:ext cx="50760" cy="1159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3309840" y="3186000"/>
            <a:ext cx="50760" cy="1144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3459240" y="3027240"/>
            <a:ext cx="50760" cy="1144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3309840" y="3029040"/>
            <a:ext cx="52560" cy="1141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459240" y="3184560"/>
            <a:ext cx="52200" cy="1159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2919240" y="3151080"/>
            <a:ext cx="928800" cy="237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159000" y="3130560"/>
            <a:ext cx="495360" cy="684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3666960" y="3027240"/>
            <a:ext cx="61920" cy="460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3087720" y="3125880"/>
            <a:ext cx="81000" cy="950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3087720" y="3200400"/>
            <a:ext cx="34920" cy="237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3557520" y="3355920"/>
            <a:ext cx="100080" cy="637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857160" y="2874960"/>
            <a:ext cx="63684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0" name=""/>
          <p:cNvGrpSpPr/>
          <p:nvPr/>
        </p:nvGrpSpPr>
        <p:grpSpPr>
          <a:xfrm>
            <a:off x="990720" y="2874960"/>
            <a:ext cx="601560" cy="380520"/>
            <a:chOff x="990720" y="2874960"/>
            <a:chExt cx="601560" cy="380520"/>
          </a:xfrm>
        </p:grpSpPr>
        <p:sp>
          <p:nvSpPr>
            <p:cNvPr id="1881" name=""/>
            <p:cNvSpPr/>
            <p:nvPr/>
          </p:nvSpPr>
          <p:spPr>
            <a:xfrm rot="16200000">
              <a:off x="1081440" y="2988360"/>
              <a:ext cx="38520" cy="244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9800" bIns="-19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rot="16200000">
              <a:off x="1125360" y="2866680"/>
              <a:ext cx="371520" cy="388080"/>
            </a:xfrm>
            <a:custGeom>
              <a:avLst/>
              <a:gdLst/>
              <a:ahLst/>
              <a:rect l="l" t="t" r="r" b="b"/>
              <a:pathLst>
                <a:path w="1577" h="1649">
                  <a:moveTo>
                    <a:pt x="1128" y="1647"/>
                  </a:moveTo>
                  <a:lnTo>
                    <a:pt x="1128" y="638"/>
                  </a:lnTo>
                  <a:lnTo>
                    <a:pt x="1450" y="638"/>
                  </a:lnTo>
                  <a:lnTo>
                    <a:pt x="1450" y="540"/>
                  </a:lnTo>
                  <a:lnTo>
                    <a:pt x="1576" y="540"/>
                  </a:lnTo>
                  <a:lnTo>
                    <a:pt x="1576" y="435"/>
                  </a:lnTo>
                  <a:lnTo>
                    <a:pt x="1443" y="435"/>
                  </a:lnTo>
                  <a:lnTo>
                    <a:pt x="1443" y="0"/>
                  </a:lnTo>
                  <a:lnTo>
                    <a:pt x="140" y="0"/>
                  </a:lnTo>
                  <a:lnTo>
                    <a:pt x="140" y="435"/>
                  </a:lnTo>
                  <a:lnTo>
                    <a:pt x="0" y="435"/>
                  </a:lnTo>
                  <a:lnTo>
                    <a:pt x="0" y="540"/>
                  </a:lnTo>
                  <a:lnTo>
                    <a:pt x="133" y="540"/>
                  </a:lnTo>
                  <a:lnTo>
                    <a:pt x="133" y="645"/>
                  </a:lnTo>
                  <a:lnTo>
                    <a:pt x="532" y="645"/>
                  </a:lnTo>
                  <a:lnTo>
                    <a:pt x="532" y="792"/>
                  </a:lnTo>
                  <a:lnTo>
                    <a:pt x="308" y="792"/>
                  </a:lnTo>
                  <a:lnTo>
                    <a:pt x="308" y="876"/>
                  </a:lnTo>
                  <a:lnTo>
                    <a:pt x="497" y="876"/>
                  </a:lnTo>
                  <a:lnTo>
                    <a:pt x="497" y="939"/>
                  </a:lnTo>
                  <a:lnTo>
                    <a:pt x="287" y="939"/>
                  </a:lnTo>
                  <a:lnTo>
                    <a:pt x="287" y="1318"/>
                  </a:lnTo>
                  <a:lnTo>
                    <a:pt x="619" y="1648"/>
                  </a:lnTo>
                  <a:lnTo>
                    <a:pt x="1128" y="1647"/>
                  </a:lnTo>
                </a:path>
              </a:pathLst>
            </a:custGeom>
            <a:solidFill>
              <a:srgbClr val="00cc99">
                <a:alpha val="50000"/>
              </a:srgbClr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530000" y="3191400"/>
              <a:ext cx="62280" cy="457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990720" y="3191400"/>
              <a:ext cx="99720" cy="640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5" name=""/>
          <p:cNvSpPr/>
          <p:nvPr/>
        </p:nvSpPr>
        <p:spPr>
          <a:xfrm rot="10800000">
            <a:off x="2471400" y="2825640"/>
            <a:ext cx="58680" cy="14400"/>
          </a:xfrm>
          <a:custGeom>
            <a:avLst/>
            <a:gdLst/>
            <a:ahLst/>
            <a:rect l="l" t="t" r="r" b="b"/>
            <a:pathLst>
              <a:path w="318" h="78">
                <a:moveTo>
                  <a:pt x="0" y="0"/>
                </a:moveTo>
                <a:cubicBezTo>
                  <a:pt x="23" y="15"/>
                  <a:pt x="39" y="19"/>
                  <a:pt x="66" y="24"/>
                </a:cubicBezTo>
                <a:cubicBezTo>
                  <a:pt x="78" y="22"/>
                  <a:pt x="90" y="21"/>
                  <a:pt x="102" y="18"/>
                </a:cubicBezTo>
                <a:cubicBezTo>
                  <a:pt x="108" y="17"/>
                  <a:pt x="114" y="11"/>
                  <a:pt x="120" y="12"/>
                </a:cubicBezTo>
                <a:cubicBezTo>
                  <a:pt x="133" y="13"/>
                  <a:pt x="156" y="24"/>
                  <a:pt x="156" y="24"/>
                </a:cubicBezTo>
                <a:cubicBezTo>
                  <a:pt x="180" y="22"/>
                  <a:pt x="204" y="16"/>
                  <a:pt x="228" y="18"/>
                </a:cubicBezTo>
                <a:cubicBezTo>
                  <a:pt x="235" y="18"/>
                  <a:pt x="239" y="27"/>
                  <a:pt x="246" y="30"/>
                </a:cubicBezTo>
                <a:cubicBezTo>
                  <a:pt x="265" y="38"/>
                  <a:pt x="286" y="43"/>
                  <a:pt x="306" y="48"/>
                </a:cubicBezTo>
                <a:cubicBezTo>
                  <a:pt x="313" y="70"/>
                  <a:pt x="309" y="60"/>
                  <a:pt x="318" y="7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 rot="10800000">
            <a:off x="2349360" y="2825640"/>
            <a:ext cx="59040" cy="14400"/>
          </a:xfrm>
          <a:custGeom>
            <a:avLst/>
            <a:gdLst/>
            <a:ahLst/>
            <a:rect l="l" t="t" r="r" b="b"/>
            <a:pathLst>
              <a:path w="318" h="78">
                <a:moveTo>
                  <a:pt x="0" y="0"/>
                </a:moveTo>
                <a:cubicBezTo>
                  <a:pt x="23" y="15"/>
                  <a:pt x="39" y="19"/>
                  <a:pt x="66" y="24"/>
                </a:cubicBezTo>
                <a:cubicBezTo>
                  <a:pt x="78" y="22"/>
                  <a:pt x="90" y="21"/>
                  <a:pt x="102" y="18"/>
                </a:cubicBezTo>
                <a:cubicBezTo>
                  <a:pt x="108" y="17"/>
                  <a:pt x="114" y="11"/>
                  <a:pt x="120" y="12"/>
                </a:cubicBezTo>
                <a:cubicBezTo>
                  <a:pt x="133" y="13"/>
                  <a:pt x="156" y="24"/>
                  <a:pt x="156" y="24"/>
                </a:cubicBezTo>
                <a:cubicBezTo>
                  <a:pt x="180" y="22"/>
                  <a:pt x="204" y="16"/>
                  <a:pt x="228" y="18"/>
                </a:cubicBezTo>
                <a:cubicBezTo>
                  <a:pt x="235" y="18"/>
                  <a:pt x="239" y="27"/>
                  <a:pt x="246" y="30"/>
                </a:cubicBezTo>
                <a:cubicBezTo>
                  <a:pt x="265" y="38"/>
                  <a:pt x="286" y="43"/>
                  <a:pt x="306" y="48"/>
                </a:cubicBezTo>
                <a:cubicBezTo>
                  <a:pt x="313" y="70"/>
                  <a:pt x="309" y="60"/>
                  <a:pt x="318" y="7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 rot="10800000">
            <a:off x="1625400" y="2824200"/>
            <a:ext cx="58680" cy="14400"/>
          </a:xfrm>
          <a:custGeom>
            <a:avLst/>
            <a:gdLst/>
            <a:ahLst/>
            <a:rect l="l" t="t" r="r" b="b"/>
            <a:pathLst>
              <a:path w="318" h="78">
                <a:moveTo>
                  <a:pt x="0" y="0"/>
                </a:moveTo>
                <a:cubicBezTo>
                  <a:pt x="23" y="15"/>
                  <a:pt x="39" y="19"/>
                  <a:pt x="66" y="24"/>
                </a:cubicBezTo>
                <a:cubicBezTo>
                  <a:pt x="78" y="22"/>
                  <a:pt x="90" y="21"/>
                  <a:pt x="102" y="18"/>
                </a:cubicBezTo>
                <a:cubicBezTo>
                  <a:pt x="108" y="17"/>
                  <a:pt x="114" y="11"/>
                  <a:pt x="120" y="12"/>
                </a:cubicBezTo>
                <a:cubicBezTo>
                  <a:pt x="133" y="13"/>
                  <a:pt x="156" y="24"/>
                  <a:pt x="156" y="24"/>
                </a:cubicBezTo>
                <a:cubicBezTo>
                  <a:pt x="180" y="22"/>
                  <a:pt x="204" y="16"/>
                  <a:pt x="228" y="18"/>
                </a:cubicBezTo>
                <a:cubicBezTo>
                  <a:pt x="235" y="18"/>
                  <a:pt x="239" y="27"/>
                  <a:pt x="246" y="30"/>
                </a:cubicBezTo>
                <a:cubicBezTo>
                  <a:pt x="265" y="38"/>
                  <a:pt x="286" y="43"/>
                  <a:pt x="306" y="48"/>
                </a:cubicBezTo>
                <a:cubicBezTo>
                  <a:pt x="313" y="70"/>
                  <a:pt x="309" y="60"/>
                  <a:pt x="318" y="7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 rot="10800000">
            <a:off x="1503000" y="2824200"/>
            <a:ext cx="58680" cy="14400"/>
          </a:xfrm>
          <a:custGeom>
            <a:avLst/>
            <a:gdLst/>
            <a:ahLst/>
            <a:rect l="l" t="t" r="r" b="b"/>
            <a:pathLst>
              <a:path w="318" h="78">
                <a:moveTo>
                  <a:pt x="0" y="0"/>
                </a:moveTo>
                <a:cubicBezTo>
                  <a:pt x="23" y="15"/>
                  <a:pt x="39" y="19"/>
                  <a:pt x="66" y="24"/>
                </a:cubicBezTo>
                <a:cubicBezTo>
                  <a:pt x="78" y="22"/>
                  <a:pt x="90" y="21"/>
                  <a:pt x="102" y="18"/>
                </a:cubicBezTo>
                <a:cubicBezTo>
                  <a:pt x="108" y="17"/>
                  <a:pt x="114" y="11"/>
                  <a:pt x="120" y="12"/>
                </a:cubicBezTo>
                <a:cubicBezTo>
                  <a:pt x="133" y="13"/>
                  <a:pt x="156" y="24"/>
                  <a:pt x="156" y="24"/>
                </a:cubicBezTo>
                <a:cubicBezTo>
                  <a:pt x="180" y="22"/>
                  <a:pt x="204" y="16"/>
                  <a:pt x="228" y="18"/>
                </a:cubicBezTo>
                <a:cubicBezTo>
                  <a:pt x="235" y="18"/>
                  <a:pt x="239" y="27"/>
                  <a:pt x="246" y="30"/>
                </a:cubicBezTo>
                <a:cubicBezTo>
                  <a:pt x="265" y="38"/>
                  <a:pt x="286" y="43"/>
                  <a:pt x="306" y="48"/>
                </a:cubicBezTo>
                <a:cubicBezTo>
                  <a:pt x="313" y="70"/>
                  <a:pt x="309" y="60"/>
                  <a:pt x="318" y="7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 flipV="1">
            <a:off x="1995480" y="3052800"/>
            <a:ext cx="49320" cy="6192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 flipH="1" rot="5400000">
            <a:off x="2049480" y="2751480"/>
            <a:ext cx="88920" cy="12564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952560" y="2819520"/>
            <a:ext cx="171612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2473200" y="2624040"/>
            <a:ext cx="0" cy="1954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1936800" y="2874960"/>
            <a:ext cx="38880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4" name=""/>
          <p:cNvGrpSpPr/>
          <p:nvPr/>
        </p:nvGrpSpPr>
        <p:grpSpPr>
          <a:xfrm>
            <a:off x="1836720" y="2883960"/>
            <a:ext cx="601560" cy="383040"/>
            <a:chOff x="1836720" y="2883960"/>
            <a:chExt cx="601560" cy="383040"/>
          </a:xfrm>
        </p:grpSpPr>
        <p:sp>
          <p:nvSpPr>
            <p:cNvPr id="1895" name=""/>
            <p:cNvSpPr/>
            <p:nvPr/>
          </p:nvSpPr>
          <p:spPr>
            <a:xfrm rot="16200000">
              <a:off x="1927440" y="2998800"/>
              <a:ext cx="38880" cy="244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9800" bIns="-19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rot="16200000">
              <a:off x="1970280" y="2876400"/>
              <a:ext cx="373320" cy="388080"/>
            </a:xfrm>
            <a:custGeom>
              <a:avLst/>
              <a:gdLst/>
              <a:ahLst/>
              <a:rect l="l" t="t" r="r" b="b"/>
              <a:pathLst>
                <a:path w="1577" h="1649">
                  <a:moveTo>
                    <a:pt x="1128" y="1647"/>
                  </a:moveTo>
                  <a:lnTo>
                    <a:pt x="1128" y="638"/>
                  </a:lnTo>
                  <a:lnTo>
                    <a:pt x="1450" y="638"/>
                  </a:lnTo>
                  <a:lnTo>
                    <a:pt x="1450" y="540"/>
                  </a:lnTo>
                  <a:lnTo>
                    <a:pt x="1576" y="540"/>
                  </a:lnTo>
                  <a:lnTo>
                    <a:pt x="1576" y="435"/>
                  </a:lnTo>
                  <a:lnTo>
                    <a:pt x="1443" y="435"/>
                  </a:lnTo>
                  <a:lnTo>
                    <a:pt x="1443" y="0"/>
                  </a:lnTo>
                  <a:lnTo>
                    <a:pt x="140" y="0"/>
                  </a:lnTo>
                  <a:lnTo>
                    <a:pt x="140" y="435"/>
                  </a:lnTo>
                  <a:lnTo>
                    <a:pt x="0" y="435"/>
                  </a:lnTo>
                  <a:lnTo>
                    <a:pt x="0" y="540"/>
                  </a:lnTo>
                  <a:lnTo>
                    <a:pt x="133" y="540"/>
                  </a:lnTo>
                  <a:lnTo>
                    <a:pt x="133" y="645"/>
                  </a:lnTo>
                  <a:lnTo>
                    <a:pt x="532" y="645"/>
                  </a:lnTo>
                  <a:lnTo>
                    <a:pt x="532" y="792"/>
                  </a:lnTo>
                  <a:lnTo>
                    <a:pt x="308" y="792"/>
                  </a:lnTo>
                  <a:lnTo>
                    <a:pt x="308" y="876"/>
                  </a:lnTo>
                  <a:lnTo>
                    <a:pt x="497" y="876"/>
                  </a:lnTo>
                  <a:lnTo>
                    <a:pt x="497" y="939"/>
                  </a:lnTo>
                  <a:lnTo>
                    <a:pt x="287" y="939"/>
                  </a:lnTo>
                  <a:lnTo>
                    <a:pt x="287" y="1318"/>
                  </a:lnTo>
                  <a:lnTo>
                    <a:pt x="619" y="1648"/>
                  </a:lnTo>
                  <a:lnTo>
                    <a:pt x="1128" y="1647"/>
                  </a:lnTo>
                </a:path>
              </a:pathLst>
            </a:custGeom>
            <a:solidFill>
              <a:srgbClr val="00cc99">
                <a:alpha val="50000"/>
              </a:srgbClr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376000" y="3202560"/>
              <a:ext cx="62280" cy="460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836720" y="3202560"/>
              <a:ext cx="99720" cy="644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9" name=""/>
          <p:cNvSpPr/>
          <p:nvPr/>
        </p:nvSpPr>
        <p:spPr>
          <a:xfrm>
            <a:off x="5807160" y="6337440"/>
            <a:ext cx="3539880" cy="0"/>
          </a:xfrm>
          <a:prstGeom prst="line">
            <a:avLst/>
          </a:prstGeom>
          <a:ln w="24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488880" y="1104840"/>
            <a:ext cx="3168720" cy="8218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imes New Roman"/>
              </a:rPr>
              <a:t>A1 – Máquinas afectadas: 2 y automo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Problema: fuga de taladrina a través de protecciones laterales y abertur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nálisis causa raíz: movimiento de piezas y brazo de transporte mojad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cción correctiva: bandejas con tramex en el suel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Recomendación: instalación de túnel de secado para evitar que la pieza y el brazo salgan mojad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4808520" y="2314440"/>
            <a:ext cx="3168720" cy="79524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imes New Roman"/>
              </a:rPr>
              <a:t>B2 – Máquinas afectadas: 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Problema: fugas de taladrina bajo el calib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nálisis causa raíz: el aire del calibre extiende la taladrina y cae al suel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cción correctiva: bandejas de recogid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Recomendación: instalación de bandejas con tramex y con conducción al canal velo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3008160" y="5300640"/>
            <a:ext cx="2376720" cy="79524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imes New Roman"/>
              </a:rPr>
              <a:t>A2 – Máquinas afectadas: 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Problema: se aprecian vahos de taladrina al respir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nálisis causa raíz: el flujo turbulento en el canal veloz genera vah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cción correctiva: ningun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Recomendación: conexión directa al sistema de extrac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863640" y="18900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Árbol de Le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 flipV="1">
            <a:off x="1928880" y="1915920"/>
            <a:ext cx="0" cy="86508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 rot="21161400">
            <a:off x="4456080" y="1339920"/>
            <a:ext cx="423720" cy="250920"/>
          </a:xfrm>
          <a:custGeom>
            <a:avLst/>
            <a:gdLst/>
            <a:ahLst/>
            <a:rect l="l" t="t" r="r" b="b"/>
            <a:pathLst>
              <a:path w="256" h="156">
                <a:moveTo>
                  <a:pt x="108" y="33"/>
                </a:moveTo>
                <a:cubicBezTo>
                  <a:pt x="72" y="37"/>
                  <a:pt x="0" y="54"/>
                  <a:pt x="64" y="129"/>
                </a:cubicBezTo>
                <a:cubicBezTo>
                  <a:pt x="79" y="146"/>
                  <a:pt x="109" y="132"/>
                  <a:pt x="132" y="133"/>
                </a:cubicBezTo>
                <a:cubicBezTo>
                  <a:pt x="164" y="144"/>
                  <a:pt x="173" y="145"/>
                  <a:pt x="208" y="149"/>
                </a:cubicBezTo>
                <a:cubicBezTo>
                  <a:pt x="228" y="156"/>
                  <a:pt x="244" y="155"/>
                  <a:pt x="256" y="137"/>
                </a:cubicBezTo>
                <a:cubicBezTo>
                  <a:pt x="254" y="117"/>
                  <a:pt x="250" y="53"/>
                  <a:pt x="244" y="33"/>
                </a:cubicBezTo>
                <a:cubicBezTo>
                  <a:pt x="243" y="28"/>
                  <a:pt x="236" y="27"/>
                  <a:pt x="232" y="25"/>
                </a:cubicBezTo>
                <a:cubicBezTo>
                  <a:pt x="214" y="17"/>
                  <a:pt x="190" y="7"/>
                  <a:pt x="172" y="1"/>
                </a:cubicBezTo>
                <a:cubicBezTo>
                  <a:pt x="143" y="2"/>
                  <a:pt x="113" y="0"/>
                  <a:pt x="84" y="5"/>
                </a:cubicBezTo>
                <a:cubicBezTo>
                  <a:pt x="73" y="7"/>
                  <a:pt x="72" y="37"/>
                  <a:pt x="72" y="37"/>
                </a:cubicBezTo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 rot="783600">
            <a:off x="5089680" y="1268280"/>
            <a:ext cx="368280" cy="365400"/>
          </a:xfrm>
          <a:custGeom>
            <a:avLst/>
            <a:gdLst/>
            <a:ahLst/>
            <a:rect l="l" t="t" r="r" b="b"/>
            <a:pathLst>
              <a:path w="221" h="196">
                <a:moveTo>
                  <a:pt x="46" y="123"/>
                </a:moveTo>
                <a:cubicBezTo>
                  <a:pt x="30" y="172"/>
                  <a:pt x="34" y="162"/>
                  <a:pt x="98" y="167"/>
                </a:cubicBezTo>
                <a:cubicBezTo>
                  <a:pt x="118" y="196"/>
                  <a:pt x="125" y="186"/>
                  <a:pt x="166" y="183"/>
                </a:cubicBezTo>
                <a:cubicBezTo>
                  <a:pt x="170" y="170"/>
                  <a:pt x="182" y="160"/>
                  <a:pt x="186" y="147"/>
                </a:cubicBezTo>
                <a:cubicBezTo>
                  <a:pt x="190" y="135"/>
                  <a:pt x="189" y="122"/>
                  <a:pt x="194" y="111"/>
                </a:cubicBezTo>
                <a:cubicBezTo>
                  <a:pt x="197" y="105"/>
                  <a:pt x="212" y="101"/>
                  <a:pt x="218" y="99"/>
                </a:cubicBezTo>
                <a:cubicBezTo>
                  <a:pt x="215" y="75"/>
                  <a:pt x="221" y="72"/>
                  <a:pt x="202" y="63"/>
                </a:cubicBezTo>
                <a:cubicBezTo>
                  <a:pt x="194" y="60"/>
                  <a:pt x="186" y="58"/>
                  <a:pt x="178" y="55"/>
                </a:cubicBezTo>
                <a:cubicBezTo>
                  <a:pt x="174" y="54"/>
                  <a:pt x="166" y="51"/>
                  <a:pt x="166" y="51"/>
                </a:cubicBezTo>
                <a:cubicBezTo>
                  <a:pt x="162" y="46"/>
                  <a:pt x="143" y="22"/>
                  <a:pt x="138" y="19"/>
                </a:cubicBezTo>
                <a:cubicBezTo>
                  <a:pt x="131" y="15"/>
                  <a:pt x="121" y="16"/>
                  <a:pt x="114" y="11"/>
                </a:cubicBezTo>
                <a:cubicBezTo>
                  <a:pt x="110" y="8"/>
                  <a:pt x="106" y="6"/>
                  <a:pt x="102" y="3"/>
                </a:cubicBezTo>
                <a:cubicBezTo>
                  <a:pt x="91" y="4"/>
                  <a:pt x="78" y="0"/>
                  <a:pt x="70" y="7"/>
                </a:cubicBezTo>
                <a:cubicBezTo>
                  <a:pt x="63" y="13"/>
                  <a:pt x="74" y="30"/>
                  <a:pt x="66" y="35"/>
                </a:cubicBezTo>
                <a:cubicBezTo>
                  <a:pt x="54" y="43"/>
                  <a:pt x="37" y="38"/>
                  <a:pt x="22" y="39"/>
                </a:cubicBezTo>
                <a:cubicBezTo>
                  <a:pt x="11" y="73"/>
                  <a:pt x="0" y="138"/>
                  <a:pt x="46" y="123"/>
                </a:cubicBez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 rot="11506800">
            <a:off x="5614200" y="1356480"/>
            <a:ext cx="412920" cy="298440"/>
          </a:xfrm>
          <a:custGeom>
            <a:avLst/>
            <a:gdLst/>
            <a:ahLst/>
            <a:rect l="l" t="t" r="r" b="b"/>
            <a:pathLst>
              <a:path w="211" h="211">
                <a:moveTo>
                  <a:pt x="35" y="129"/>
                </a:moveTo>
                <a:cubicBezTo>
                  <a:pt x="41" y="211"/>
                  <a:pt x="36" y="186"/>
                  <a:pt x="111" y="193"/>
                </a:cubicBezTo>
                <a:cubicBezTo>
                  <a:pt x="115" y="194"/>
                  <a:pt x="119" y="197"/>
                  <a:pt x="123" y="197"/>
                </a:cubicBezTo>
                <a:cubicBezTo>
                  <a:pt x="143" y="197"/>
                  <a:pt x="167" y="206"/>
                  <a:pt x="183" y="193"/>
                </a:cubicBezTo>
                <a:cubicBezTo>
                  <a:pt x="195" y="183"/>
                  <a:pt x="183" y="160"/>
                  <a:pt x="187" y="145"/>
                </a:cubicBezTo>
                <a:cubicBezTo>
                  <a:pt x="188" y="140"/>
                  <a:pt x="195" y="140"/>
                  <a:pt x="199" y="137"/>
                </a:cubicBezTo>
                <a:cubicBezTo>
                  <a:pt x="202" y="129"/>
                  <a:pt x="204" y="121"/>
                  <a:pt x="207" y="113"/>
                </a:cubicBezTo>
                <a:cubicBezTo>
                  <a:pt x="208" y="109"/>
                  <a:pt x="211" y="101"/>
                  <a:pt x="211" y="101"/>
                </a:cubicBezTo>
                <a:cubicBezTo>
                  <a:pt x="205" y="34"/>
                  <a:pt x="190" y="12"/>
                  <a:pt x="123" y="1"/>
                </a:cubicBezTo>
                <a:cubicBezTo>
                  <a:pt x="94" y="2"/>
                  <a:pt x="64" y="0"/>
                  <a:pt x="35" y="5"/>
                </a:cubicBezTo>
                <a:cubicBezTo>
                  <a:pt x="9" y="9"/>
                  <a:pt x="61" y="91"/>
                  <a:pt x="7" y="105"/>
                </a:cubicBezTo>
                <a:cubicBezTo>
                  <a:pt x="0" y="125"/>
                  <a:pt x="14" y="121"/>
                  <a:pt x="31" y="125"/>
                </a:cubicBezTo>
                <a:cubicBezTo>
                  <a:pt x="36" y="140"/>
                  <a:pt x="35" y="141"/>
                  <a:pt x="35" y="129"/>
                </a:cubicBez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 rot="20676000">
            <a:off x="6178680" y="1335240"/>
            <a:ext cx="357120" cy="382320"/>
          </a:xfrm>
          <a:custGeom>
            <a:avLst/>
            <a:gdLst/>
            <a:ahLst/>
            <a:rect l="l" t="t" r="r" b="b"/>
            <a:pathLst>
              <a:path w="211" h="241">
                <a:moveTo>
                  <a:pt x="79" y="9"/>
                </a:moveTo>
                <a:cubicBezTo>
                  <a:pt x="60" y="10"/>
                  <a:pt x="40" y="6"/>
                  <a:pt x="23" y="13"/>
                </a:cubicBezTo>
                <a:cubicBezTo>
                  <a:pt x="14" y="16"/>
                  <a:pt x="7" y="37"/>
                  <a:pt x="7" y="37"/>
                </a:cubicBezTo>
                <a:cubicBezTo>
                  <a:pt x="10" y="82"/>
                  <a:pt x="0" y="96"/>
                  <a:pt x="31" y="117"/>
                </a:cubicBezTo>
                <a:cubicBezTo>
                  <a:pt x="39" y="140"/>
                  <a:pt x="32" y="144"/>
                  <a:pt x="59" y="149"/>
                </a:cubicBezTo>
                <a:cubicBezTo>
                  <a:pt x="64" y="183"/>
                  <a:pt x="62" y="178"/>
                  <a:pt x="91" y="185"/>
                </a:cubicBezTo>
                <a:cubicBezTo>
                  <a:pt x="175" y="241"/>
                  <a:pt x="207" y="205"/>
                  <a:pt x="183" y="133"/>
                </a:cubicBezTo>
                <a:cubicBezTo>
                  <a:pt x="211" y="124"/>
                  <a:pt x="204" y="133"/>
                  <a:pt x="211" y="113"/>
                </a:cubicBezTo>
                <a:cubicBezTo>
                  <a:pt x="210" y="89"/>
                  <a:pt x="210" y="65"/>
                  <a:pt x="207" y="41"/>
                </a:cubicBezTo>
                <a:cubicBezTo>
                  <a:pt x="205" y="25"/>
                  <a:pt x="183" y="20"/>
                  <a:pt x="171" y="17"/>
                </a:cubicBezTo>
                <a:cubicBezTo>
                  <a:pt x="129" y="8"/>
                  <a:pt x="121" y="0"/>
                  <a:pt x="79" y="9"/>
                </a:cubicBez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 rot="4439400">
            <a:off x="6733080" y="1361160"/>
            <a:ext cx="351000" cy="311040"/>
          </a:xfrm>
          <a:custGeom>
            <a:avLst/>
            <a:gdLst/>
            <a:ahLst/>
            <a:rect l="l" t="t" r="r" b="b"/>
            <a:pathLst>
              <a:path w="221" h="196">
                <a:moveTo>
                  <a:pt x="46" y="123"/>
                </a:moveTo>
                <a:cubicBezTo>
                  <a:pt x="30" y="172"/>
                  <a:pt x="34" y="162"/>
                  <a:pt x="98" y="167"/>
                </a:cubicBezTo>
                <a:cubicBezTo>
                  <a:pt x="118" y="196"/>
                  <a:pt x="125" y="186"/>
                  <a:pt x="166" y="183"/>
                </a:cubicBezTo>
                <a:cubicBezTo>
                  <a:pt x="170" y="170"/>
                  <a:pt x="182" y="160"/>
                  <a:pt x="186" y="147"/>
                </a:cubicBezTo>
                <a:cubicBezTo>
                  <a:pt x="190" y="135"/>
                  <a:pt x="189" y="122"/>
                  <a:pt x="194" y="111"/>
                </a:cubicBezTo>
                <a:cubicBezTo>
                  <a:pt x="197" y="105"/>
                  <a:pt x="212" y="101"/>
                  <a:pt x="218" y="99"/>
                </a:cubicBezTo>
                <a:cubicBezTo>
                  <a:pt x="215" y="75"/>
                  <a:pt x="221" y="72"/>
                  <a:pt x="202" y="63"/>
                </a:cubicBezTo>
                <a:cubicBezTo>
                  <a:pt x="194" y="60"/>
                  <a:pt x="186" y="58"/>
                  <a:pt x="178" y="55"/>
                </a:cubicBezTo>
                <a:cubicBezTo>
                  <a:pt x="174" y="54"/>
                  <a:pt x="166" y="51"/>
                  <a:pt x="166" y="51"/>
                </a:cubicBezTo>
                <a:cubicBezTo>
                  <a:pt x="162" y="46"/>
                  <a:pt x="143" y="22"/>
                  <a:pt x="138" y="19"/>
                </a:cubicBezTo>
                <a:cubicBezTo>
                  <a:pt x="131" y="15"/>
                  <a:pt x="121" y="16"/>
                  <a:pt x="114" y="11"/>
                </a:cubicBezTo>
                <a:cubicBezTo>
                  <a:pt x="110" y="8"/>
                  <a:pt x="106" y="6"/>
                  <a:pt x="102" y="3"/>
                </a:cubicBezTo>
                <a:cubicBezTo>
                  <a:pt x="91" y="4"/>
                  <a:pt x="78" y="0"/>
                  <a:pt x="70" y="7"/>
                </a:cubicBezTo>
                <a:cubicBezTo>
                  <a:pt x="63" y="13"/>
                  <a:pt x="74" y="30"/>
                  <a:pt x="66" y="35"/>
                </a:cubicBezTo>
                <a:cubicBezTo>
                  <a:pt x="54" y="43"/>
                  <a:pt x="37" y="38"/>
                  <a:pt x="22" y="39"/>
                </a:cubicBezTo>
                <a:cubicBezTo>
                  <a:pt x="11" y="73"/>
                  <a:pt x="0" y="138"/>
                  <a:pt x="46" y="123"/>
                </a:cubicBez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 rot="8070600">
            <a:off x="5180040" y="3451320"/>
            <a:ext cx="370080" cy="303120"/>
          </a:xfrm>
          <a:custGeom>
            <a:avLst/>
            <a:gdLst/>
            <a:ahLst/>
            <a:rect l="l" t="t" r="r" b="b"/>
            <a:pathLst>
              <a:path w="278" h="315">
                <a:moveTo>
                  <a:pt x="132" y="8"/>
                </a:moveTo>
                <a:cubicBezTo>
                  <a:pt x="96" y="3"/>
                  <a:pt x="60" y="0"/>
                  <a:pt x="24" y="12"/>
                </a:cubicBezTo>
                <a:cubicBezTo>
                  <a:pt x="24" y="29"/>
                  <a:pt x="48" y="160"/>
                  <a:pt x="0" y="192"/>
                </a:cubicBezTo>
                <a:cubicBezTo>
                  <a:pt x="4" y="222"/>
                  <a:pt x="5" y="269"/>
                  <a:pt x="44" y="276"/>
                </a:cubicBezTo>
                <a:cubicBezTo>
                  <a:pt x="62" y="279"/>
                  <a:pt x="81" y="278"/>
                  <a:pt x="100" y="280"/>
                </a:cubicBezTo>
                <a:cubicBezTo>
                  <a:pt x="109" y="281"/>
                  <a:pt x="119" y="283"/>
                  <a:pt x="128" y="284"/>
                </a:cubicBezTo>
                <a:cubicBezTo>
                  <a:pt x="168" y="297"/>
                  <a:pt x="215" y="315"/>
                  <a:pt x="256" y="284"/>
                </a:cubicBezTo>
                <a:cubicBezTo>
                  <a:pt x="278" y="267"/>
                  <a:pt x="247" y="162"/>
                  <a:pt x="220" y="144"/>
                </a:cubicBezTo>
                <a:cubicBezTo>
                  <a:pt x="208" y="109"/>
                  <a:pt x="224" y="61"/>
                  <a:pt x="192" y="40"/>
                </a:cubicBezTo>
                <a:cubicBezTo>
                  <a:pt x="176" y="17"/>
                  <a:pt x="150" y="14"/>
                  <a:pt x="124" y="8"/>
                </a:cubicBezTo>
                <a:cubicBezTo>
                  <a:pt x="121" y="7"/>
                  <a:pt x="129" y="8"/>
                  <a:pt x="132" y="8"/>
                </a:cubicBez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6745320" y="3408480"/>
            <a:ext cx="425520" cy="317520"/>
          </a:xfrm>
          <a:custGeom>
            <a:avLst/>
            <a:gdLst/>
            <a:ahLst/>
            <a:rect l="l" t="t" r="r" b="b"/>
            <a:pathLst>
              <a:path w="268" h="200">
                <a:moveTo>
                  <a:pt x="47" y="61"/>
                </a:moveTo>
                <a:cubicBezTo>
                  <a:pt x="77" y="51"/>
                  <a:pt x="63" y="55"/>
                  <a:pt x="91" y="49"/>
                </a:cubicBezTo>
                <a:cubicBezTo>
                  <a:pt x="107" y="0"/>
                  <a:pt x="183" y="32"/>
                  <a:pt x="219" y="33"/>
                </a:cubicBezTo>
                <a:cubicBezTo>
                  <a:pt x="220" y="40"/>
                  <a:pt x="218" y="49"/>
                  <a:pt x="223" y="53"/>
                </a:cubicBezTo>
                <a:cubicBezTo>
                  <a:pt x="231" y="59"/>
                  <a:pt x="243" y="52"/>
                  <a:pt x="251" y="57"/>
                </a:cubicBezTo>
                <a:cubicBezTo>
                  <a:pt x="258" y="62"/>
                  <a:pt x="244" y="74"/>
                  <a:pt x="239" y="81"/>
                </a:cubicBezTo>
                <a:cubicBezTo>
                  <a:pt x="240" y="102"/>
                  <a:pt x="236" y="125"/>
                  <a:pt x="243" y="145"/>
                </a:cubicBezTo>
                <a:cubicBezTo>
                  <a:pt x="245" y="151"/>
                  <a:pt x="261" y="143"/>
                  <a:pt x="263" y="149"/>
                </a:cubicBezTo>
                <a:cubicBezTo>
                  <a:pt x="268" y="163"/>
                  <a:pt x="260" y="178"/>
                  <a:pt x="259" y="193"/>
                </a:cubicBezTo>
                <a:cubicBezTo>
                  <a:pt x="234" y="188"/>
                  <a:pt x="215" y="173"/>
                  <a:pt x="191" y="165"/>
                </a:cubicBezTo>
                <a:cubicBezTo>
                  <a:pt x="166" y="169"/>
                  <a:pt x="144" y="174"/>
                  <a:pt x="119" y="177"/>
                </a:cubicBezTo>
                <a:cubicBezTo>
                  <a:pt x="111" y="200"/>
                  <a:pt x="98" y="192"/>
                  <a:pt x="75" y="189"/>
                </a:cubicBezTo>
                <a:cubicBezTo>
                  <a:pt x="46" y="169"/>
                  <a:pt x="32" y="192"/>
                  <a:pt x="19" y="153"/>
                </a:cubicBezTo>
                <a:cubicBezTo>
                  <a:pt x="17" y="127"/>
                  <a:pt x="0" y="70"/>
                  <a:pt x="35" y="61"/>
                </a:cubicBezTo>
                <a:cubicBezTo>
                  <a:pt x="49" y="52"/>
                  <a:pt x="47" y="48"/>
                  <a:pt x="47" y="61"/>
                </a:cubicBez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4737240" y="981000"/>
            <a:ext cx="0" cy="36036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5313240" y="981000"/>
            <a:ext cx="0" cy="36036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5745240" y="981000"/>
            <a:ext cx="0" cy="43200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6392880" y="981000"/>
            <a:ext cx="0" cy="36036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6897600" y="981000"/>
            <a:ext cx="0" cy="43200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flipV="1">
            <a:off x="5384880" y="3101760"/>
            <a:ext cx="0" cy="36036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 flipV="1">
            <a:off x="7113600" y="3097080"/>
            <a:ext cx="0" cy="43200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5869080" y="4816440"/>
            <a:ext cx="3662280" cy="1204920"/>
          </a:xfrm>
          <a:custGeom>
            <a:avLst/>
            <a:gdLst/>
            <a:ahLst/>
            <a:rect l="l" t="t" r="r" b="b"/>
            <a:pathLst>
              <a:path w="2307" h="702">
                <a:moveTo>
                  <a:pt x="167" y="26"/>
                </a:moveTo>
                <a:cubicBezTo>
                  <a:pt x="199" y="25"/>
                  <a:pt x="231" y="27"/>
                  <a:pt x="263" y="22"/>
                </a:cubicBezTo>
                <a:cubicBezTo>
                  <a:pt x="269" y="21"/>
                  <a:pt x="269" y="10"/>
                  <a:pt x="275" y="10"/>
                </a:cubicBezTo>
                <a:cubicBezTo>
                  <a:pt x="282" y="10"/>
                  <a:pt x="297" y="35"/>
                  <a:pt x="307" y="38"/>
                </a:cubicBezTo>
                <a:cubicBezTo>
                  <a:pt x="331" y="33"/>
                  <a:pt x="338" y="30"/>
                  <a:pt x="363" y="34"/>
                </a:cubicBezTo>
                <a:cubicBezTo>
                  <a:pt x="389" y="51"/>
                  <a:pt x="419" y="40"/>
                  <a:pt x="447" y="34"/>
                </a:cubicBezTo>
                <a:cubicBezTo>
                  <a:pt x="467" y="41"/>
                  <a:pt x="477" y="24"/>
                  <a:pt x="495" y="18"/>
                </a:cubicBezTo>
                <a:cubicBezTo>
                  <a:pt x="513" y="46"/>
                  <a:pt x="539" y="36"/>
                  <a:pt x="575" y="38"/>
                </a:cubicBezTo>
                <a:cubicBezTo>
                  <a:pt x="620" y="34"/>
                  <a:pt x="674" y="33"/>
                  <a:pt x="719" y="18"/>
                </a:cubicBezTo>
                <a:cubicBezTo>
                  <a:pt x="725" y="63"/>
                  <a:pt x="721" y="41"/>
                  <a:pt x="743" y="26"/>
                </a:cubicBezTo>
                <a:cubicBezTo>
                  <a:pt x="830" y="29"/>
                  <a:pt x="916" y="25"/>
                  <a:pt x="1003" y="30"/>
                </a:cubicBezTo>
                <a:cubicBezTo>
                  <a:pt x="1046" y="27"/>
                  <a:pt x="1081" y="22"/>
                  <a:pt x="1123" y="18"/>
                </a:cubicBezTo>
                <a:cubicBezTo>
                  <a:pt x="1137" y="20"/>
                  <a:pt x="1166" y="22"/>
                  <a:pt x="1151" y="34"/>
                </a:cubicBezTo>
                <a:cubicBezTo>
                  <a:pt x="1142" y="41"/>
                  <a:pt x="1130" y="42"/>
                  <a:pt x="1119" y="46"/>
                </a:cubicBezTo>
                <a:cubicBezTo>
                  <a:pt x="1076" y="60"/>
                  <a:pt x="1025" y="61"/>
                  <a:pt x="1159" y="54"/>
                </a:cubicBezTo>
                <a:cubicBezTo>
                  <a:pt x="1193" y="3"/>
                  <a:pt x="1199" y="25"/>
                  <a:pt x="1287" y="22"/>
                </a:cubicBezTo>
                <a:cubicBezTo>
                  <a:pt x="1344" y="20"/>
                  <a:pt x="1402" y="19"/>
                  <a:pt x="1459" y="18"/>
                </a:cubicBezTo>
                <a:cubicBezTo>
                  <a:pt x="1500" y="16"/>
                  <a:pt x="1529" y="9"/>
                  <a:pt x="1567" y="14"/>
                </a:cubicBezTo>
                <a:cubicBezTo>
                  <a:pt x="1573" y="33"/>
                  <a:pt x="1568" y="29"/>
                  <a:pt x="1595" y="22"/>
                </a:cubicBezTo>
                <a:cubicBezTo>
                  <a:pt x="1603" y="20"/>
                  <a:pt x="1619" y="14"/>
                  <a:pt x="1619" y="14"/>
                </a:cubicBezTo>
                <a:cubicBezTo>
                  <a:pt x="1713" y="23"/>
                  <a:pt x="1809" y="28"/>
                  <a:pt x="1903" y="18"/>
                </a:cubicBezTo>
                <a:cubicBezTo>
                  <a:pt x="1943" y="5"/>
                  <a:pt x="1916" y="5"/>
                  <a:pt x="1983" y="10"/>
                </a:cubicBezTo>
                <a:cubicBezTo>
                  <a:pt x="1991" y="15"/>
                  <a:pt x="1999" y="21"/>
                  <a:pt x="2007" y="26"/>
                </a:cubicBezTo>
                <a:cubicBezTo>
                  <a:pt x="2015" y="31"/>
                  <a:pt x="2054" y="9"/>
                  <a:pt x="2063" y="6"/>
                </a:cubicBezTo>
                <a:cubicBezTo>
                  <a:pt x="2115" y="41"/>
                  <a:pt x="2049" y="0"/>
                  <a:pt x="2211" y="18"/>
                </a:cubicBezTo>
                <a:cubicBezTo>
                  <a:pt x="2220" y="19"/>
                  <a:pt x="2222" y="36"/>
                  <a:pt x="2231" y="38"/>
                </a:cubicBezTo>
                <a:cubicBezTo>
                  <a:pt x="2244" y="41"/>
                  <a:pt x="2258" y="41"/>
                  <a:pt x="2271" y="42"/>
                </a:cubicBezTo>
                <a:cubicBezTo>
                  <a:pt x="2272" y="71"/>
                  <a:pt x="2272" y="101"/>
                  <a:pt x="2275" y="130"/>
                </a:cubicBezTo>
                <a:cubicBezTo>
                  <a:pt x="2276" y="138"/>
                  <a:pt x="2283" y="154"/>
                  <a:pt x="2283" y="154"/>
                </a:cubicBezTo>
                <a:cubicBezTo>
                  <a:pt x="2286" y="220"/>
                  <a:pt x="2294" y="233"/>
                  <a:pt x="2299" y="290"/>
                </a:cubicBezTo>
                <a:cubicBezTo>
                  <a:pt x="2294" y="332"/>
                  <a:pt x="2289" y="315"/>
                  <a:pt x="2279" y="346"/>
                </a:cubicBezTo>
                <a:cubicBezTo>
                  <a:pt x="2280" y="355"/>
                  <a:pt x="2279" y="366"/>
                  <a:pt x="2283" y="374"/>
                </a:cubicBezTo>
                <a:cubicBezTo>
                  <a:pt x="2285" y="378"/>
                  <a:pt x="2292" y="375"/>
                  <a:pt x="2295" y="378"/>
                </a:cubicBezTo>
                <a:cubicBezTo>
                  <a:pt x="2302" y="384"/>
                  <a:pt x="2304" y="394"/>
                  <a:pt x="2307" y="402"/>
                </a:cubicBezTo>
                <a:cubicBezTo>
                  <a:pt x="2306" y="431"/>
                  <a:pt x="2306" y="461"/>
                  <a:pt x="2303" y="490"/>
                </a:cubicBezTo>
                <a:cubicBezTo>
                  <a:pt x="2301" y="503"/>
                  <a:pt x="2287" y="526"/>
                  <a:pt x="2287" y="526"/>
                </a:cubicBezTo>
                <a:cubicBezTo>
                  <a:pt x="2284" y="569"/>
                  <a:pt x="2293" y="582"/>
                  <a:pt x="2263" y="602"/>
                </a:cubicBezTo>
                <a:cubicBezTo>
                  <a:pt x="2239" y="637"/>
                  <a:pt x="2251" y="647"/>
                  <a:pt x="2203" y="654"/>
                </a:cubicBezTo>
                <a:cubicBezTo>
                  <a:pt x="2174" y="697"/>
                  <a:pt x="2118" y="680"/>
                  <a:pt x="2071" y="682"/>
                </a:cubicBezTo>
                <a:cubicBezTo>
                  <a:pt x="2043" y="681"/>
                  <a:pt x="2015" y="681"/>
                  <a:pt x="1987" y="678"/>
                </a:cubicBezTo>
                <a:cubicBezTo>
                  <a:pt x="1982" y="677"/>
                  <a:pt x="1980" y="671"/>
                  <a:pt x="1975" y="670"/>
                </a:cubicBezTo>
                <a:cubicBezTo>
                  <a:pt x="1959" y="668"/>
                  <a:pt x="1917" y="680"/>
                  <a:pt x="1903" y="682"/>
                </a:cubicBezTo>
                <a:cubicBezTo>
                  <a:pt x="1879" y="681"/>
                  <a:pt x="1855" y="683"/>
                  <a:pt x="1831" y="678"/>
                </a:cubicBezTo>
                <a:cubicBezTo>
                  <a:pt x="1826" y="677"/>
                  <a:pt x="1827" y="669"/>
                  <a:pt x="1823" y="666"/>
                </a:cubicBezTo>
                <a:cubicBezTo>
                  <a:pt x="1820" y="663"/>
                  <a:pt x="1815" y="663"/>
                  <a:pt x="1811" y="662"/>
                </a:cubicBezTo>
                <a:cubicBezTo>
                  <a:pt x="1747" y="666"/>
                  <a:pt x="1669" y="655"/>
                  <a:pt x="1611" y="674"/>
                </a:cubicBezTo>
                <a:cubicBezTo>
                  <a:pt x="1602" y="688"/>
                  <a:pt x="1595" y="697"/>
                  <a:pt x="1579" y="702"/>
                </a:cubicBezTo>
                <a:cubicBezTo>
                  <a:pt x="1539" y="642"/>
                  <a:pt x="1461" y="660"/>
                  <a:pt x="1399" y="658"/>
                </a:cubicBezTo>
                <a:cubicBezTo>
                  <a:pt x="1310" y="673"/>
                  <a:pt x="1441" y="679"/>
                  <a:pt x="1311" y="670"/>
                </a:cubicBezTo>
                <a:cubicBezTo>
                  <a:pt x="1299" y="662"/>
                  <a:pt x="1287" y="654"/>
                  <a:pt x="1275" y="646"/>
                </a:cubicBezTo>
                <a:cubicBezTo>
                  <a:pt x="1271" y="643"/>
                  <a:pt x="1263" y="638"/>
                  <a:pt x="1263" y="638"/>
                </a:cubicBezTo>
                <a:cubicBezTo>
                  <a:pt x="1231" y="641"/>
                  <a:pt x="1202" y="646"/>
                  <a:pt x="1171" y="654"/>
                </a:cubicBezTo>
                <a:cubicBezTo>
                  <a:pt x="1159" y="690"/>
                  <a:pt x="1111" y="646"/>
                  <a:pt x="1099" y="682"/>
                </a:cubicBezTo>
                <a:cubicBezTo>
                  <a:pt x="1076" y="681"/>
                  <a:pt x="1054" y="681"/>
                  <a:pt x="1031" y="678"/>
                </a:cubicBezTo>
                <a:cubicBezTo>
                  <a:pt x="1023" y="677"/>
                  <a:pt x="1007" y="670"/>
                  <a:pt x="1007" y="670"/>
                </a:cubicBezTo>
                <a:cubicBezTo>
                  <a:pt x="946" y="673"/>
                  <a:pt x="875" y="679"/>
                  <a:pt x="815" y="670"/>
                </a:cubicBezTo>
                <a:cubicBezTo>
                  <a:pt x="811" y="669"/>
                  <a:pt x="814" y="660"/>
                  <a:pt x="811" y="658"/>
                </a:cubicBezTo>
                <a:cubicBezTo>
                  <a:pt x="804" y="653"/>
                  <a:pt x="787" y="650"/>
                  <a:pt x="787" y="650"/>
                </a:cubicBezTo>
                <a:cubicBezTo>
                  <a:pt x="770" y="651"/>
                  <a:pt x="752" y="651"/>
                  <a:pt x="735" y="654"/>
                </a:cubicBezTo>
                <a:cubicBezTo>
                  <a:pt x="718" y="657"/>
                  <a:pt x="722" y="677"/>
                  <a:pt x="703" y="678"/>
                </a:cubicBezTo>
                <a:cubicBezTo>
                  <a:pt x="663" y="680"/>
                  <a:pt x="623" y="681"/>
                  <a:pt x="583" y="682"/>
                </a:cubicBezTo>
                <a:cubicBezTo>
                  <a:pt x="556" y="700"/>
                  <a:pt x="524" y="688"/>
                  <a:pt x="495" y="678"/>
                </a:cubicBezTo>
                <a:cubicBezTo>
                  <a:pt x="487" y="675"/>
                  <a:pt x="471" y="670"/>
                  <a:pt x="471" y="670"/>
                </a:cubicBezTo>
                <a:cubicBezTo>
                  <a:pt x="280" y="676"/>
                  <a:pt x="417" y="688"/>
                  <a:pt x="215" y="682"/>
                </a:cubicBezTo>
                <a:cubicBezTo>
                  <a:pt x="203" y="670"/>
                  <a:pt x="199" y="659"/>
                  <a:pt x="183" y="654"/>
                </a:cubicBezTo>
                <a:cubicBezTo>
                  <a:pt x="147" y="663"/>
                  <a:pt x="161" y="667"/>
                  <a:pt x="111" y="662"/>
                </a:cubicBezTo>
                <a:cubicBezTo>
                  <a:pt x="81" y="642"/>
                  <a:pt x="66" y="649"/>
                  <a:pt x="23" y="646"/>
                </a:cubicBezTo>
                <a:cubicBezTo>
                  <a:pt x="0" y="631"/>
                  <a:pt x="9" y="606"/>
                  <a:pt x="23" y="586"/>
                </a:cubicBezTo>
                <a:cubicBezTo>
                  <a:pt x="21" y="546"/>
                  <a:pt x="24" y="518"/>
                  <a:pt x="3" y="486"/>
                </a:cubicBezTo>
                <a:cubicBezTo>
                  <a:pt x="10" y="475"/>
                  <a:pt x="19" y="450"/>
                  <a:pt x="19" y="450"/>
                </a:cubicBezTo>
                <a:cubicBezTo>
                  <a:pt x="20" y="417"/>
                  <a:pt x="15" y="383"/>
                  <a:pt x="23" y="350"/>
                </a:cubicBezTo>
                <a:cubicBezTo>
                  <a:pt x="25" y="343"/>
                  <a:pt x="42" y="353"/>
                  <a:pt x="43" y="346"/>
                </a:cubicBezTo>
                <a:cubicBezTo>
                  <a:pt x="52" y="300"/>
                  <a:pt x="37" y="270"/>
                  <a:pt x="27" y="230"/>
                </a:cubicBezTo>
                <a:cubicBezTo>
                  <a:pt x="28" y="226"/>
                  <a:pt x="28" y="220"/>
                  <a:pt x="31" y="218"/>
                </a:cubicBezTo>
                <a:cubicBezTo>
                  <a:pt x="38" y="213"/>
                  <a:pt x="55" y="210"/>
                  <a:pt x="55" y="210"/>
                </a:cubicBezTo>
                <a:cubicBezTo>
                  <a:pt x="60" y="195"/>
                  <a:pt x="70" y="193"/>
                  <a:pt x="75" y="178"/>
                </a:cubicBezTo>
                <a:cubicBezTo>
                  <a:pt x="79" y="88"/>
                  <a:pt x="63" y="83"/>
                  <a:pt x="131" y="66"/>
                </a:cubicBezTo>
                <a:cubicBezTo>
                  <a:pt x="132" y="58"/>
                  <a:pt x="131" y="49"/>
                  <a:pt x="135" y="42"/>
                </a:cubicBezTo>
                <a:cubicBezTo>
                  <a:pt x="141" y="30"/>
                  <a:pt x="159" y="34"/>
                  <a:pt x="167" y="26"/>
                </a:cubicBez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5384880" y="5661000"/>
            <a:ext cx="50472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838080" y="2651040"/>
            <a:ext cx="1809720" cy="677880"/>
          </a:xfrm>
          <a:custGeom>
            <a:avLst/>
            <a:gdLst/>
            <a:ahLst/>
            <a:rect l="l" t="t" r="r" b="b"/>
            <a:pathLst>
              <a:path w="1140" h="427">
                <a:moveTo>
                  <a:pt x="124" y="410"/>
                </a:moveTo>
                <a:cubicBezTo>
                  <a:pt x="211" y="381"/>
                  <a:pt x="309" y="427"/>
                  <a:pt x="396" y="398"/>
                </a:cubicBezTo>
                <a:cubicBezTo>
                  <a:pt x="444" y="402"/>
                  <a:pt x="492" y="410"/>
                  <a:pt x="540" y="402"/>
                </a:cubicBezTo>
                <a:cubicBezTo>
                  <a:pt x="572" y="403"/>
                  <a:pt x="604" y="404"/>
                  <a:pt x="636" y="406"/>
                </a:cubicBezTo>
                <a:cubicBezTo>
                  <a:pt x="640" y="406"/>
                  <a:pt x="644" y="411"/>
                  <a:pt x="648" y="410"/>
                </a:cubicBezTo>
                <a:cubicBezTo>
                  <a:pt x="657" y="407"/>
                  <a:pt x="672" y="394"/>
                  <a:pt x="672" y="394"/>
                </a:cubicBezTo>
                <a:cubicBezTo>
                  <a:pt x="680" y="417"/>
                  <a:pt x="701" y="405"/>
                  <a:pt x="720" y="418"/>
                </a:cubicBezTo>
                <a:cubicBezTo>
                  <a:pt x="808" y="414"/>
                  <a:pt x="836" y="405"/>
                  <a:pt x="928" y="402"/>
                </a:cubicBezTo>
                <a:cubicBezTo>
                  <a:pt x="932" y="401"/>
                  <a:pt x="936" y="398"/>
                  <a:pt x="940" y="398"/>
                </a:cubicBezTo>
                <a:cubicBezTo>
                  <a:pt x="948" y="399"/>
                  <a:pt x="964" y="406"/>
                  <a:pt x="964" y="406"/>
                </a:cubicBezTo>
                <a:cubicBezTo>
                  <a:pt x="1000" y="402"/>
                  <a:pt x="1019" y="392"/>
                  <a:pt x="1052" y="386"/>
                </a:cubicBezTo>
                <a:cubicBezTo>
                  <a:pt x="1053" y="378"/>
                  <a:pt x="1049" y="366"/>
                  <a:pt x="1056" y="362"/>
                </a:cubicBezTo>
                <a:cubicBezTo>
                  <a:pt x="1110" y="327"/>
                  <a:pt x="1089" y="380"/>
                  <a:pt x="1100" y="346"/>
                </a:cubicBezTo>
                <a:cubicBezTo>
                  <a:pt x="1108" y="285"/>
                  <a:pt x="1140" y="290"/>
                  <a:pt x="1108" y="194"/>
                </a:cubicBezTo>
                <a:cubicBezTo>
                  <a:pt x="1109" y="171"/>
                  <a:pt x="1131" y="90"/>
                  <a:pt x="1096" y="66"/>
                </a:cubicBezTo>
                <a:cubicBezTo>
                  <a:pt x="1073" y="31"/>
                  <a:pt x="1023" y="48"/>
                  <a:pt x="984" y="46"/>
                </a:cubicBezTo>
                <a:cubicBezTo>
                  <a:pt x="964" y="32"/>
                  <a:pt x="973" y="35"/>
                  <a:pt x="936" y="42"/>
                </a:cubicBezTo>
                <a:cubicBezTo>
                  <a:pt x="928" y="44"/>
                  <a:pt x="912" y="50"/>
                  <a:pt x="912" y="50"/>
                </a:cubicBezTo>
                <a:cubicBezTo>
                  <a:pt x="879" y="39"/>
                  <a:pt x="896" y="41"/>
                  <a:pt x="860" y="46"/>
                </a:cubicBezTo>
                <a:cubicBezTo>
                  <a:pt x="837" y="61"/>
                  <a:pt x="770" y="47"/>
                  <a:pt x="756" y="46"/>
                </a:cubicBezTo>
                <a:cubicBezTo>
                  <a:pt x="755" y="42"/>
                  <a:pt x="756" y="36"/>
                  <a:pt x="752" y="34"/>
                </a:cubicBezTo>
                <a:cubicBezTo>
                  <a:pt x="738" y="27"/>
                  <a:pt x="740" y="46"/>
                  <a:pt x="736" y="50"/>
                </a:cubicBezTo>
                <a:cubicBezTo>
                  <a:pt x="733" y="53"/>
                  <a:pt x="728" y="53"/>
                  <a:pt x="724" y="54"/>
                </a:cubicBezTo>
                <a:cubicBezTo>
                  <a:pt x="711" y="50"/>
                  <a:pt x="688" y="34"/>
                  <a:pt x="688" y="34"/>
                </a:cubicBezTo>
                <a:cubicBezTo>
                  <a:pt x="677" y="35"/>
                  <a:pt x="666" y="34"/>
                  <a:pt x="656" y="38"/>
                </a:cubicBezTo>
                <a:cubicBezTo>
                  <a:pt x="652" y="40"/>
                  <a:pt x="655" y="47"/>
                  <a:pt x="652" y="50"/>
                </a:cubicBezTo>
                <a:cubicBezTo>
                  <a:pt x="649" y="53"/>
                  <a:pt x="644" y="53"/>
                  <a:pt x="640" y="54"/>
                </a:cubicBezTo>
                <a:cubicBezTo>
                  <a:pt x="625" y="44"/>
                  <a:pt x="614" y="42"/>
                  <a:pt x="596" y="38"/>
                </a:cubicBezTo>
                <a:cubicBezTo>
                  <a:pt x="577" y="26"/>
                  <a:pt x="560" y="30"/>
                  <a:pt x="544" y="14"/>
                </a:cubicBezTo>
                <a:cubicBezTo>
                  <a:pt x="516" y="15"/>
                  <a:pt x="488" y="13"/>
                  <a:pt x="460" y="18"/>
                </a:cubicBezTo>
                <a:cubicBezTo>
                  <a:pt x="455" y="19"/>
                  <a:pt x="457" y="29"/>
                  <a:pt x="452" y="30"/>
                </a:cubicBezTo>
                <a:cubicBezTo>
                  <a:pt x="440" y="32"/>
                  <a:pt x="428" y="27"/>
                  <a:pt x="416" y="26"/>
                </a:cubicBezTo>
                <a:cubicBezTo>
                  <a:pt x="376" y="0"/>
                  <a:pt x="402" y="9"/>
                  <a:pt x="336" y="14"/>
                </a:cubicBezTo>
                <a:cubicBezTo>
                  <a:pt x="310" y="54"/>
                  <a:pt x="238" y="49"/>
                  <a:pt x="212" y="10"/>
                </a:cubicBezTo>
                <a:cubicBezTo>
                  <a:pt x="195" y="12"/>
                  <a:pt x="172" y="6"/>
                  <a:pt x="160" y="18"/>
                </a:cubicBezTo>
                <a:cubicBezTo>
                  <a:pt x="139" y="39"/>
                  <a:pt x="176" y="23"/>
                  <a:pt x="144" y="34"/>
                </a:cubicBezTo>
                <a:cubicBezTo>
                  <a:pt x="112" y="29"/>
                  <a:pt x="77" y="23"/>
                  <a:pt x="48" y="42"/>
                </a:cubicBezTo>
                <a:cubicBezTo>
                  <a:pt x="47" y="54"/>
                  <a:pt x="50" y="68"/>
                  <a:pt x="44" y="78"/>
                </a:cubicBezTo>
                <a:cubicBezTo>
                  <a:pt x="41" y="84"/>
                  <a:pt x="26" y="75"/>
                  <a:pt x="24" y="82"/>
                </a:cubicBezTo>
                <a:cubicBezTo>
                  <a:pt x="18" y="109"/>
                  <a:pt x="26" y="136"/>
                  <a:pt x="32" y="162"/>
                </a:cubicBezTo>
                <a:cubicBezTo>
                  <a:pt x="0" y="170"/>
                  <a:pt x="13" y="200"/>
                  <a:pt x="28" y="222"/>
                </a:cubicBezTo>
                <a:cubicBezTo>
                  <a:pt x="27" y="242"/>
                  <a:pt x="26" y="262"/>
                  <a:pt x="24" y="282"/>
                </a:cubicBezTo>
                <a:cubicBezTo>
                  <a:pt x="23" y="295"/>
                  <a:pt x="12" y="299"/>
                  <a:pt x="24" y="314"/>
                </a:cubicBezTo>
                <a:cubicBezTo>
                  <a:pt x="28" y="318"/>
                  <a:pt x="35" y="317"/>
                  <a:pt x="40" y="318"/>
                </a:cubicBezTo>
                <a:cubicBezTo>
                  <a:pt x="42" y="341"/>
                  <a:pt x="39" y="365"/>
                  <a:pt x="48" y="386"/>
                </a:cubicBezTo>
                <a:cubicBezTo>
                  <a:pt x="53" y="398"/>
                  <a:pt x="89" y="404"/>
                  <a:pt x="100" y="406"/>
                </a:cubicBezTo>
                <a:cubicBezTo>
                  <a:pt x="108" y="408"/>
                  <a:pt x="124" y="410"/>
                  <a:pt x="124" y="410"/>
                </a:cubicBez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488880" y="5589720"/>
            <a:ext cx="201636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imes New Roman"/>
              </a:rPr>
              <a:t>Tipo 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Times New Roman"/>
              </a:rPr>
              <a:t>Derrames de taladrina o aceite de lubricación que puedan provocar accidentes o generar vahos nocivos. Generalmente solucionar un problema de este tipo tendrá un coste elevad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imes New Roman"/>
              </a:rPr>
              <a:t>Tipo B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Times New Roman"/>
              </a:rPr>
              <a:t>Manchas y salpicaduras que resulten molestas sin llegar a generar un riesgo de accidente o intoxicación. Su corrección no será excesivamente cara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4305240" y="196920"/>
            <a:ext cx="3168720" cy="79524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imes New Roman"/>
              </a:rPr>
              <a:t>B1 – Máquinas afectadas: 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Problema: fugas de taladrina bajo el pórtico y el calib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nálisis causa raíz: el aire del calibre extiende la taladrina y cae al suel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Acción correctiva: bandejas de recogid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Recomendación: construcción de bandejas con tramex y con canalización para vaciad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2576520" y="6381720"/>
            <a:ext cx="7129440" cy="276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Francisco Burgada Vilaplana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Página 1 de 1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Fecha emisión: 13/02/200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W:\PUBLICO\FBurgada\puntos negros paco\layout lineas\alev-2008-1.ppt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Fecha revisión: 14/03/200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09:42:10Z</dcterms:created>
  <dc:creator>jgasco</dc:creator>
  <dc:description/>
  <dc:language>en-US</dc:language>
  <cp:lastModifiedBy>fburgada</cp:lastModifiedBy>
  <dcterms:modified xsi:type="dcterms:W3CDTF">2008-06-27T07:23:59Z</dcterms:modified>
  <cp:revision>51</cp:revision>
  <dc:subject/>
  <dc:title>Presentación de PowerPoint</dc:title>
</cp:coreProperties>
</file>