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791700" cy="1418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556-7C12-4D7A-9415-332DA9C7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D160-BFBD-420F-9650-53CD310C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C76D-FF13-48F4-8601-F12DCB65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0B68-DAAC-4CB7-BF8F-C8C15DFA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FAC7-DD04-4E2F-9DD6-2A9E9A42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900-F321-4025-AFE8-25C7B842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C31-0056-4E37-A00E-DCD3F813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F9C0-B167-488C-91AB-DF696919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85DF-E394-43D7-84D1-0CFC5D5E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9F80-1138-438F-82B0-080A426F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5A5B-EF22-4CF9-AC44-4FEE4100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3FA3-1567-4E83-943B-24A9520F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9CC5-CA41-4078-9DCE-440728A8F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504360" y="2514600"/>
            <a:ext cx="23364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271440" y="1633680"/>
            <a:ext cx="23328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665440" y="5457960"/>
            <a:ext cx="550800" cy="393120"/>
            <a:chOff x="2665440" y="5457960"/>
            <a:chExt cx="550800" cy="393120"/>
          </a:xfrm>
        </p:grpSpPr>
        <p:sp>
          <p:nvSpPr>
            <p:cNvPr id="44" name=""/>
            <p:cNvSpPr/>
            <p:nvPr/>
          </p:nvSpPr>
          <p:spPr>
            <a:xfrm>
              <a:off x="3018960" y="5466960"/>
              <a:ext cx="49680" cy="56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49120" y="5482800"/>
              <a:ext cx="12600" cy="75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54160" y="5477760"/>
              <a:ext cx="262080" cy="165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66880" y="5522040"/>
              <a:ext cx="441000" cy="288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79280" y="5821920"/>
              <a:ext cx="36360" cy="23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11480" y="5597280"/>
              <a:ext cx="27720" cy="208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677680" y="5796360"/>
              <a:ext cx="79920" cy="144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07360" y="5796360"/>
              <a:ext cx="79920" cy="144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03760" y="5618160"/>
              <a:ext cx="129600" cy="11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74960" y="5809320"/>
              <a:ext cx="14040" cy="14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86040" y="5796360"/>
              <a:ext cx="79920" cy="144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15720" y="5796360"/>
              <a:ext cx="79920" cy="144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95760" y="5514840"/>
              <a:ext cx="121320" cy="10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23120" y="5586840"/>
              <a:ext cx="110520" cy="81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80200" y="5711400"/>
              <a:ext cx="74880" cy="62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88200" y="5711400"/>
              <a:ext cx="75240" cy="62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09880" y="5711400"/>
              <a:ext cx="74880" cy="62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17880" y="5711400"/>
              <a:ext cx="74880" cy="62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02840" y="5530680"/>
              <a:ext cx="9360" cy="61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65440" y="5812200"/>
              <a:ext cx="15120" cy="5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68640" y="5475600"/>
              <a:ext cx="11880" cy="21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33360" y="5457960"/>
              <a:ext cx="10440" cy="8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2957400" y="5466600"/>
              <a:ext cx="93240" cy="384480"/>
              <a:chOff x="2957400" y="5466600"/>
              <a:chExt cx="93240" cy="384480"/>
            </a:xfrm>
          </p:grpSpPr>
          <p:sp>
            <p:nvSpPr>
              <p:cNvPr id="67" name=""/>
              <p:cNvSpPr/>
              <p:nvPr/>
            </p:nvSpPr>
            <p:spPr>
              <a:xfrm>
                <a:off x="3031200" y="5466600"/>
                <a:ext cx="19440" cy="1789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6200000">
                <a:off x="2834640" y="5636880"/>
                <a:ext cx="336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5360" bIns="4536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3172680" y="5460840"/>
              <a:ext cx="20520" cy="51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721960" y="522936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3920" y="515772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827360" y="5483160"/>
            <a:ext cx="111600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203120" y="5386320"/>
            <a:ext cx="626400" cy="298080"/>
            <a:chOff x="1203120" y="5386320"/>
            <a:chExt cx="626400" cy="298080"/>
          </a:xfrm>
        </p:grpSpPr>
        <p:sp>
          <p:nvSpPr>
            <p:cNvPr id="74" name=""/>
            <p:cNvSpPr/>
            <p:nvPr/>
          </p:nvSpPr>
          <p:spPr>
            <a:xfrm rot="10800000">
              <a:off x="1234440" y="5561280"/>
              <a:ext cx="22680" cy="74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0800000">
              <a:off x="1383120" y="5497200"/>
              <a:ext cx="33120" cy="73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0800000">
              <a:off x="1672920" y="5499000"/>
              <a:ext cx="51120" cy="73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0800000">
              <a:off x="1596960" y="5499000"/>
              <a:ext cx="50760" cy="73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0800000">
              <a:off x="1518840" y="5499000"/>
              <a:ext cx="54720" cy="73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0800000">
              <a:off x="1441800" y="5499000"/>
              <a:ext cx="53640" cy="73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0800000">
              <a:off x="1206360" y="5386320"/>
              <a:ext cx="97920" cy="141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0800000">
              <a:off x="1214280" y="5491440"/>
              <a:ext cx="65520" cy="20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0800000">
              <a:off x="1216080" y="5391000"/>
              <a:ext cx="70560" cy="914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800000">
              <a:off x="1673640" y="5391000"/>
              <a:ext cx="50760" cy="705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800000">
              <a:off x="1596960" y="5391000"/>
              <a:ext cx="52920" cy="705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0800000">
              <a:off x="1520640" y="5391000"/>
              <a:ext cx="51840" cy="705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0800000">
              <a:off x="1441800" y="5391000"/>
              <a:ext cx="55800" cy="705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0800000">
              <a:off x="1203120" y="5470920"/>
              <a:ext cx="610920" cy="223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0800000">
              <a:off x="1288800" y="5461560"/>
              <a:ext cx="475200" cy="392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00000">
              <a:off x="1745280" y="5498280"/>
              <a:ext cx="12600" cy="13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0600" bIns="-306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0800000">
              <a:off x="1305360" y="5501880"/>
              <a:ext cx="6840" cy="97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0800000">
              <a:off x="1745280" y="5449320"/>
              <a:ext cx="12600" cy="144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9880" bIns="-298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00000">
              <a:off x="1305360" y="5452920"/>
              <a:ext cx="6840" cy="97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00000">
              <a:off x="1730520" y="5632200"/>
              <a:ext cx="99000" cy="522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0800000">
              <a:off x="1400400" y="5656680"/>
              <a:ext cx="201240" cy="22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0800000">
              <a:off x="1299240" y="5573160"/>
              <a:ext cx="66600" cy="262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0800000">
              <a:off x="1627560" y="5656680"/>
              <a:ext cx="70560" cy="22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61960" y="494172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 15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47480" y="5483160"/>
            <a:ext cx="75564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7840" y="4943520"/>
            <a:ext cx="0" cy="54144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44240" y="4943520"/>
            <a:ext cx="42372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44560" y="4476240"/>
            <a:ext cx="299880" cy="482400"/>
            <a:chOff x="844560" y="4476240"/>
            <a:chExt cx="299880" cy="482400"/>
          </a:xfrm>
        </p:grpSpPr>
        <p:sp>
          <p:nvSpPr>
            <p:cNvPr id="102" name=""/>
            <p:cNvSpPr/>
            <p:nvPr/>
          </p:nvSpPr>
          <p:spPr>
            <a:xfrm rot="16200000">
              <a:off x="1044720" y="4878720"/>
              <a:ext cx="11520" cy="352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991440" y="4797000"/>
              <a:ext cx="12600" cy="2930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993240" y="4895280"/>
              <a:ext cx="79560" cy="471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1051560" y="4939200"/>
              <a:ext cx="14400" cy="68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1052280" y="4912200"/>
              <a:ext cx="14400" cy="57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6200000">
              <a:off x="1006560" y="4893840"/>
              <a:ext cx="5040" cy="57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8520" bIns="-38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200000">
              <a:off x="999000" y="4912200"/>
              <a:ext cx="14400" cy="57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869400" y="4657680"/>
              <a:ext cx="296640" cy="1252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6200000">
              <a:off x="855000" y="4669560"/>
              <a:ext cx="118800" cy="10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900720" y="4826520"/>
              <a:ext cx="89280" cy="165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6200000">
              <a:off x="876240" y="4578840"/>
              <a:ext cx="137520" cy="194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1041480" y="4717800"/>
              <a:ext cx="102240" cy="10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1032120" y="4706280"/>
              <a:ext cx="81360" cy="324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1066320" y="4660920"/>
              <a:ext cx="31320" cy="176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1010160" y="4705200"/>
              <a:ext cx="50040" cy="262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022040" y="4538160"/>
              <a:ext cx="27360" cy="12600"/>
              <a:chOff x="1022040" y="4538160"/>
              <a:chExt cx="27360" cy="12600"/>
            </a:xfrm>
          </p:grpSpPr>
          <p:sp>
            <p:nvSpPr>
              <p:cNvPr id="118" name=""/>
              <p:cNvSpPr/>
              <p:nvPr/>
            </p:nvSpPr>
            <p:spPr>
              <a:xfrm rot="16200000">
                <a:off x="1029240" y="4530600"/>
                <a:ext cx="12600" cy="27360"/>
              </a:xfrm>
              <a:prstGeom prst="rect">
                <a:avLst/>
              </a:prstGeom>
              <a:solidFill>
                <a:srgbClr val="00cc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6200000">
                <a:off x="1024560" y="4543200"/>
                <a:ext cx="2160" cy="216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1044720" y="4543200"/>
                <a:ext cx="2160" cy="216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 rot="16200000">
              <a:off x="1054440" y="4737600"/>
              <a:ext cx="6840" cy="86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5640" bIns="-3564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882360" y="4690080"/>
              <a:ext cx="63720" cy="608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896760" y="4714560"/>
              <a:ext cx="32400" cy="10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84880" y="4744080"/>
              <a:ext cx="6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83080" y="4699440"/>
              <a:ext cx="6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00000">
              <a:off x="815400" y="4731840"/>
              <a:ext cx="442080" cy="97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200000">
              <a:off x="1001520" y="4629960"/>
              <a:ext cx="70560" cy="252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6200000">
              <a:off x="1028160" y="4502880"/>
              <a:ext cx="69480" cy="162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924480" y="4644000"/>
              <a:ext cx="10440" cy="1508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959760" y="4714920"/>
              <a:ext cx="45000" cy="11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920880" y="4655880"/>
              <a:ext cx="7920" cy="86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5640" bIns="-3564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200000">
              <a:off x="852840" y="4684680"/>
              <a:ext cx="7560" cy="10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840960" y="4682520"/>
              <a:ext cx="20160" cy="129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200000">
              <a:off x="856440" y="4808160"/>
              <a:ext cx="48960" cy="500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997920" y="4941000"/>
              <a:ext cx="14400" cy="57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37960" y="494172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 15-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2256480" y="5438160"/>
            <a:ext cx="59040" cy="885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793800" y="5432040"/>
            <a:ext cx="57240" cy="889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5800" y="5127480"/>
            <a:ext cx="59040" cy="889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55600" y="4938840"/>
            <a:ext cx="171612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97080" y="4493880"/>
            <a:ext cx="285120" cy="457560"/>
            <a:chOff x="1297080" y="4493880"/>
            <a:chExt cx="285120" cy="457560"/>
          </a:xfrm>
        </p:grpSpPr>
        <p:sp>
          <p:nvSpPr>
            <p:cNvPr id="142" name=""/>
            <p:cNvSpPr/>
            <p:nvPr/>
          </p:nvSpPr>
          <p:spPr>
            <a:xfrm rot="16200000">
              <a:off x="1487520" y="4873680"/>
              <a:ext cx="10440" cy="334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1436760" y="4772160"/>
              <a:ext cx="11520" cy="2775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1519200" y="4880160"/>
              <a:ext cx="11520" cy="1141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1437480" y="4891680"/>
              <a:ext cx="75600" cy="439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1493280" y="4933080"/>
              <a:ext cx="14400" cy="57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1493640" y="4907520"/>
              <a:ext cx="13320" cy="57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6200000">
              <a:off x="1508400" y="4899960"/>
              <a:ext cx="25200" cy="97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6200000">
              <a:off x="1450800" y="4888440"/>
              <a:ext cx="4680" cy="57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8520" bIns="-38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1443600" y="4907520"/>
              <a:ext cx="13320" cy="57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200000">
              <a:off x="1319760" y="4663800"/>
              <a:ext cx="281880" cy="1191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1307520" y="4676400"/>
              <a:ext cx="11196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1350720" y="4824720"/>
              <a:ext cx="85320" cy="154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1326240" y="4588920"/>
              <a:ext cx="130680" cy="187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483560" y="4721400"/>
              <a:ext cx="97200" cy="97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1474200" y="4710600"/>
              <a:ext cx="77760" cy="313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200000">
              <a:off x="1506960" y="4668120"/>
              <a:ext cx="29160" cy="165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1454400" y="4711320"/>
              <a:ext cx="46800" cy="252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466280" y="4552920"/>
              <a:ext cx="25560" cy="11520"/>
              <a:chOff x="1466280" y="4552920"/>
              <a:chExt cx="25560" cy="11520"/>
            </a:xfrm>
          </p:grpSpPr>
          <p:sp>
            <p:nvSpPr>
              <p:cNvPr id="160" name=""/>
              <p:cNvSpPr/>
              <p:nvPr/>
            </p:nvSpPr>
            <p:spPr>
              <a:xfrm rot="16200000">
                <a:off x="1473120" y="4545720"/>
                <a:ext cx="11520" cy="25560"/>
              </a:xfrm>
              <a:prstGeom prst="rect">
                <a:avLst/>
              </a:prstGeom>
              <a:solidFill>
                <a:srgbClr val="00cc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6200000">
                <a:off x="1468800" y="4557240"/>
                <a:ext cx="1800" cy="216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6200000">
                <a:off x="1487520" y="4557240"/>
                <a:ext cx="1800" cy="216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 rot="16200000">
              <a:off x="1496880" y="4743000"/>
              <a:ext cx="5760" cy="79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1333080" y="4697280"/>
              <a:ext cx="60840" cy="568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1346400" y="4719600"/>
              <a:ext cx="31320" cy="104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35240" y="4746960"/>
              <a:ext cx="5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35240" y="4704480"/>
              <a:ext cx="5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200000">
              <a:off x="1268640" y="4734000"/>
              <a:ext cx="419760" cy="97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1445040" y="4637880"/>
              <a:ext cx="67680" cy="234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1470600" y="4518720"/>
              <a:ext cx="66600" cy="165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200000">
              <a:off x="1373760" y="4653000"/>
              <a:ext cx="9720" cy="1436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6200000">
              <a:off x="1406520" y="4718160"/>
              <a:ext cx="42120" cy="11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1369440" y="4661640"/>
              <a:ext cx="6840" cy="86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5640" bIns="-3564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6200000">
              <a:off x="1305360" y="4690080"/>
              <a:ext cx="6840" cy="97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1294200" y="4688280"/>
              <a:ext cx="18360" cy="126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200000">
              <a:off x="1308960" y="4807440"/>
              <a:ext cx="46080" cy="46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770120" y="4474800"/>
            <a:ext cx="393480" cy="474840"/>
            <a:chOff x="1770120" y="4474800"/>
            <a:chExt cx="393480" cy="474840"/>
          </a:xfrm>
        </p:grpSpPr>
        <p:sp>
          <p:nvSpPr>
            <p:cNvPr id="178" name=""/>
            <p:cNvSpPr/>
            <p:nvPr/>
          </p:nvSpPr>
          <p:spPr>
            <a:xfrm rot="16200000">
              <a:off x="1959120" y="4743000"/>
              <a:ext cx="15480" cy="393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200000">
              <a:off x="1987560" y="4882320"/>
              <a:ext cx="50400" cy="66960"/>
            </a:xfrm>
            <a:prstGeom prst="flowChartAlternateProcess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200000">
              <a:off x="1997280" y="4892400"/>
              <a:ext cx="30960" cy="47880"/>
            </a:xfrm>
            <a:custGeom>
              <a:avLst/>
              <a:gdLst>
                <a:gd name="textAreaLeft" fmla="*/ 1440 w 30960"/>
                <a:gd name="textAreaRight" fmla="*/ 29520 w 30960"/>
                <a:gd name="textAreaTop" fmla="*/ 1440 h 47880"/>
                <a:gd name="textAreaBottom" fmla="*/ 46440 h 47880"/>
              </a:gdLst>
              <a:ahLst/>
              <a:rect l="textAreaLeft" t="textAreaTop" r="textAreaRight" b="textAreaBottom"/>
              <a:pathLst>
                <a:path w="21600" h="33269">
                  <a:moveTo>
                    <a:pt x="3600" y="0"/>
                  </a:moveTo>
                  <a:arcTo wR="3600" hR="3600" stAng="16200000" swAng="-5400000"/>
                  <a:lnTo>
                    <a:pt x="0" y="29669"/>
                  </a:lnTo>
                  <a:arcTo wR="3600" hR="3600" stAng="10800000" swAng="-5400000"/>
                  <a:lnTo>
                    <a:pt x="18000" y="332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6200000">
              <a:off x="2009520" y="4889160"/>
              <a:ext cx="10440" cy="98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1818720" y="4939920"/>
              <a:ext cx="597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84680" y="4903200"/>
              <a:ext cx="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041200" y="489996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200000">
              <a:off x="2026080" y="4864680"/>
              <a:ext cx="11160" cy="345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6200000">
              <a:off x="1991520" y="4874400"/>
              <a:ext cx="43920" cy="37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6200000">
              <a:off x="1847880" y="4650120"/>
              <a:ext cx="289440" cy="122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6200000">
              <a:off x="1835280" y="4662720"/>
              <a:ext cx="114840" cy="10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6200000">
              <a:off x="1879920" y="4815360"/>
              <a:ext cx="87120" cy="15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6200000">
              <a:off x="1854720" y="4572720"/>
              <a:ext cx="134280" cy="18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2016360" y="4708800"/>
              <a:ext cx="100080" cy="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6200000">
              <a:off x="2007720" y="4699080"/>
              <a:ext cx="79200" cy="31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2040840" y="4653720"/>
              <a:ext cx="30240" cy="16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6200000">
              <a:off x="1986120" y="4696560"/>
              <a:ext cx="48600" cy="25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1998360" y="4534200"/>
              <a:ext cx="26640" cy="11880"/>
              <a:chOff x="1998360" y="4534200"/>
              <a:chExt cx="26640" cy="11880"/>
            </a:xfrm>
          </p:grpSpPr>
          <p:sp>
            <p:nvSpPr>
              <p:cNvPr id="196" name=""/>
              <p:cNvSpPr/>
              <p:nvPr/>
            </p:nvSpPr>
            <p:spPr>
              <a:xfrm rot="16200000">
                <a:off x="2005560" y="4526640"/>
                <a:ext cx="11880" cy="26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6200000">
                <a:off x="2000880" y="4538880"/>
                <a:ext cx="1800" cy="2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6200000">
                <a:off x="2020680" y="4538880"/>
                <a:ext cx="1800" cy="2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 rot="16200000">
              <a:off x="2029680" y="4728960"/>
              <a:ext cx="6120" cy="82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000" bIns="-360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1861560" y="4682520"/>
              <a:ext cx="62280" cy="590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1875960" y="4706640"/>
              <a:ext cx="30960" cy="10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63720" y="4734720"/>
              <a:ext cx="5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63720" y="4691520"/>
              <a:ext cx="5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6200000">
              <a:off x="1792800" y="4725360"/>
              <a:ext cx="438120" cy="10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1977120" y="4623480"/>
              <a:ext cx="69480" cy="24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2003760" y="4500360"/>
              <a:ext cx="68040" cy="16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1902960" y="4637880"/>
              <a:ext cx="9720" cy="147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1937880" y="4705560"/>
              <a:ext cx="4320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1899360" y="4648680"/>
              <a:ext cx="6840" cy="82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000" bIns="-360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1832760" y="4676400"/>
              <a:ext cx="7560" cy="10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1820520" y="4674960"/>
              <a:ext cx="20520" cy="13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1836360" y="4797720"/>
              <a:ext cx="48240" cy="48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68200" y="4939920"/>
              <a:ext cx="5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41240" y="422100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20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349000" y="4479840"/>
            <a:ext cx="311400" cy="479520"/>
            <a:chOff x="2349000" y="4479840"/>
            <a:chExt cx="311400" cy="479520"/>
          </a:xfrm>
        </p:grpSpPr>
        <p:sp>
          <p:nvSpPr>
            <p:cNvPr id="216" name=""/>
            <p:cNvSpPr/>
            <p:nvPr/>
          </p:nvSpPr>
          <p:spPr>
            <a:xfrm rot="5400000">
              <a:off x="2428560" y="4499280"/>
              <a:ext cx="59040" cy="19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5400000">
              <a:off x="2638440" y="4663440"/>
              <a:ext cx="7200" cy="9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5400000">
              <a:off x="2460960" y="4856040"/>
              <a:ext cx="9360" cy="27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400000">
              <a:off x="2644560" y="4662000"/>
              <a:ext cx="16920" cy="12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2359440" y="4635360"/>
              <a:ext cx="280080" cy="1166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5400000">
              <a:off x="2539080" y="4641840"/>
              <a:ext cx="111240" cy="9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5400000">
              <a:off x="2522520" y="4573440"/>
              <a:ext cx="84240" cy="16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5400000">
              <a:off x="2500560" y="4811040"/>
              <a:ext cx="129600" cy="176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2381040" y="4685760"/>
              <a:ext cx="96480" cy="9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5400000">
              <a:off x="2409120" y="4674960"/>
              <a:ext cx="76680" cy="30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400000">
              <a:off x="2424240" y="4732560"/>
              <a:ext cx="29520" cy="16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5400000">
              <a:off x="2458800" y="4681800"/>
              <a:ext cx="47160" cy="2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2469960" y="4521960"/>
              <a:ext cx="25200" cy="12600"/>
              <a:chOff x="2469960" y="4521960"/>
              <a:chExt cx="25200" cy="12600"/>
            </a:xfrm>
          </p:grpSpPr>
          <p:sp>
            <p:nvSpPr>
              <p:cNvPr id="229" name=""/>
              <p:cNvSpPr/>
              <p:nvPr/>
            </p:nvSpPr>
            <p:spPr>
              <a:xfrm rot="5400000">
                <a:off x="2476080" y="4515480"/>
                <a:ext cx="12600" cy="25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2490480" y="4527360"/>
                <a:ext cx="2160" cy="2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5400000">
                <a:off x="2472120" y="4527360"/>
                <a:ext cx="2160" cy="2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469960" y="4844520"/>
              <a:ext cx="25200" cy="12240"/>
              <a:chOff x="2469960" y="4844520"/>
              <a:chExt cx="25200" cy="12240"/>
            </a:xfrm>
          </p:grpSpPr>
          <p:sp>
            <p:nvSpPr>
              <p:cNvPr id="233" name=""/>
              <p:cNvSpPr/>
              <p:nvPr/>
            </p:nvSpPr>
            <p:spPr>
              <a:xfrm rot="5400000">
                <a:off x="2476440" y="4838040"/>
                <a:ext cx="12240" cy="25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5400000">
                <a:off x="2490480" y="4849560"/>
                <a:ext cx="2160" cy="2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5400000">
                <a:off x="2472120" y="4849560"/>
                <a:ext cx="2160" cy="2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 rot="5400000">
              <a:off x="2458080" y="4667400"/>
              <a:ext cx="6120" cy="7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5400000">
              <a:off x="2579400" y="4629240"/>
              <a:ext cx="6480" cy="7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5400000">
              <a:off x="2565720" y="4662720"/>
              <a:ext cx="59040" cy="576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5400000">
              <a:off x="2581200" y="4687560"/>
              <a:ext cx="29880" cy="10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566080" y="4671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2567160" y="4713120"/>
              <a:ext cx="5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5400000">
              <a:off x="2510640" y="4687200"/>
              <a:ext cx="42120" cy="11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5400000">
              <a:off x="2573640" y="4616280"/>
              <a:ext cx="10440" cy="153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5400000">
              <a:off x="2593800" y="4761000"/>
              <a:ext cx="49680" cy="51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00000">
              <a:off x="2496600" y="4784760"/>
              <a:ext cx="15840" cy="3114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00000">
              <a:off x="2454840" y="4868280"/>
              <a:ext cx="55800" cy="82080"/>
            </a:xfrm>
            <a:custGeom>
              <a:avLst/>
              <a:gdLst>
                <a:gd name="textAreaLeft" fmla="*/ 2520 w 55800"/>
                <a:gd name="textAreaRight" fmla="*/ 53280 w 55800"/>
                <a:gd name="textAreaTop" fmla="*/ 2520 h 82080"/>
                <a:gd name="textAreaBottom" fmla="*/ 79560 h 82080"/>
              </a:gdLst>
              <a:ahLst/>
              <a:rect l="textAreaLeft" t="textAreaTop" r="textAreaRight" b="textAreaBottom"/>
              <a:pathLst>
                <a:path w="21600" h="31708">
                  <a:moveTo>
                    <a:pt x="3600" y="0"/>
                  </a:moveTo>
                  <a:arcTo wR="3600" hR="3600" stAng="16200000" swAng="-5400000"/>
                  <a:lnTo>
                    <a:pt x="0" y="28108"/>
                  </a:lnTo>
                  <a:arcTo wR="3600" hR="3600" stAng="10800000" swAng="-5400000"/>
                  <a:lnTo>
                    <a:pt x="18000" y="3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00000">
              <a:off x="2467080" y="4889520"/>
              <a:ext cx="34200" cy="50760"/>
            </a:xfrm>
            <a:custGeom>
              <a:avLst/>
              <a:gdLst>
                <a:gd name="textAreaLeft" fmla="*/ 1440 w 34200"/>
                <a:gd name="textAreaRight" fmla="*/ 32760 w 34200"/>
                <a:gd name="textAreaTop" fmla="*/ 1440 h 50760"/>
                <a:gd name="textAreaBottom" fmla="*/ 49320 h 50760"/>
              </a:gdLst>
              <a:ahLst/>
              <a:rect l="textAreaLeft" t="textAreaTop" r="textAreaRight" b="textAreaBottom"/>
              <a:pathLst>
                <a:path w="21600" h="31950">
                  <a:moveTo>
                    <a:pt x="3600" y="0"/>
                  </a:moveTo>
                  <a:arcTo wR="3600" hR="3600" stAng="16200000" swAng="-5400000"/>
                  <a:lnTo>
                    <a:pt x="0" y="28350"/>
                  </a:lnTo>
                  <a:arcTo wR="3600" hR="3600" stAng="10800000" swAng="-5400000"/>
                  <a:lnTo>
                    <a:pt x="18000" y="319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5400000">
              <a:off x="2473200" y="4882680"/>
              <a:ext cx="12600" cy="113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5400000">
              <a:off x="2456640" y="4869000"/>
              <a:ext cx="49680" cy="29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2484360" y="4883400"/>
              <a:ext cx="24480" cy="10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2455560" y="4884480"/>
              <a:ext cx="24480" cy="8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16760" y="49050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449800" y="489852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2259360" y="4731480"/>
              <a:ext cx="446400" cy="9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2449080" y="4777200"/>
              <a:ext cx="66600" cy="230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146320" y="414972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20-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5400000">
            <a:off x="651240" y="4893480"/>
            <a:ext cx="58680" cy="889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49720" y="4938840"/>
            <a:ext cx="210636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851200" y="4475160"/>
            <a:ext cx="393480" cy="474840"/>
            <a:chOff x="2851200" y="4475160"/>
            <a:chExt cx="393480" cy="474840"/>
          </a:xfrm>
        </p:grpSpPr>
        <p:sp>
          <p:nvSpPr>
            <p:cNvPr id="260" name=""/>
            <p:cNvSpPr/>
            <p:nvPr/>
          </p:nvSpPr>
          <p:spPr>
            <a:xfrm rot="16200000">
              <a:off x="2928960" y="4650480"/>
              <a:ext cx="289800" cy="1213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2916360" y="4664160"/>
              <a:ext cx="115200" cy="10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6200000">
              <a:off x="2960280" y="4814280"/>
              <a:ext cx="87480" cy="176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6200000">
              <a:off x="2936160" y="4574160"/>
              <a:ext cx="135000" cy="183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6200000">
              <a:off x="3097440" y="4709160"/>
              <a:ext cx="100080" cy="97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6200000">
              <a:off x="3088440" y="4699080"/>
              <a:ext cx="79560" cy="324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3120480" y="4653360"/>
              <a:ext cx="31320" cy="165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3067200" y="4698000"/>
              <a:ext cx="48240" cy="255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3078720" y="4536000"/>
              <a:ext cx="26280" cy="12960"/>
              <a:chOff x="3078720" y="4536000"/>
              <a:chExt cx="26280" cy="12960"/>
            </a:xfrm>
          </p:grpSpPr>
          <p:sp>
            <p:nvSpPr>
              <p:cNvPr id="269" name=""/>
              <p:cNvSpPr/>
              <p:nvPr/>
            </p:nvSpPr>
            <p:spPr>
              <a:xfrm rot="16200000">
                <a:off x="3085200" y="4529160"/>
                <a:ext cx="12960" cy="26280"/>
              </a:xfrm>
              <a:prstGeom prst="rect">
                <a:avLst/>
              </a:prstGeom>
              <a:solidFill>
                <a:srgbClr val="00cc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3081240" y="4541400"/>
                <a:ext cx="2160" cy="216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6200000">
                <a:off x="3100680" y="4541400"/>
                <a:ext cx="2160" cy="216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 rot="16200000">
              <a:off x="3110760" y="4729680"/>
              <a:ext cx="5760" cy="86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5640" bIns="-3564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2943360" y="4682880"/>
              <a:ext cx="61920" cy="597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2957400" y="4706640"/>
              <a:ext cx="30600" cy="97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45160" y="473508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44440" y="4691880"/>
              <a:ext cx="5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3084120" y="4500360"/>
              <a:ext cx="67680" cy="172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2984760" y="4638240"/>
              <a:ext cx="8640" cy="1472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3018600" y="4707000"/>
              <a:ext cx="43920" cy="11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6200000">
              <a:off x="2980080" y="4649760"/>
              <a:ext cx="6840" cy="75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720" bIns="-367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6200000">
              <a:off x="2917440" y="4798800"/>
              <a:ext cx="48240" cy="489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3040560" y="4742640"/>
              <a:ext cx="14400" cy="3934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3068280" y="4882320"/>
              <a:ext cx="50040" cy="66600"/>
            </a:xfrm>
            <a:prstGeom prst="flowChartAlternateProcess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6200000">
              <a:off x="3078360" y="4891320"/>
              <a:ext cx="30600" cy="48240"/>
            </a:xfrm>
            <a:custGeom>
              <a:avLst/>
              <a:gdLst>
                <a:gd name="textAreaLeft" fmla="*/ 1440 w 30600"/>
                <a:gd name="textAreaRight" fmla="*/ 29160 w 30600"/>
                <a:gd name="textAreaTop" fmla="*/ 1440 h 48240"/>
                <a:gd name="textAreaBottom" fmla="*/ 46800 h 48240"/>
              </a:gdLst>
              <a:ahLst/>
              <a:rect l="textAreaLeft" t="textAreaTop" r="textAreaRight" b="textAreaBottom"/>
              <a:pathLst>
                <a:path w="21600" h="33907">
                  <a:moveTo>
                    <a:pt x="3600" y="0"/>
                  </a:moveTo>
                  <a:arcTo wR="3600" hR="3600" stAng="16200000" swAng="-5400000"/>
                  <a:lnTo>
                    <a:pt x="0" y="30307"/>
                  </a:lnTo>
                  <a:arcTo wR="3600" hR="3600" stAng="10800000" swAng="-5400000"/>
                  <a:lnTo>
                    <a:pt x="18000" y="339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6200000">
              <a:off x="3089880" y="4891680"/>
              <a:ext cx="10800" cy="979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2900160" y="4939920"/>
              <a:ext cx="59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65040" y="4902840"/>
              <a:ext cx="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121920" y="4899960"/>
              <a:ext cx="0" cy="2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6200000">
              <a:off x="3106080" y="4864320"/>
              <a:ext cx="11520" cy="349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6200000">
              <a:off x="3071880" y="4874040"/>
              <a:ext cx="43920" cy="381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3149640" y="4939200"/>
              <a:ext cx="586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6200000">
              <a:off x="2874960" y="4726800"/>
              <a:ext cx="435600" cy="104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6200000">
              <a:off x="3058200" y="4624920"/>
              <a:ext cx="69840" cy="244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728800" y="414972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 20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419640" y="4478040"/>
            <a:ext cx="392040" cy="469800"/>
            <a:chOff x="3419640" y="4478040"/>
            <a:chExt cx="392040" cy="469800"/>
          </a:xfrm>
        </p:grpSpPr>
        <p:sp>
          <p:nvSpPr>
            <p:cNvPr id="296" name=""/>
            <p:cNvSpPr/>
            <p:nvPr/>
          </p:nvSpPr>
          <p:spPr>
            <a:xfrm rot="16200000">
              <a:off x="3607920" y="4744080"/>
              <a:ext cx="15480" cy="3920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6200000">
              <a:off x="3636360" y="4883400"/>
              <a:ext cx="49680" cy="66240"/>
            </a:xfrm>
            <a:prstGeom prst="flowChartAlternateProcess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6200000">
              <a:off x="3647520" y="4894560"/>
              <a:ext cx="27720" cy="47520"/>
            </a:xfrm>
            <a:custGeom>
              <a:avLst/>
              <a:gdLst>
                <a:gd name="textAreaLeft" fmla="*/ 1080 w 27720"/>
                <a:gd name="textAreaRight" fmla="*/ 26640 w 27720"/>
                <a:gd name="textAreaTop" fmla="*/ 1080 h 47520"/>
                <a:gd name="textAreaBottom" fmla="*/ 46440 h 47520"/>
              </a:gdLst>
              <a:ahLst/>
              <a:rect l="textAreaLeft" t="textAreaTop" r="textAreaRight" b="textAreaBottom"/>
              <a:pathLst>
                <a:path w="21600" h="36831">
                  <a:moveTo>
                    <a:pt x="3600" y="0"/>
                  </a:moveTo>
                  <a:arcTo wR="3600" hR="3600" stAng="16200000" swAng="-5400000"/>
                  <a:lnTo>
                    <a:pt x="0" y="33231"/>
                  </a:lnTo>
                  <a:arcTo wR="3600" hR="3600" stAng="10800000" swAng="-5400000"/>
                  <a:lnTo>
                    <a:pt x="18000" y="368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00000">
              <a:off x="3657960" y="4890600"/>
              <a:ext cx="10440" cy="97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33120" y="4904280"/>
              <a:ext cx="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3690000" y="4900320"/>
              <a:ext cx="0" cy="2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6200000">
              <a:off x="3673440" y="4865400"/>
              <a:ext cx="9720" cy="37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6200000">
              <a:off x="3497760" y="4652280"/>
              <a:ext cx="288000" cy="121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3482280" y="4731840"/>
              <a:ext cx="7200" cy="10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6200000">
              <a:off x="3484800" y="4664880"/>
              <a:ext cx="114480" cy="101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6200000">
              <a:off x="3528720" y="4816440"/>
              <a:ext cx="86760" cy="16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200000">
              <a:off x="3504600" y="4575960"/>
              <a:ext cx="133200" cy="19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3665160" y="4711320"/>
              <a:ext cx="99360" cy="9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6200000">
              <a:off x="3656520" y="4700520"/>
              <a:ext cx="78840" cy="32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6200000">
              <a:off x="3688920" y="4655880"/>
              <a:ext cx="30240" cy="16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3634920" y="4699800"/>
              <a:ext cx="48240" cy="2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3646800" y="4538160"/>
              <a:ext cx="26280" cy="11880"/>
              <a:chOff x="3646800" y="4538160"/>
              <a:chExt cx="26280" cy="11880"/>
            </a:xfrm>
          </p:grpSpPr>
          <p:sp>
            <p:nvSpPr>
              <p:cNvPr id="313" name=""/>
              <p:cNvSpPr/>
              <p:nvPr/>
            </p:nvSpPr>
            <p:spPr>
              <a:xfrm rot="16200000">
                <a:off x="3654000" y="4530960"/>
                <a:ext cx="11880" cy="26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6200000">
                <a:off x="3649320" y="4542840"/>
                <a:ext cx="1800" cy="2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6200000">
                <a:off x="3668760" y="4542840"/>
                <a:ext cx="1800" cy="2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rot="16200000">
              <a:off x="3678480" y="4731840"/>
              <a:ext cx="6120" cy="82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000" bIns="-360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3510720" y="4685040"/>
              <a:ext cx="62280" cy="590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3525120" y="4708800"/>
              <a:ext cx="30960" cy="10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513240" y="4735800"/>
              <a:ext cx="5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12880" y="4692960"/>
              <a:ext cx="5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6200000">
              <a:off x="3446280" y="4724640"/>
              <a:ext cx="428400" cy="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6200000">
              <a:off x="3626280" y="4626000"/>
              <a:ext cx="68400" cy="24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6200000">
              <a:off x="3652200" y="4503240"/>
              <a:ext cx="67680" cy="16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3552120" y="4640760"/>
              <a:ext cx="9720" cy="146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6200000">
              <a:off x="3586320" y="4708080"/>
              <a:ext cx="4320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6200000">
              <a:off x="3470400" y="4730040"/>
              <a:ext cx="19800" cy="12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6200000">
              <a:off x="3547080" y="4654800"/>
              <a:ext cx="6840" cy="82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000" bIns="-360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6200000">
              <a:off x="3473280" y="4800960"/>
              <a:ext cx="47160" cy="48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6200000">
              <a:off x="3645360" y="4876920"/>
              <a:ext cx="33120" cy="2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3295440" y="414972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30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082760" y="4494240"/>
            <a:ext cx="276120" cy="460440"/>
            <a:chOff x="4082760" y="4494240"/>
            <a:chExt cx="276120" cy="460440"/>
          </a:xfrm>
        </p:grpSpPr>
        <p:sp>
          <p:nvSpPr>
            <p:cNvPr id="332" name=""/>
            <p:cNvSpPr/>
            <p:nvPr/>
          </p:nvSpPr>
          <p:spPr>
            <a:xfrm rot="5400000">
              <a:off x="4213080" y="4801320"/>
              <a:ext cx="15120" cy="276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4161240" y="4870440"/>
              <a:ext cx="53640" cy="78840"/>
            </a:xfrm>
            <a:custGeom>
              <a:avLst/>
              <a:gdLst>
                <a:gd name="textAreaLeft" fmla="*/ 2520 w 53640"/>
                <a:gd name="textAreaRight" fmla="*/ 51120 w 53640"/>
                <a:gd name="textAreaTop" fmla="*/ 2520 h 78840"/>
                <a:gd name="textAreaBottom" fmla="*/ 76320 h 78840"/>
              </a:gdLst>
              <a:ahLst/>
              <a:rect l="textAreaLeft" t="textAreaTop" r="textAreaRight" b="textAreaBottom"/>
              <a:pathLst>
                <a:path w="21600" h="31680">
                  <a:moveTo>
                    <a:pt x="3600" y="0"/>
                  </a:moveTo>
                  <a:arcTo wR="3600" hR="3600" stAng="16200000" swAng="-5400000"/>
                  <a:lnTo>
                    <a:pt x="0" y="28080"/>
                  </a:lnTo>
                  <a:arcTo wR="3600" hR="3600" stAng="10800000" swAng="-5400000"/>
                  <a:lnTo>
                    <a:pt x="18000" y="316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5400000">
              <a:off x="4172760" y="4890240"/>
              <a:ext cx="32760" cy="48960"/>
            </a:xfrm>
            <a:custGeom>
              <a:avLst/>
              <a:gdLst>
                <a:gd name="textAreaLeft" fmla="*/ 1440 w 32760"/>
                <a:gd name="textAreaRight" fmla="*/ 31320 w 32760"/>
                <a:gd name="textAreaTop" fmla="*/ 1440 h 48960"/>
                <a:gd name="textAreaBottom" fmla="*/ 47520 h 48960"/>
              </a:gdLst>
              <a:ahLst/>
              <a:rect l="textAreaLeft" t="textAreaTop" r="textAreaRight" b="textAreaBottom"/>
              <a:pathLst>
                <a:path w="21600" h="32165">
                  <a:moveTo>
                    <a:pt x="3600" y="0"/>
                  </a:moveTo>
                  <a:arcTo wR="3600" hR="3600" stAng="16200000" swAng="-5400000"/>
                  <a:lnTo>
                    <a:pt x="0" y="28565"/>
                  </a:lnTo>
                  <a:arcTo wR="3600" hR="3600" stAng="10800000" swAng="-5400000"/>
                  <a:lnTo>
                    <a:pt x="18000" y="321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4179600" y="4884840"/>
              <a:ext cx="10080" cy="109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5400000">
              <a:off x="4188960" y="4884480"/>
              <a:ext cx="23760" cy="9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4161240" y="4885560"/>
              <a:ext cx="23760" cy="8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20640" y="4905360"/>
              <a:ext cx="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156200" y="4899240"/>
              <a:ext cx="0" cy="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5400000">
              <a:off x="4172400" y="4855680"/>
              <a:ext cx="8640" cy="255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4338720" y="4670280"/>
              <a:ext cx="6840" cy="9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4137120" y="4513320"/>
              <a:ext cx="56880" cy="18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5400000">
              <a:off x="4158720" y="4874400"/>
              <a:ext cx="64080" cy="3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4344480" y="4668840"/>
              <a:ext cx="16200" cy="12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4070520" y="4643280"/>
              <a:ext cx="268920" cy="112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400000">
              <a:off x="4243680" y="4650120"/>
              <a:ext cx="106920" cy="9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5400000">
              <a:off x="4227480" y="4584240"/>
              <a:ext cx="80640" cy="15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5400000">
              <a:off x="4206240" y="4812480"/>
              <a:ext cx="124560" cy="16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4091040" y="4691880"/>
              <a:ext cx="92520" cy="9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4118040" y="4681440"/>
              <a:ext cx="73800" cy="29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4132440" y="4736880"/>
              <a:ext cx="28440" cy="15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4165920" y="4687920"/>
              <a:ext cx="4536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4176720" y="4534920"/>
              <a:ext cx="24120" cy="11880"/>
              <a:chOff x="4176720" y="4534920"/>
              <a:chExt cx="24120" cy="11880"/>
            </a:xfrm>
          </p:grpSpPr>
          <p:sp>
            <p:nvSpPr>
              <p:cNvPr id="354" name=""/>
              <p:cNvSpPr/>
              <p:nvPr/>
            </p:nvSpPr>
            <p:spPr>
              <a:xfrm rot="5400000">
                <a:off x="4182840" y="4528800"/>
                <a:ext cx="11880" cy="24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5400000">
                <a:off x="4196880" y="4539960"/>
                <a:ext cx="1800" cy="1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5400000">
                <a:off x="4178880" y="4539960"/>
                <a:ext cx="1800" cy="1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4176360" y="4850640"/>
              <a:ext cx="25200" cy="10800"/>
              <a:chOff x="4176360" y="4850640"/>
              <a:chExt cx="25200" cy="10800"/>
            </a:xfrm>
          </p:grpSpPr>
          <p:sp>
            <p:nvSpPr>
              <p:cNvPr id="358" name=""/>
              <p:cNvSpPr/>
              <p:nvPr/>
            </p:nvSpPr>
            <p:spPr>
              <a:xfrm rot="5400000">
                <a:off x="4183560" y="4843440"/>
                <a:ext cx="10800" cy="25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5400000">
                <a:off x="4196880" y="4854960"/>
                <a:ext cx="1800" cy="2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5400000">
                <a:off x="4178520" y="4854960"/>
                <a:ext cx="1800" cy="2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 rot="5400000">
              <a:off x="4165200" y="4674240"/>
              <a:ext cx="5760" cy="7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720" bIns="-367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400000">
              <a:off x="4281840" y="4637520"/>
              <a:ext cx="6480" cy="7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720" bIns="-367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4269240" y="4669920"/>
              <a:ext cx="56520" cy="55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5400000">
              <a:off x="4283640" y="4693680"/>
              <a:ext cx="28800" cy="9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4269240" y="467820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270320" y="4718160"/>
              <a:ext cx="5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5400000">
              <a:off x="4215960" y="4692960"/>
              <a:ext cx="40320" cy="10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5400000">
              <a:off x="3973680" y="4736160"/>
              <a:ext cx="428760" cy="7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5400000">
              <a:off x="4156200" y="4781880"/>
              <a:ext cx="63720" cy="22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5400000">
              <a:off x="4276080" y="4624920"/>
              <a:ext cx="10080" cy="147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5400000">
              <a:off x="4295520" y="4764240"/>
              <a:ext cx="47880" cy="48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3860640" y="414972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30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616280" y="4479840"/>
            <a:ext cx="392400" cy="470160"/>
            <a:chOff x="4616280" y="4479840"/>
            <a:chExt cx="392400" cy="470160"/>
          </a:xfrm>
        </p:grpSpPr>
        <p:sp>
          <p:nvSpPr>
            <p:cNvPr id="374" name=""/>
            <p:cNvSpPr/>
            <p:nvPr/>
          </p:nvSpPr>
          <p:spPr>
            <a:xfrm rot="16200000">
              <a:off x="4804560" y="4745880"/>
              <a:ext cx="15480" cy="3924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6200000">
              <a:off x="4833360" y="4885560"/>
              <a:ext cx="49680" cy="66240"/>
            </a:xfrm>
            <a:prstGeom prst="flowChartAlternateProcess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6200000">
              <a:off x="4844520" y="4896360"/>
              <a:ext cx="27720" cy="47880"/>
            </a:xfrm>
            <a:custGeom>
              <a:avLst/>
              <a:gdLst>
                <a:gd name="textAreaLeft" fmla="*/ 1080 w 27720"/>
                <a:gd name="textAreaRight" fmla="*/ 26640 w 27720"/>
                <a:gd name="textAreaTop" fmla="*/ 1080 h 47880"/>
                <a:gd name="textAreaBottom" fmla="*/ 46800 h 47880"/>
              </a:gdLst>
              <a:ahLst/>
              <a:rect l="textAreaLeft" t="textAreaTop" r="textAreaRight" b="textAreaBottom"/>
              <a:pathLst>
                <a:path w="21600" h="37108">
                  <a:moveTo>
                    <a:pt x="3600" y="0"/>
                  </a:moveTo>
                  <a:arcTo wR="3600" hR="3600" stAng="16200000" swAng="-5400000"/>
                  <a:lnTo>
                    <a:pt x="0" y="33508"/>
                  </a:lnTo>
                  <a:arcTo wR="3600" hR="3600" stAng="10800000" swAng="-5400000"/>
                  <a:lnTo>
                    <a:pt x="18000" y="371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200000">
              <a:off x="4855320" y="4892760"/>
              <a:ext cx="10440" cy="98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30120" y="4906440"/>
              <a:ext cx="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886640" y="4902480"/>
              <a:ext cx="0" cy="2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6200000">
              <a:off x="4867920" y="4867560"/>
              <a:ext cx="11880" cy="34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6200000">
              <a:off x="4834080" y="4880880"/>
              <a:ext cx="40680" cy="30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16200000">
              <a:off x="4694400" y="4654440"/>
              <a:ext cx="288000" cy="121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6200000">
              <a:off x="4679280" y="4734000"/>
              <a:ext cx="7200" cy="10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6200000">
              <a:off x="4681440" y="4666680"/>
              <a:ext cx="114480" cy="101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4725720" y="4818600"/>
              <a:ext cx="86760" cy="16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6200000">
              <a:off x="4701240" y="4577760"/>
              <a:ext cx="133200" cy="19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6200000">
              <a:off x="4861800" y="4713480"/>
              <a:ext cx="99360" cy="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200000">
              <a:off x="4853160" y="4702680"/>
              <a:ext cx="78840" cy="32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4885920" y="4658040"/>
              <a:ext cx="30240" cy="16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6200000">
              <a:off x="4831920" y="4701960"/>
              <a:ext cx="48240" cy="2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4843800" y="4539960"/>
              <a:ext cx="26280" cy="11880"/>
              <a:chOff x="4843800" y="4539960"/>
              <a:chExt cx="26280" cy="11880"/>
            </a:xfrm>
          </p:grpSpPr>
          <p:sp>
            <p:nvSpPr>
              <p:cNvPr id="392" name=""/>
              <p:cNvSpPr/>
              <p:nvPr/>
            </p:nvSpPr>
            <p:spPr>
              <a:xfrm rot="16200000">
                <a:off x="4851000" y="4532760"/>
                <a:ext cx="11880" cy="26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846320" y="4544640"/>
                <a:ext cx="1800" cy="2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65760" y="4544640"/>
                <a:ext cx="1800" cy="2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 rot="16200000">
              <a:off x="4875120" y="4733640"/>
              <a:ext cx="6120" cy="82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000" bIns="-360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6200000">
              <a:off x="4707720" y="4686840"/>
              <a:ext cx="62280" cy="590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6200000">
              <a:off x="4722120" y="4710600"/>
              <a:ext cx="30960" cy="10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09880" y="4737960"/>
              <a:ext cx="5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09880" y="4695120"/>
              <a:ext cx="5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6200000">
              <a:off x="4642920" y="4726800"/>
              <a:ext cx="428400" cy="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6200000">
              <a:off x="4822920" y="4627800"/>
              <a:ext cx="68400" cy="24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16200000">
              <a:off x="4848840" y="4505040"/>
              <a:ext cx="67680" cy="16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16200000">
              <a:off x="4748760" y="4642200"/>
              <a:ext cx="9720" cy="146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6200000">
              <a:off x="4783320" y="4710240"/>
              <a:ext cx="4320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6200000">
              <a:off x="4667040" y="4732200"/>
              <a:ext cx="19800" cy="12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6200000">
              <a:off x="4742280" y="4654080"/>
              <a:ext cx="6840" cy="72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7080" bIns="-37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6200000">
              <a:off x="4678200" y="4802040"/>
              <a:ext cx="47520" cy="48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4473360" y="414972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40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87880" y="414972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40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545080" y="4938840"/>
            <a:ext cx="142416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5235120" y="4484520"/>
            <a:ext cx="322200" cy="465480"/>
            <a:chOff x="5235120" y="4484520"/>
            <a:chExt cx="322200" cy="465480"/>
          </a:xfrm>
        </p:grpSpPr>
        <p:sp>
          <p:nvSpPr>
            <p:cNvPr id="412" name=""/>
            <p:cNvSpPr/>
            <p:nvPr/>
          </p:nvSpPr>
          <p:spPr>
            <a:xfrm rot="5400000">
              <a:off x="5388120" y="4780800"/>
              <a:ext cx="15840" cy="3222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5400000">
              <a:off x="5315760" y="4870800"/>
              <a:ext cx="55080" cy="81360"/>
            </a:xfrm>
            <a:custGeom>
              <a:avLst/>
              <a:gdLst>
                <a:gd name="textAreaLeft" fmla="*/ 2520 w 55080"/>
                <a:gd name="textAreaRight" fmla="*/ 52560 w 55080"/>
                <a:gd name="textAreaTop" fmla="*/ 2520 h 81360"/>
                <a:gd name="textAreaBottom" fmla="*/ 78840 h 81360"/>
              </a:gdLst>
              <a:ahLst/>
              <a:rect l="textAreaLeft" t="textAreaTop" r="textAreaRight" b="textAreaBottom"/>
              <a:pathLst>
                <a:path w="21600" h="31839">
                  <a:moveTo>
                    <a:pt x="3600" y="0"/>
                  </a:moveTo>
                  <a:arcTo wR="3600" hR="3600" stAng="16200000" swAng="-5400000"/>
                  <a:lnTo>
                    <a:pt x="0" y="28239"/>
                  </a:lnTo>
                  <a:arcTo wR="3600" hR="3600" stAng="10800000" swAng="-5400000"/>
                  <a:lnTo>
                    <a:pt x="18000" y="318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76960" y="4906800"/>
              <a:ext cx="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310720" y="490068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5326920" y="4854960"/>
              <a:ext cx="10080" cy="324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5331240" y="4848480"/>
              <a:ext cx="25200" cy="11160"/>
              <a:chOff x="5331240" y="4848480"/>
              <a:chExt cx="25200" cy="11160"/>
            </a:xfrm>
          </p:grpSpPr>
          <p:sp>
            <p:nvSpPr>
              <p:cNvPr id="418" name=""/>
              <p:cNvSpPr/>
              <p:nvPr/>
            </p:nvSpPr>
            <p:spPr>
              <a:xfrm rot="5400000">
                <a:off x="5338080" y="4841280"/>
                <a:ext cx="11160" cy="25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5400000">
                <a:off x="5351760" y="4852800"/>
                <a:ext cx="1800" cy="2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5400000">
                <a:off x="5333400" y="4852800"/>
                <a:ext cx="1800" cy="2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 rot="5400000">
              <a:off x="5503680" y="4665600"/>
              <a:ext cx="7920" cy="9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5400000">
              <a:off x="5291280" y="4503960"/>
              <a:ext cx="58320" cy="19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5400000">
              <a:off x="5508000" y="4665240"/>
              <a:ext cx="16560" cy="10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5400000">
              <a:off x="5222880" y="4637880"/>
              <a:ext cx="276120" cy="115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5400000">
              <a:off x="5402520" y="4649040"/>
              <a:ext cx="109800" cy="9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5400000">
              <a:off x="5384160" y="4577040"/>
              <a:ext cx="83160" cy="15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5400000">
              <a:off x="5362560" y="4811400"/>
              <a:ext cx="127800" cy="17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5400000">
              <a:off x="5243760" y="4687560"/>
              <a:ext cx="95040" cy="9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5400000">
              <a:off x="5271840" y="4676760"/>
              <a:ext cx="75600" cy="30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5400000">
              <a:off x="5286600" y="4734000"/>
              <a:ext cx="29160" cy="16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5400000">
              <a:off x="5320800" y="4683240"/>
              <a:ext cx="46440" cy="2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5331960" y="4526280"/>
              <a:ext cx="24840" cy="12240"/>
              <a:chOff x="5331960" y="4526280"/>
              <a:chExt cx="24840" cy="12240"/>
            </a:xfrm>
          </p:grpSpPr>
          <p:sp>
            <p:nvSpPr>
              <p:cNvPr id="433" name=""/>
              <p:cNvSpPr/>
              <p:nvPr/>
            </p:nvSpPr>
            <p:spPr>
              <a:xfrm rot="5400000">
                <a:off x="5338080" y="4519800"/>
                <a:ext cx="12240" cy="24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5400000">
                <a:off x="5352120" y="4531320"/>
                <a:ext cx="2160" cy="2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5400000">
                <a:off x="5333760" y="4531320"/>
                <a:ext cx="2160" cy="2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 rot="5400000">
              <a:off x="5320440" y="4669560"/>
              <a:ext cx="5760" cy="7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5400000">
              <a:off x="5440320" y="4631760"/>
              <a:ext cx="6480" cy="7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720" bIns="-367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5400000">
              <a:off x="5427000" y="4664520"/>
              <a:ext cx="57960" cy="56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5400000">
              <a:off x="5442120" y="4689720"/>
              <a:ext cx="29520" cy="9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427000" y="4673520"/>
              <a:ext cx="5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5428080" y="4714560"/>
              <a:ext cx="5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5372280" y="4688640"/>
              <a:ext cx="41400" cy="11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5400000">
              <a:off x="5141520" y="4715640"/>
              <a:ext cx="405720" cy="9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5400000">
              <a:off x="5310720" y="4780080"/>
              <a:ext cx="65520" cy="226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5400000">
              <a:off x="5434200" y="4618440"/>
              <a:ext cx="10080" cy="151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5400000">
              <a:off x="5454720" y="4761720"/>
              <a:ext cx="48960" cy="50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70920" y="4801320"/>
              <a:ext cx="2880" cy="0"/>
            </a:xfrm>
            <a:prstGeom prst="line">
              <a:avLst/>
            </a:prstGeom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5400000">
              <a:off x="5327640" y="4891320"/>
              <a:ext cx="33840" cy="50400"/>
            </a:xfrm>
            <a:custGeom>
              <a:avLst/>
              <a:gdLst>
                <a:gd name="textAreaLeft" fmla="*/ 1440 w 33840"/>
                <a:gd name="textAreaRight" fmla="*/ 32400 w 33840"/>
                <a:gd name="textAreaTop" fmla="*/ 1440 h 50400"/>
                <a:gd name="textAreaBottom" fmla="*/ 48960 h 50400"/>
              </a:gdLst>
              <a:ahLst/>
              <a:rect l="textAreaLeft" t="textAreaTop" r="textAreaRight" b="textAreaBottom"/>
              <a:pathLst>
                <a:path w="21600" h="32059">
                  <a:moveTo>
                    <a:pt x="3600" y="0"/>
                  </a:moveTo>
                  <a:arcTo wR="3600" hR="3600" stAng="16200000" swAng="-5400000"/>
                  <a:lnTo>
                    <a:pt x="0" y="28459"/>
                  </a:lnTo>
                  <a:arcTo wR="3600" hR="3600" stAng="10800000" swAng="-5400000"/>
                  <a:lnTo>
                    <a:pt x="18000" y="320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5400000">
              <a:off x="5335200" y="4886280"/>
              <a:ext cx="10440" cy="1126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5400000">
              <a:off x="5323320" y="4870080"/>
              <a:ext cx="41040" cy="2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5400000">
              <a:off x="5344560" y="4885200"/>
              <a:ext cx="24120" cy="10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5400000">
              <a:off x="5316120" y="4886280"/>
              <a:ext cx="24120" cy="8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 flipV="1">
            <a:off x="6980400" y="3952800"/>
            <a:ext cx="0" cy="99072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902280" y="404352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50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5400000">
            <a:off x="6711480" y="4892760"/>
            <a:ext cx="57240" cy="889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51600" y="4170240"/>
            <a:ext cx="57240" cy="8748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51640" y="3878280"/>
            <a:ext cx="162108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956280" y="3713040"/>
            <a:ext cx="527040" cy="318960"/>
            <a:chOff x="6956280" y="3713040"/>
            <a:chExt cx="527040" cy="318960"/>
          </a:xfrm>
        </p:grpSpPr>
        <p:sp>
          <p:nvSpPr>
            <p:cNvPr id="459" name=""/>
            <p:cNvSpPr/>
            <p:nvPr/>
          </p:nvSpPr>
          <p:spPr>
            <a:xfrm>
              <a:off x="7141680" y="3960000"/>
              <a:ext cx="132480" cy="46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011000" y="3867480"/>
              <a:ext cx="47880" cy="23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56280" y="3870720"/>
              <a:ext cx="527040" cy="14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59160" y="3840840"/>
              <a:ext cx="54720" cy="18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64920" y="3862800"/>
              <a:ext cx="46080" cy="32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077960" y="3824640"/>
              <a:ext cx="73440" cy="108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68040" y="3825720"/>
              <a:ext cx="47880" cy="109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57440" y="3862800"/>
              <a:ext cx="294480" cy="356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57160" y="3789720"/>
              <a:ext cx="25920" cy="12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148880" y="3960000"/>
              <a:ext cx="124560" cy="13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151760" y="3733920"/>
              <a:ext cx="64440" cy="446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36000" y="3715920"/>
              <a:ext cx="23400" cy="70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7094520" y="3932640"/>
              <a:ext cx="22680" cy="16560"/>
              <a:chOff x="7094520" y="3932640"/>
              <a:chExt cx="22680" cy="16560"/>
            </a:xfrm>
          </p:grpSpPr>
          <p:sp>
            <p:nvSpPr>
              <p:cNvPr id="472" name=""/>
              <p:cNvSpPr/>
              <p:nvPr/>
            </p:nvSpPr>
            <p:spPr>
              <a:xfrm>
                <a:off x="7094520" y="3932640"/>
                <a:ext cx="22680" cy="68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095960" y="3940560"/>
                <a:ext cx="19800" cy="86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7131600" y="3931200"/>
              <a:ext cx="7560" cy="8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33760" y="3820320"/>
              <a:ext cx="8280" cy="8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53200" y="3953880"/>
              <a:ext cx="32760" cy="35280"/>
            </a:xfrm>
            <a:custGeom>
              <a:avLst/>
              <a:gdLst/>
              <a:ahLst/>
              <a:rect l="l" t="t" r="r" b="b"/>
              <a:pathLst>
                <a:path w="238" h="248">
                  <a:moveTo>
                    <a:pt x="0" y="9"/>
                  </a:moveTo>
                  <a:lnTo>
                    <a:pt x="132" y="247"/>
                  </a:lnTo>
                  <a:lnTo>
                    <a:pt x="237" y="242"/>
                  </a:lnTo>
                  <a:lnTo>
                    <a:pt x="90" y="0"/>
                  </a:lnTo>
                  <a:lnTo>
                    <a:pt x="0" y="9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46360" y="3801600"/>
              <a:ext cx="127080" cy="158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163640" y="3984480"/>
              <a:ext cx="26640" cy="14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6973560" y="3866760"/>
              <a:ext cx="13320" cy="165240"/>
              <a:chOff x="6973560" y="3866760"/>
              <a:chExt cx="13320" cy="165240"/>
            </a:xfrm>
          </p:grpSpPr>
          <p:sp>
            <p:nvSpPr>
              <p:cNvPr id="480" name=""/>
              <p:cNvSpPr/>
              <p:nvPr/>
            </p:nvSpPr>
            <p:spPr>
              <a:xfrm>
                <a:off x="6976080" y="3866760"/>
                <a:ext cx="7560" cy="1652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973560" y="3938760"/>
                <a:ext cx="13320" cy="493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7436160" y="3713040"/>
              <a:ext cx="15480" cy="73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7432560" y="4581360"/>
            <a:ext cx="173520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6943680" y="4316760"/>
            <a:ext cx="538200" cy="383400"/>
            <a:chOff x="6943680" y="4316760"/>
            <a:chExt cx="538200" cy="383400"/>
          </a:xfrm>
        </p:grpSpPr>
        <p:sp>
          <p:nvSpPr>
            <p:cNvPr id="485" name=""/>
            <p:cNvSpPr/>
            <p:nvPr/>
          </p:nvSpPr>
          <p:spPr>
            <a:xfrm>
              <a:off x="7106400" y="4518720"/>
              <a:ext cx="23760" cy="115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013880" y="4569480"/>
              <a:ext cx="51480" cy="22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73920" y="4573080"/>
              <a:ext cx="507960" cy="144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943680" y="4658400"/>
              <a:ext cx="57240" cy="11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79680" y="4482000"/>
              <a:ext cx="7920" cy="200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66000" y="4565160"/>
              <a:ext cx="46800" cy="3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79760" y="4528440"/>
              <a:ext cx="88200" cy="105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286760" y="4527360"/>
              <a:ext cx="49320" cy="107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065360" y="4563360"/>
              <a:ext cx="308520" cy="35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156440" y="4658400"/>
              <a:ext cx="137160" cy="417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90280" y="4491720"/>
              <a:ext cx="27000" cy="11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183080" y="4407480"/>
              <a:ext cx="67680" cy="43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263000" y="4388760"/>
              <a:ext cx="24480" cy="69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143120" y="4630680"/>
              <a:ext cx="8640" cy="7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43120" y="4522680"/>
              <a:ext cx="8640" cy="82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000" bIns="-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154640" y="4477680"/>
              <a:ext cx="34920" cy="34200"/>
            </a:xfrm>
            <a:custGeom>
              <a:avLst/>
              <a:gdLst/>
              <a:ahLst/>
              <a:rect l="l" t="t" r="r" b="b"/>
              <a:pathLst>
                <a:path w="247" h="243">
                  <a:moveTo>
                    <a:pt x="0" y="9"/>
                  </a:moveTo>
                  <a:lnTo>
                    <a:pt x="137" y="242"/>
                  </a:lnTo>
                  <a:lnTo>
                    <a:pt x="246" y="237"/>
                  </a:lnTo>
                  <a:lnTo>
                    <a:pt x="93" y="0"/>
                  </a:lnTo>
                  <a:lnTo>
                    <a:pt x="0" y="9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58240" y="4503600"/>
              <a:ext cx="133560" cy="155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44920" y="4466880"/>
              <a:ext cx="28080" cy="14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08200" y="4510800"/>
              <a:ext cx="20160" cy="82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63840" y="4642560"/>
              <a:ext cx="43560" cy="4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55200" y="4656960"/>
              <a:ext cx="8280" cy="14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78600" y="4385160"/>
              <a:ext cx="10080" cy="43200"/>
            </a:xfrm>
            <a:custGeom>
              <a:avLst/>
              <a:gdLst/>
              <a:ahLst/>
              <a:rect l="l" t="t" r="r" b="b"/>
              <a:pathLst>
                <a:path w="72" h="308">
                  <a:moveTo>
                    <a:pt x="0" y="0"/>
                  </a:moveTo>
                  <a:lnTo>
                    <a:pt x="0" y="28"/>
                  </a:lnTo>
                  <a:lnTo>
                    <a:pt x="0" y="307"/>
                  </a:lnTo>
                  <a:lnTo>
                    <a:pt x="52" y="231"/>
                  </a:lnTo>
                  <a:lnTo>
                    <a:pt x="71" y="283"/>
                  </a:lnTo>
                  <a:lnTo>
                    <a:pt x="71" y="4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75360" y="4371840"/>
              <a:ext cx="57960" cy="17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78960" y="4424760"/>
              <a:ext cx="9360" cy="58680"/>
            </a:xfrm>
            <a:custGeom>
              <a:avLst/>
              <a:gdLst/>
              <a:ahLst/>
              <a:rect l="l" t="t" r="r" b="b"/>
              <a:pathLst>
                <a:path w="67" h="417">
                  <a:moveTo>
                    <a:pt x="0" y="416"/>
                  </a:moveTo>
                  <a:lnTo>
                    <a:pt x="0" y="63"/>
                  </a:lnTo>
                  <a:lnTo>
                    <a:pt x="48" y="0"/>
                  </a:lnTo>
                  <a:lnTo>
                    <a:pt x="66" y="46"/>
                  </a:lnTo>
                  <a:lnTo>
                    <a:pt x="66" y="406"/>
                  </a:lnTo>
                  <a:lnTo>
                    <a:pt x="0" y="416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77160" y="4478400"/>
              <a:ext cx="14760" cy="48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0800000">
              <a:off x="7013520" y="4316760"/>
              <a:ext cx="226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0800000">
              <a:off x="7439400" y="4624200"/>
              <a:ext cx="19080" cy="73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161480" y="4654440"/>
              <a:ext cx="130320" cy="12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8112240" y="3732120"/>
            <a:ext cx="533160" cy="293760"/>
            <a:chOff x="8112240" y="3732120"/>
            <a:chExt cx="533160" cy="293760"/>
          </a:xfrm>
        </p:grpSpPr>
        <p:sp>
          <p:nvSpPr>
            <p:cNvPr id="514" name=""/>
            <p:cNvSpPr/>
            <p:nvPr/>
          </p:nvSpPr>
          <p:spPr>
            <a:xfrm>
              <a:off x="8267400" y="3890520"/>
              <a:ext cx="28440" cy="63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267040" y="3802320"/>
              <a:ext cx="28440" cy="63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472960" y="3890160"/>
              <a:ext cx="28440" cy="63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328960" y="3890520"/>
              <a:ext cx="28440" cy="63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472960" y="3802320"/>
              <a:ext cx="28440" cy="63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329680" y="3803400"/>
              <a:ext cx="28440" cy="63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76120" y="3890160"/>
              <a:ext cx="28440" cy="63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425440" y="3890160"/>
              <a:ext cx="28440" cy="63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412120" y="3848760"/>
              <a:ext cx="2052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112240" y="3872160"/>
              <a:ext cx="517320" cy="12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246160" y="3859920"/>
              <a:ext cx="275760" cy="38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12320" y="3936600"/>
              <a:ext cx="24840" cy="48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16560" y="3999240"/>
              <a:ext cx="110160" cy="266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596080" y="3821040"/>
              <a:ext cx="49320" cy="16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528760" y="3802320"/>
              <a:ext cx="34920" cy="25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205120" y="3857760"/>
              <a:ext cx="45720" cy="52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205480" y="3898440"/>
              <a:ext cx="19800" cy="14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528760" y="3954600"/>
              <a:ext cx="55800" cy="356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133120" y="3732120"/>
              <a:ext cx="23400" cy="69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6902280" y="478944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50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032680" y="404352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60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rot="5400000">
            <a:off x="7749000" y="3834720"/>
            <a:ext cx="58680" cy="889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5400000">
            <a:off x="7769520" y="4539240"/>
            <a:ext cx="57240" cy="8748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437680" y="4551480"/>
            <a:ext cx="20520" cy="111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499600" y="4591080"/>
            <a:ext cx="29880" cy="63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51720" y="4591080"/>
            <a:ext cx="28800" cy="63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02760" y="4591080"/>
            <a:ext cx="28440" cy="63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53440" y="4591080"/>
            <a:ext cx="28440" cy="63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1520" y="4594320"/>
            <a:ext cx="28440" cy="651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91520" y="4502160"/>
            <a:ext cx="30240" cy="651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354880" y="4503600"/>
            <a:ext cx="28800" cy="637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499600" y="4500720"/>
            <a:ext cx="29880" cy="63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134200" y="4573440"/>
            <a:ext cx="538200" cy="14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10800000">
            <a:off x="8254800" y="4559400"/>
            <a:ext cx="306360" cy="410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561520" y="4491000"/>
            <a:ext cx="34920" cy="270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0760" y="4464000"/>
            <a:ext cx="25200" cy="493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167680" y="4670280"/>
            <a:ext cx="111240" cy="223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607600" y="4538520"/>
            <a:ext cx="71280" cy="190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23120" y="4556160"/>
            <a:ext cx="46080" cy="540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24920" y="4603680"/>
            <a:ext cx="19080" cy="12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rot="10800000">
            <a:off x="8131680" y="4565160"/>
            <a:ext cx="226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10800000">
            <a:off x="8170920" y="4476600"/>
            <a:ext cx="17280" cy="367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0800000">
            <a:off x="8566200" y="4654080"/>
            <a:ext cx="61920" cy="507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032680" y="475128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60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9732960" y="1636200"/>
            <a:ext cx="0" cy="278316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9167760" y="4400640"/>
            <a:ext cx="590400" cy="388440"/>
            <a:chOff x="9167760" y="4400640"/>
            <a:chExt cx="590400" cy="388440"/>
          </a:xfrm>
        </p:grpSpPr>
        <p:sp>
          <p:nvSpPr>
            <p:cNvPr id="560" name=""/>
            <p:cNvSpPr/>
            <p:nvPr/>
          </p:nvSpPr>
          <p:spPr>
            <a:xfrm>
              <a:off x="9398520" y="4496760"/>
              <a:ext cx="60840" cy="73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551160" y="4494960"/>
              <a:ext cx="59760" cy="993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474480" y="4597560"/>
              <a:ext cx="59760" cy="64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368280" y="4759560"/>
              <a:ext cx="34200" cy="29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9254160" y="4417920"/>
              <a:ext cx="99000" cy="22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167760" y="4571640"/>
              <a:ext cx="142200" cy="1944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9211680" y="4660200"/>
              <a:ext cx="50040" cy="172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9359280" y="4568760"/>
              <a:ext cx="300600" cy="291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9313200" y="4557960"/>
              <a:ext cx="46800" cy="608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9312120" y="4613040"/>
              <a:ext cx="22680" cy="11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9306360" y="4467600"/>
              <a:ext cx="21600" cy="399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302400" y="4663080"/>
              <a:ext cx="50760" cy="176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380880" y="4466160"/>
              <a:ext cx="17280" cy="579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532440" y="4460400"/>
              <a:ext cx="19440" cy="619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456480" y="4637880"/>
              <a:ext cx="17640" cy="568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641520" y="4421160"/>
              <a:ext cx="21600" cy="813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9673920" y="4673160"/>
              <a:ext cx="84240" cy="234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9705240" y="4505760"/>
              <a:ext cx="48960" cy="101160"/>
            </a:xfrm>
            <a:custGeom>
              <a:avLst/>
              <a:gdLst>
                <a:gd name="textAreaLeft" fmla="*/ 2160 w 48960"/>
                <a:gd name="textAreaRight" fmla="*/ 46800 w 48960"/>
                <a:gd name="textAreaTop" fmla="*/ 2160 h 101160"/>
                <a:gd name="textAreaBottom" fmla="*/ 99000 h 101160"/>
              </a:gdLst>
              <a:ahLst/>
              <a:rect l="textAreaLeft" t="textAreaTop" r="textAreaRight" b="textAreaBottom"/>
              <a:pathLst>
                <a:path w="21600" h="44461">
                  <a:moveTo>
                    <a:pt x="3600" y="0"/>
                  </a:moveTo>
                  <a:arcTo wR="3600" hR="3600" stAng="16200000" swAng="-5400000"/>
                  <a:lnTo>
                    <a:pt x="0" y="40861"/>
                  </a:lnTo>
                  <a:arcTo wR="3600" hR="3600" stAng="10800000" swAng="-5400000"/>
                  <a:lnTo>
                    <a:pt x="18000" y="444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9676800" y="4559040"/>
              <a:ext cx="77760" cy="54000"/>
              <a:chOff x="9676800" y="4559040"/>
              <a:chExt cx="77760" cy="54000"/>
            </a:xfrm>
          </p:grpSpPr>
          <p:sp>
            <p:nvSpPr>
              <p:cNvPr id="579" name=""/>
              <p:cNvSpPr/>
              <p:nvPr/>
            </p:nvSpPr>
            <p:spPr>
              <a:xfrm>
                <a:off x="9676800" y="4559040"/>
                <a:ext cx="77760" cy="54000"/>
              </a:xfrm>
              <a:prstGeom prst="roundRect">
                <a:avLst>
                  <a:gd name="adj" fmla="val 16667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692280" y="4572000"/>
                <a:ext cx="48960" cy="27000"/>
              </a:xfrm>
              <a:prstGeom prst="roundRect">
                <a:avLst>
                  <a:gd name="adj" fmla="val 16667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9720000" y="4521600"/>
              <a:ext cx="21600" cy="57960"/>
            </a:xfrm>
            <a:custGeom>
              <a:avLst/>
              <a:gdLst>
                <a:gd name="textAreaLeft" fmla="*/ 720 w 21600"/>
                <a:gd name="textAreaRight" fmla="*/ 20880 w 21600"/>
                <a:gd name="textAreaTop" fmla="*/ 720 h 57960"/>
                <a:gd name="textAreaBottom" fmla="*/ 57240 h 57960"/>
              </a:gdLst>
              <a:ahLst/>
              <a:rect l="textAreaLeft" t="textAreaTop" r="textAreaRight" b="textAreaBottom"/>
              <a:pathLst>
                <a:path w="21600" h="57364">
                  <a:moveTo>
                    <a:pt x="3600" y="0"/>
                  </a:moveTo>
                  <a:arcTo wR="3600" hR="3600" stAng="16200000" swAng="-5400000"/>
                  <a:lnTo>
                    <a:pt x="0" y="53764"/>
                  </a:lnTo>
                  <a:arcTo wR="3600" hR="3600" stAng="10800000" swAng="-5400000"/>
                  <a:lnTo>
                    <a:pt x="18000" y="573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712440" y="4572720"/>
              <a:ext cx="28440" cy="183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707400" y="4543200"/>
              <a:ext cx="10440" cy="255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9743040" y="4543200"/>
              <a:ext cx="10440" cy="255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9725040" y="4400640"/>
              <a:ext cx="11520" cy="128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9646560" y="4579560"/>
              <a:ext cx="53640" cy="8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9072720" y="3618000"/>
            <a:ext cx="756720" cy="495000"/>
            <a:chOff x="9072720" y="3618000"/>
            <a:chExt cx="756720" cy="495000"/>
          </a:xfrm>
        </p:grpSpPr>
        <p:sp>
          <p:nvSpPr>
            <p:cNvPr id="588" name=""/>
            <p:cNvSpPr/>
            <p:nvPr/>
          </p:nvSpPr>
          <p:spPr>
            <a:xfrm>
              <a:off x="9699840" y="3774600"/>
              <a:ext cx="59040" cy="122760"/>
            </a:xfrm>
            <a:custGeom>
              <a:avLst/>
              <a:gdLst>
                <a:gd name="textAreaLeft" fmla="*/ 2880 w 59040"/>
                <a:gd name="textAreaRight" fmla="*/ 56160 w 59040"/>
                <a:gd name="textAreaTop" fmla="*/ 2880 h 122760"/>
                <a:gd name="textAreaBottom" fmla="*/ 119880 h 122760"/>
              </a:gdLst>
              <a:ahLst/>
              <a:rect l="textAreaLeft" t="textAreaTop" r="textAreaRight" b="textAreaBottom"/>
              <a:pathLst>
                <a:path w="21600" h="44771">
                  <a:moveTo>
                    <a:pt x="3600" y="0"/>
                  </a:moveTo>
                  <a:arcTo wR="3600" hR="3600" stAng="16200000" swAng="-5400000"/>
                  <a:lnTo>
                    <a:pt x="0" y="41171"/>
                  </a:lnTo>
                  <a:arcTo wR="3600" hR="3600" stAng="10800000" swAng="-5400000"/>
                  <a:lnTo>
                    <a:pt x="18000" y="4477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9664560" y="3839400"/>
              <a:ext cx="94320" cy="65880"/>
              <a:chOff x="9664560" y="3839400"/>
              <a:chExt cx="94320" cy="65880"/>
            </a:xfrm>
          </p:grpSpPr>
          <p:sp>
            <p:nvSpPr>
              <p:cNvPr id="590" name=""/>
              <p:cNvSpPr/>
              <p:nvPr/>
            </p:nvSpPr>
            <p:spPr>
              <a:xfrm>
                <a:off x="9664560" y="3839400"/>
                <a:ext cx="94320" cy="65880"/>
              </a:xfrm>
              <a:prstGeom prst="roundRect">
                <a:avLst>
                  <a:gd name="adj" fmla="val 16667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9683640" y="3855240"/>
                <a:ext cx="59400" cy="32760"/>
              </a:xfrm>
              <a:prstGeom prst="roundRect">
                <a:avLst>
                  <a:gd name="adj" fmla="val 16667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9716760" y="3794040"/>
              <a:ext cx="26280" cy="69840"/>
            </a:xfrm>
            <a:custGeom>
              <a:avLst/>
              <a:gdLst>
                <a:gd name="textAreaLeft" fmla="*/ 1080 w 26280"/>
                <a:gd name="textAreaRight" fmla="*/ 25200 w 26280"/>
                <a:gd name="textAreaTop" fmla="*/ 1080 h 69840"/>
                <a:gd name="textAreaBottom" fmla="*/ 68760 h 69840"/>
              </a:gdLst>
              <a:ahLst/>
              <a:rect l="textAreaLeft" t="textAreaTop" r="textAreaRight" b="textAreaBottom"/>
              <a:pathLst>
                <a:path w="21600" h="56919">
                  <a:moveTo>
                    <a:pt x="3600" y="0"/>
                  </a:moveTo>
                  <a:arcTo wR="3600" hR="3600" stAng="16200000" swAng="-5400000"/>
                  <a:lnTo>
                    <a:pt x="0" y="53319"/>
                  </a:lnTo>
                  <a:arcTo wR="3600" hR="3600" stAng="10800000" swAng="-5400000"/>
                  <a:lnTo>
                    <a:pt x="18000" y="569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707760" y="3856320"/>
              <a:ext cx="34560" cy="216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702000" y="3820680"/>
              <a:ext cx="13680" cy="3132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744480" y="3820680"/>
              <a:ext cx="13320" cy="3132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9339840" y="3766680"/>
              <a:ext cx="71640" cy="892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523800" y="3764520"/>
              <a:ext cx="72360" cy="118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430560" y="3887640"/>
              <a:ext cx="72360" cy="788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9217800" y="3749760"/>
              <a:ext cx="40320" cy="352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110880" y="3968640"/>
              <a:ext cx="119880" cy="280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072720" y="3857040"/>
              <a:ext cx="171720" cy="234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112680" y="3837600"/>
              <a:ext cx="59760" cy="216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291960" y="3854160"/>
              <a:ext cx="362880" cy="352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9234720" y="3845160"/>
              <a:ext cx="57960" cy="74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177480" y="3704400"/>
              <a:ext cx="226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234720" y="3907440"/>
              <a:ext cx="26280" cy="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279000" y="3938040"/>
              <a:ext cx="26280" cy="489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9187560" y="3836520"/>
              <a:ext cx="38160" cy="223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317520" y="3729240"/>
              <a:ext cx="22320" cy="705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9500400" y="3722040"/>
              <a:ext cx="23400" cy="74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409680" y="3936960"/>
              <a:ext cx="20520" cy="687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9639000" y="3866760"/>
              <a:ext cx="64800" cy="9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9722520" y="3618000"/>
              <a:ext cx="17640" cy="453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647640" y="3672000"/>
              <a:ext cx="25560" cy="1004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9247680" y="376812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713880" y="3918240"/>
              <a:ext cx="35280" cy="85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661680" y="3856320"/>
              <a:ext cx="29160" cy="28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645840" y="3944880"/>
              <a:ext cx="1836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9024840" y="404352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 70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19880" y="479736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 70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9283680" y="2957040"/>
            <a:ext cx="477360" cy="397080"/>
            <a:chOff x="9283680" y="2957040"/>
            <a:chExt cx="477360" cy="397080"/>
          </a:xfrm>
        </p:grpSpPr>
        <p:sp>
          <p:nvSpPr>
            <p:cNvPr id="622" name=""/>
            <p:cNvSpPr/>
            <p:nvPr/>
          </p:nvSpPr>
          <p:spPr>
            <a:xfrm>
              <a:off x="9683640" y="3088440"/>
              <a:ext cx="54720" cy="44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9724680" y="2959560"/>
              <a:ext cx="13680" cy="357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684000" y="2957040"/>
              <a:ext cx="12960" cy="136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9696600" y="3090960"/>
              <a:ext cx="28080" cy="2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0800000">
              <a:off x="9550080" y="3052440"/>
              <a:ext cx="27000" cy="16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0800000">
              <a:off x="9429480" y="3320640"/>
              <a:ext cx="272880" cy="33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0800000">
              <a:off x="9419760" y="3111120"/>
              <a:ext cx="144720" cy="149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10800000">
              <a:off x="9586800" y="3081960"/>
              <a:ext cx="29880" cy="27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10800000">
              <a:off x="9417240" y="3073320"/>
              <a:ext cx="176400" cy="37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0800000">
              <a:off x="9392040" y="3108240"/>
              <a:ext cx="12600" cy="7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0800000">
              <a:off x="9402480" y="3061080"/>
              <a:ext cx="198000" cy="59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10800000">
              <a:off x="9490680" y="3053520"/>
              <a:ext cx="11160" cy="108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3480" bIns="-334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0800000">
              <a:off x="9410760" y="3148200"/>
              <a:ext cx="11160" cy="108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3480" bIns="-334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480000">
              <a:off x="9523080" y="3161160"/>
              <a:ext cx="70200" cy="11304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10800000">
              <a:off x="9452160" y="3128760"/>
              <a:ext cx="66600" cy="62280"/>
            </a:xfrm>
            <a:prstGeom prst="parallelogram">
              <a:avLst>
                <a:gd name="adj" fmla="val 5410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10800000">
              <a:off x="9464760" y="3147840"/>
              <a:ext cx="10800" cy="10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4200" bIns="-342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10800000">
              <a:off x="9397440" y="3120840"/>
              <a:ext cx="13680" cy="86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9519120" y="3161520"/>
              <a:ext cx="4536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10800000">
              <a:off x="9482400" y="3079080"/>
              <a:ext cx="38520" cy="2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800000">
              <a:off x="9283680" y="3059640"/>
              <a:ext cx="81000" cy="23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0800000">
              <a:off x="9326160" y="3087360"/>
              <a:ext cx="434880" cy="126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10800000">
              <a:off x="9586440" y="3218040"/>
              <a:ext cx="63360" cy="72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9723240" y="3118320"/>
              <a:ext cx="12960" cy="140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10800000">
              <a:off x="9579960" y="3080160"/>
              <a:ext cx="73800" cy="28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9315360" y="2390760"/>
            <a:ext cx="441360" cy="398160"/>
            <a:chOff x="9315360" y="2390760"/>
            <a:chExt cx="441360" cy="398160"/>
          </a:xfrm>
        </p:grpSpPr>
        <p:sp>
          <p:nvSpPr>
            <p:cNvPr id="647" name=""/>
            <p:cNvSpPr/>
            <p:nvPr/>
          </p:nvSpPr>
          <p:spPr>
            <a:xfrm rot="10800000">
              <a:off x="9689040" y="2597040"/>
              <a:ext cx="49680" cy="43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0800000">
              <a:off x="9727920" y="2424240"/>
              <a:ext cx="13320" cy="3646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0800000">
              <a:off x="9688680" y="2634120"/>
              <a:ext cx="13320" cy="154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0800000">
              <a:off x="9702720" y="2610360"/>
              <a:ext cx="25920" cy="28080"/>
            </a:xfrm>
            <a:custGeom>
              <a:avLst/>
              <a:gdLst>
                <a:gd name="textAreaLeft" fmla="*/ 1080 w 25920"/>
                <a:gd name="textAreaRight" fmla="*/ 24840 w 25920"/>
                <a:gd name="textAreaTop" fmla="*/ 1080 h 28080"/>
                <a:gd name="textAreaBottom" fmla="*/ 27000 h 28080"/>
              </a:gdLst>
              <a:ahLst/>
              <a:rect l="textAreaLeft" t="textAreaTop" r="textAreaRight" b="textAreaBottom"/>
              <a:pathLst>
                <a:path w="21600" h="23375">
                  <a:moveTo>
                    <a:pt x="3600" y="0"/>
                  </a:moveTo>
                  <a:arcTo wR="3600" hR="3600" stAng="16200000" swAng="-5400000"/>
                  <a:lnTo>
                    <a:pt x="0" y="19775"/>
                  </a:lnTo>
                  <a:arcTo wR="3600" hR="3600" stAng="10800000" swAng="-5400000"/>
                  <a:lnTo>
                    <a:pt x="18000" y="2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10800000">
              <a:off x="9727200" y="2597760"/>
              <a:ext cx="9000" cy="126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9457920" y="2664360"/>
              <a:ext cx="27000" cy="16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334440" y="2390760"/>
              <a:ext cx="272520" cy="33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370800" y="2451600"/>
              <a:ext cx="63360" cy="72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9470520" y="2475360"/>
              <a:ext cx="144360" cy="147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9418680" y="2624760"/>
              <a:ext cx="29880" cy="266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9441360" y="2623320"/>
              <a:ext cx="176040" cy="36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630000" y="2618280"/>
              <a:ext cx="12600" cy="7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434880" y="2613600"/>
              <a:ext cx="197640" cy="58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533160" y="2669040"/>
              <a:ext cx="11160" cy="104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613440" y="2575440"/>
              <a:ext cx="10800" cy="104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11280000">
              <a:off x="9441360" y="2461320"/>
              <a:ext cx="70200" cy="11160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516240" y="2544120"/>
              <a:ext cx="66600" cy="61200"/>
            </a:xfrm>
            <a:prstGeom prst="parallelogram">
              <a:avLst>
                <a:gd name="adj" fmla="val 55056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559800" y="2576520"/>
              <a:ext cx="10800" cy="10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623880" y="2604600"/>
              <a:ext cx="13680" cy="86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9470160" y="2475000"/>
              <a:ext cx="4572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9514440" y="2628000"/>
              <a:ext cx="38520" cy="2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9315360" y="2650320"/>
              <a:ext cx="81000" cy="23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353160" y="2633400"/>
              <a:ext cx="403560" cy="12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576360" y="2627640"/>
              <a:ext cx="69480" cy="252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8626320" y="249228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80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6998760" y="1636560"/>
            <a:ext cx="235908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9119880" y="205740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90-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8820000" y="1628640"/>
            <a:ext cx="316080" cy="478080"/>
            <a:chOff x="8820000" y="1628640"/>
            <a:chExt cx="316080" cy="478080"/>
          </a:xfrm>
        </p:grpSpPr>
        <p:sp>
          <p:nvSpPr>
            <p:cNvPr id="675" name=""/>
            <p:cNvSpPr/>
            <p:nvPr/>
          </p:nvSpPr>
          <p:spPr>
            <a:xfrm rot="16200000">
              <a:off x="8997840" y="2071800"/>
              <a:ext cx="8280" cy="30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200000">
              <a:off x="8993160" y="2053080"/>
              <a:ext cx="65520" cy="20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8880120" y="2037240"/>
              <a:ext cx="56520" cy="57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8836200" y="1825920"/>
              <a:ext cx="212400" cy="149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6200000">
              <a:off x="8983080" y="1828800"/>
              <a:ext cx="77760" cy="86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6200000">
              <a:off x="8965080" y="1890000"/>
              <a:ext cx="47520" cy="2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8977680" y="1752120"/>
              <a:ext cx="23040" cy="317880"/>
              <a:chOff x="8977680" y="1752120"/>
              <a:chExt cx="23040" cy="317880"/>
            </a:xfrm>
          </p:grpSpPr>
          <p:sp>
            <p:nvSpPr>
              <p:cNvPr id="682" name=""/>
              <p:cNvSpPr/>
              <p:nvPr/>
            </p:nvSpPr>
            <p:spPr>
              <a:xfrm rot="16200000">
                <a:off x="8982360" y="2052720"/>
                <a:ext cx="12600" cy="219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6200000">
                <a:off x="8979480" y="2063160"/>
                <a:ext cx="1080" cy="14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6200000">
                <a:off x="8996040" y="2063160"/>
                <a:ext cx="1080" cy="14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16200000">
                <a:off x="8983080" y="1747080"/>
                <a:ext cx="12600" cy="223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16200000">
                <a:off x="8980920" y="1757520"/>
                <a:ext cx="1080" cy="18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6200000">
                <a:off x="8997120" y="1757520"/>
                <a:ext cx="1080" cy="14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 rot="16200000">
              <a:off x="8961120" y="1698480"/>
              <a:ext cx="54720" cy="48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6200000">
              <a:off x="9019440" y="1963080"/>
              <a:ext cx="37800" cy="27720"/>
            </a:xfrm>
            <a:custGeom>
              <a:avLst/>
              <a:gdLst/>
              <a:ahLst/>
              <a:rect l="l" t="t" r="r" b="b"/>
              <a:pathLst>
                <a:path w="299" h="220">
                  <a:moveTo>
                    <a:pt x="0" y="5"/>
                  </a:moveTo>
                  <a:lnTo>
                    <a:pt x="0" y="219"/>
                  </a:lnTo>
                  <a:lnTo>
                    <a:pt x="298" y="219"/>
                  </a:lnTo>
                  <a:lnTo>
                    <a:pt x="292" y="127"/>
                  </a:lnTo>
                  <a:lnTo>
                    <a:pt x="78" y="127"/>
                  </a:lnTo>
                  <a:lnTo>
                    <a:pt x="78" y="0"/>
                  </a:lnTo>
                  <a:lnTo>
                    <a:pt x="0" y="5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16200000">
              <a:off x="8983440" y="1964160"/>
              <a:ext cx="77040" cy="86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16200000">
              <a:off x="9035280" y="1932120"/>
              <a:ext cx="23760" cy="30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16200000">
              <a:off x="8890200" y="1734840"/>
              <a:ext cx="21600" cy="138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16200000">
              <a:off x="9009360" y="1718280"/>
              <a:ext cx="9720" cy="9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4560" bIns="-345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16200000">
              <a:off x="9014760" y="1914120"/>
              <a:ext cx="9720" cy="9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4560" bIns="-345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16200000">
              <a:off x="9069480" y="1702080"/>
              <a:ext cx="89640" cy="20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16200000">
              <a:off x="8971200" y="1479600"/>
              <a:ext cx="13680" cy="316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6200000">
              <a:off x="8963280" y="1627200"/>
              <a:ext cx="53280" cy="78480"/>
            </a:xfrm>
            <a:custGeom>
              <a:avLst/>
              <a:gdLst>
                <a:gd name="textAreaLeft" fmla="*/ 2520 w 53280"/>
                <a:gd name="textAreaRight" fmla="*/ 50760 w 53280"/>
                <a:gd name="textAreaTop" fmla="*/ 2520 h 78480"/>
                <a:gd name="textAreaBottom" fmla="*/ 75960 h 78480"/>
              </a:gdLst>
              <a:ahLst/>
              <a:rect l="textAreaLeft" t="textAreaTop" r="textAreaRight" b="textAreaBottom"/>
              <a:pathLst>
                <a:path w="21600" h="31748">
                  <a:moveTo>
                    <a:pt x="3600" y="0"/>
                  </a:moveTo>
                  <a:arcTo wR="3600" hR="3600" stAng="16200000" swAng="-5400000"/>
                  <a:lnTo>
                    <a:pt x="0" y="28148"/>
                  </a:lnTo>
                  <a:arcTo wR="3600" hR="3600" stAng="10800000" swAng="-5400000"/>
                  <a:lnTo>
                    <a:pt x="18000" y="317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16200000">
              <a:off x="8972280" y="1637280"/>
              <a:ext cx="32760" cy="48600"/>
            </a:xfrm>
            <a:custGeom>
              <a:avLst/>
              <a:gdLst>
                <a:gd name="textAreaLeft" fmla="*/ 1440 w 32760"/>
                <a:gd name="textAreaRight" fmla="*/ 31320 w 32760"/>
                <a:gd name="textAreaTop" fmla="*/ 1440 h 48600"/>
                <a:gd name="textAreaBottom" fmla="*/ 47160 h 48600"/>
              </a:gdLst>
              <a:ahLst/>
              <a:rect l="textAreaLeft" t="textAreaTop" r="textAreaRight" b="textAreaBottom"/>
              <a:pathLst>
                <a:path w="21600" h="31930">
                  <a:moveTo>
                    <a:pt x="3600" y="0"/>
                  </a:moveTo>
                  <a:arcTo wR="3600" hR="3600" stAng="16200000" swAng="-5400000"/>
                  <a:lnTo>
                    <a:pt x="0" y="28330"/>
                  </a:lnTo>
                  <a:arcTo wR="3600" hR="3600" stAng="10800000" swAng="-5400000"/>
                  <a:lnTo>
                    <a:pt x="18000" y="319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16200000">
              <a:off x="8987040" y="1583280"/>
              <a:ext cx="11880" cy="109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8957520" y="1648440"/>
              <a:ext cx="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9021600" y="165348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6200000">
              <a:off x="8749080" y="1863000"/>
              <a:ext cx="478080" cy="9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6200000">
              <a:off x="8960760" y="1827720"/>
              <a:ext cx="55800" cy="23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8648640" y="219384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90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8372520" y="1631880"/>
            <a:ext cx="315720" cy="478080"/>
            <a:chOff x="8372520" y="1631880"/>
            <a:chExt cx="315720" cy="478080"/>
          </a:xfrm>
        </p:grpSpPr>
        <p:sp>
          <p:nvSpPr>
            <p:cNvPr id="706" name=""/>
            <p:cNvSpPr/>
            <p:nvPr/>
          </p:nvSpPr>
          <p:spPr>
            <a:xfrm rot="16200000">
              <a:off x="8549280" y="2074680"/>
              <a:ext cx="8640" cy="30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6200000">
              <a:off x="8547840" y="2058480"/>
              <a:ext cx="61920" cy="194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6200000">
              <a:off x="8432640" y="2040120"/>
              <a:ext cx="55800" cy="568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6200000">
              <a:off x="8388720" y="1829160"/>
              <a:ext cx="212040" cy="1501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16200000">
              <a:off x="8535240" y="1832400"/>
              <a:ext cx="78480" cy="86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16200000">
              <a:off x="8517960" y="1893600"/>
              <a:ext cx="47160" cy="2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"/>
            <p:cNvGrpSpPr/>
            <p:nvPr/>
          </p:nvGrpSpPr>
          <p:grpSpPr>
            <a:xfrm>
              <a:off x="8529840" y="1755000"/>
              <a:ext cx="22320" cy="317160"/>
              <a:chOff x="8529840" y="1755000"/>
              <a:chExt cx="22320" cy="317160"/>
            </a:xfrm>
          </p:grpSpPr>
          <p:sp>
            <p:nvSpPr>
              <p:cNvPr id="713" name=""/>
              <p:cNvSpPr/>
              <p:nvPr/>
            </p:nvSpPr>
            <p:spPr>
              <a:xfrm rot="16200000">
                <a:off x="8534160" y="2055240"/>
                <a:ext cx="12600" cy="212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16200000">
                <a:off x="8531640" y="2065320"/>
                <a:ext cx="1080" cy="14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16200000">
                <a:off x="8547840" y="2065320"/>
                <a:ext cx="1080" cy="14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6200000">
                <a:off x="8534880" y="1750320"/>
                <a:ext cx="12600" cy="216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16200000">
                <a:off x="8532720" y="1760400"/>
                <a:ext cx="1080" cy="14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16200000">
                <a:off x="8548920" y="1760400"/>
                <a:ext cx="1080" cy="14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 rot="16200000">
              <a:off x="8571600" y="1965960"/>
              <a:ext cx="38160" cy="27360"/>
            </a:xfrm>
            <a:custGeom>
              <a:avLst/>
              <a:gdLst/>
              <a:ahLst/>
              <a:rect l="l" t="t" r="r" b="b"/>
              <a:pathLst>
                <a:path w="299" h="220">
                  <a:moveTo>
                    <a:pt x="0" y="5"/>
                  </a:moveTo>
                  <a:lnTo>
                    <a:pt x="0" y="219"/>
                  </a:lnTo>
                  <a:lnTo>
                    <a:pt x="298" y="219"/>
                  </a:lnTo>
                  <a:lnTo>
                    <a:pt x="292" y="127"/>
                  </a:lnTo>
                  <a:lnTo>
                    <a:pt x="78" y="127"/>
                  </a:lnTo>
                  <a:lnTo>
                    <a:pt x="78" y="0"/>
                  </a:lnTo>
                  <a:lnTo>
                    <a:pt x="0" y="5"/>
                  </a:lnTo>
                </a:path>
              </a:pathLst>
            </a:custGeom>
            <a:solidFill>
              <a:srgbClr val="00cc99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16200000">
              <a:off x="8536320" y="1968120"/>
              <a:ext cx="76320" cy="86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16200000">
              <a:off x="8587800" y="1935720"/>
              <a:ext cx="23400" cy="313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16200000">
              <a:off x="8567280" y="1918080"/>
              <a:ext cx="9720" cy="9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4560" bIns="-345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16200000">
              <a:off x="8350560" y="1855440"/>
              <a:ext cx="119520" cy="234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16200000">
              <a:off x="8513280" y="1702440"/>
              <a:ext cx="54720" cy="489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16200000">
              <a:off x="8561880" y="1721160"/>
              <a:ext cx="9720" cy="104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3840" bIns="-3384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16200000">
              <a:off x="8620920" y="1705320"/>
              <a:ext cx="90360" cy="20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16200000">
              <a:off x="8523000" y="1481760"/>
              <a:ext cx="14400" cy="31572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16200000">
              <a:off x="8515440" y="1631520"/>
              <a:ext cx="52920" cy="77760"/>
            </a:xfrm>
            <a:custGeom>
              <a:avLst/>
              <a:gdLst>
                <a:gd name="textAreaLeft" fmla="*/ 2520 w 52920"/>
                <a:gd name="textAreaRight" fmla="*/ 50400 w 52920"/>
                <a:gd name="textAreaTop" fmla="*/ 2520 h 77760"/>
                <a:gd name="textAreaBottom" fmla="*/ 75240 h 77760"/>
              </a:gdLst>
              <a:ahLst/>
              <a:rect l="textAreaLeft" t="textAreaTop" r="textAreaRight" b="textAreaBottom"/>
              <a:pathLst>
                <a:path w="21600" h="31670">
                  <a:moveTo>
                    <a:pt x="3600" y="0"/>
                  </a:moveTo>
                  <a:arcTo wR="3600" hR="3600" stAng="16200000" swAng="-5400000"/>
                  <a:lnTo>
                    <a:pt x="0" y="28070"/>
                  </a:lnTo>
                  <a:arcTo wR="3600" hR="3600" stAng="10800000" swAng="-5400000"/>
                  <a:lnTo>
                    <a:pt x="18000" y="316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16200000">
              <a:off x="8524800" y="1640160"/>
              <a:ext cx="32040" cy="47880"/>
            </a:xfrm>
            <a:custGeom>
              <a:avLst/>
              <a:gdLst>
                <a:gd name="textAreaLeft" fmla="*/ 1440 w 32040"/>
                <a:gd name="textAreaRight" fmla="*/ 30600 w 32040"/>
                <a:gd name="textAreaTop" fmla="*/ 1440 h 47880"/>
                <a:gd name="textAreaBottom" fmla="*/ 46440 h 47880"/>
              </a:gdLst>
              <a:ahLst/>
              <a:rect l="textAreaLeft" t="textAreaTop" r="textAreaRight" b="textAreaBottom"/>
              <a:pathLst>
                <a:path w="21600" h="32160">
                  <a:moveTo>
                    <a:pt x="3600" y="0"/>
                  </a:moveTo>
                  <a:arcTo wR="3600" hR="3600" stAng="16200000" swAng="-5400000"/>
                  <a:lnTo>
                    <a:pt x="0" y="28560"/>
                  </a:lnTo>
                  <a:arcTo wR="3600" hR="3600" stAng="10800000" swAng="-5400000"/>
                  <a:lnTo>
                    <a:pt x="18000" y="32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8510040" y="165132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574120" y="1656360"/>
              <a:ext cx="0" cy="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8597520" y="164160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8412480" y="164160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16200000">
              <a:off x="8301960" y="1866600"/>
              <a:ext cx="478080" cy="8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6200000">
              <a:off x="8512920" y="1830240"/>
              <a:ext cx="55800" cy="2448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8175600" y="205740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90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7922880" y="1631880"/>
            <a:ext cx="330120" cy="449280"/>
            <a:chOff x="7922880" y="1631880"/>
            <a:chExt cx="330120" cy="449280"/>
          </a:xfrm>
        </p:grpSpPr>
        <p:sp>
          <p:nvSpPr>
            <p:cNvPr id="738" name=""/>
            <p:cNvSpPr/>
            <p:nvPr/>
          </p:nvSpPr>
          <p:spPr>
            <a:xfrm rot="5400000">
              <a:off x="8027280" y="1741320"/>
              <a:ext cx="21960" cy="16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5400000">
              <a:off x="8028000" y="1952640"/>
              <a:ext cx="21960" cy="16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5400000">
              <a:off x="7919280" y="1830600"/>
              <a:ext cx="173880" cy="496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5400000">
              <a:off x="7935480" y="1835640"/>
              <a:ext cx="149400" cy="399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5400000">
              <a:off x="8012160" y="1772640"/>
              <a:ext cx="200520" cy="167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0800000">
              <a:off x="8116560" y="2062440"/>
              <a:ext cx="131040" cy="18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5400000">
              <a:off x="8143200" y="1703520"/>
              <a:ext cx="38880" cy="46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5400000">
              <a:off x="8028000" y="1924200"/>
              <a:ext cx="54720" cy="10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8028000" y="190188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5400000">
              <a:off x="8087760" y="1953000"/>
              <a:ext cx="8640" cy="15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5400000">
              <a:off x="8026920" y="1779120"/>
              <a:ext cx="55800" cy="9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8028360" y="1812240"/>
              <a:ext cx="2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5400000">
              <a:off x="8056440" y="1844280"/>
              <a:ext cx="37440" cy="25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5400000">
              <a:off x="8122320" y="1736280"/>
              <a:ext cx="27720" cy="86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5400000">
              <a:off x="8056440" y="1835640"/>
              <a:ext cx="116280" cy="43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5400000">
              <a:off x="8149320" y="1883880"/>
              <a:ext cx="19800" cy="43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055000" y="1812240"/>
              <a:ext cx="0" cy="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8028720" y="185580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5400000">
              <a:off x="8013600" y="2022120"/>
              <a:ext cx="69480" cy="19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5400000">
              <a:off x="8080560" y="1474200"/>
              <a:ext cx="14760" cy="330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5400000">
              <a:off x="8079480" y="1514160"/>
              <a:ext cx="15120" cy="327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8065440" y="1975680"/>
              <a:ext cx="25200" cy="15120"/>
              <a:chOff x="8065440" y="1975680"/>
              <a:chExt cx="25200" cy="15120"/>
            </a:xfrm>
          </p:grpSpPr>
          <p:sp>
            <p:nvSpPr>
              <p:cNvPr id="760" name=""/>
              <p:cNvSpPr/>
              <p:nvPr/>
            </p:nvSpPr>
            <p:spPr>
              <a:xfrm rot="5400000">
                <a:off x="8070480" y="1970640"/>
                <a:ext cx="15120" cy="25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5400000">
                <a:off x="8085960" y="1981080"/>
                <a:ext cx="396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5400000">
                <a:off x="8065440" y="1981080"/>
                <a:ext cx="396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8064000" y="1650240"/>
              <a:ext cx="25200" cy="14760"/>
              <a:chOff x="8064000" y="1650240"/>
              <a:chExt cx="25200" cy="14760"/>
            </a:xfrm>
          </p:grpSpPr>
          <p:sp>
            <p:nvSpPr>
              <p:cNvPr id="764" name=""/>
              <p:cNvSpPr/>
              <p:nvPr/>
            </p:nvSpPr>
            <p:spPr>
              <a:xfrm rot="5400000">
                <a:off x="8069040" y="1644840"/>
                <a:ext cx="14760" cy="25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5400000">
                <a:off x="8084520" y="1655640"/>
                <a:ext cx="396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5400000">
                <a:off x="8064000" y="1655640"/>
                <a:ext cx="396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" name=""/>
            <p:cNvSpPr/>
            <p:nvPr/>
          </p:nvSpPr>
          <p:spPr>
            <a:xfrm rot="5400000">
              <a:off x="8015400" y="1931400"/>
              <a:ext cx="28800" cy="2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5400000">
              <a:off x="8021520" y="1888560"/>
              <a:ext cx="6840" cy="6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5400000">
              <a:off x="8174880" y="1935360"/>
              <a:ext cx="8640" cy="33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5400000">
              <a:off x="7990920" y="1680840"/>
              <a:ext cx="13680" cy="14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5400000">
              <a:off x="8050680" y="1668600"/>
              <a:ext cx="50040" cy="66960"/>
            </a:xfrm>
            <a:prstGeom prst="flowChartAlternateProcess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5400000">
              <a:off x="8059680" y="1677960"/>
              <a:ext cx="30960" cy="48240"/>
            </a:xfrm>
            <a:custGeom>
              <a:avLst/>
              <a:gdLst>
                <a:gd name="textAreaLeft" fmla="*/ 1440 w 30960"/>
                <a:gd name="textAreaRight" fmla="*/ 29520 w 30960"/>
                <a:gd name="textAreaTop" fmla="*/ 1440 h 48240"/>
                <a:gd name="textAreaBottom" fmla="*/ 46800 h 48240"/>
              </a:gdLst>
              <a:ahLst/>
              <a:rect l="textAreaLeft" t="textAreaTop" r="textAreaRight" b="textAreaBottom"/>
              <a:pathLst>
                <a:path w="21600" h="33517">
                  <a:moveTo>
                    <a:pt x="3600" y="0"/>
                  </a:moveTo>
                  <a:arcTo wR="3600" hR="3600" stAng="16200000" swAng="-5400000"/>
                  <a:lnTo>
                    <a:pt x="0" y="29917"/>
                  </a:lnTo>
                  <a:arcTo wR="3600" hR="3600" stAng="10800000" swAng="-5400000"/>
                  <a:lnTo>
                    <a:pt x="18000" y="335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5400000">
              <a:off x="8063280" y="1706040"/>
              <a:ext cx="30960" cy="3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5400000">
              <a:off x="8067960" y="1629000"/>
              <a:ext cx="10440" cy="99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5400000">
              <a:off x="7892640" y="1820160"/>
              <a:ext cx="369000" cy="9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5400000">
              <a:off x="8044200" y="1770480"/>
              <a:ext cx="66600" cy="19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8103960" y="16920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6720" y="1690920"/>
              <a:ext cx="0" cy="2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 flipH="1">
            <a:off x="5423040" y="1636560"/>
            <a:ext cx="61272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699320" y="217980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00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83160" y="205740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00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569360" y="2060640"/>
            <a:ext cx="0" cy="66024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7404120" y="1623600"/>
            <a:ext cx="315720" cy="469800"/>
            <a:chOff x="7404120" y="1623600"/>
            <a:chExt cx="315720" cy="469800"/>
          </a:xfrm>
        </p:grpSpPr>
        <p:sp>
          <p:nvSpPr>
            <p:cNvPr id="784" name=""/>
            <p:cNvSpPr/>
            <p:nvPr/>
          </p:nvSpPr>
          <p:spPr>
            <a:xfrm rot="16200000">
              <a:off x="7562160" y="1846440"/>
              <a:ext cx="162360" cy="493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6200000">
              <a:off x="7604640" y="1965240"/>
              <a:ext cx="20520" cy="16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6200000">
              <a:off x="7603560" y="1760400"/>
              <a:ext cx="20160" cy="16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6200000">
              <a:off x="7447320" y="1786680"/>
              <a:ext cx="187560" cy="166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6200000">
              <a:off x="7331040" y="1860120"/>
              <a:ext cx="204840" cy="18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6200000">
              <a:off x="7473240" y="1968480"/>
              <a:ext cx="36000" cy="46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6200000">
              <a:off x="7572600" y="1796400"/>
              <a:ext cx="50760" cy="10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598880" y="182736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6200000">
              <a:off x="7562880" y="1762920"/>
              <a:ext cx="7920" cy="15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6200000">
              <a:off x="7571520" y="1932840"/>
              <a:ext cx="51840" cy="9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593840" y="1911600"/>
              <a:ext cx="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6200000">
              <a:off x="7560000" y="1856880"/>
              <a:ext cx="34920" cy="25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6200000">
              <a:off x="7501680" y="1895760"/>
              <a:ext cx="31320" cy="86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6200000">
              <a:off x="7484400" y="1846800"/>
              <a:ext cx="108720" cy="43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6200000">
              <a:off x="7485480" y="1801800"/>
              <a:ext cx="18360" cy="43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7598160" y="1827720"/>
              <a:ext cx="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598520" y="187056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6200000">
              <a:off x="7569000" y="2050920"/>
              <a:ext cx="64800" cy="19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" name=""/>
            <p:cNvGrpSpPr/>
            <p:nvPr/>
          </p:nvGrpSpPr>
          <p:grpSpPr>
            <a:xfrm>
              <a:off x="7565040" y="1982160"/>
              <a:ext cx="25200" cy="13680"/>
              <a:chOff x="7565040" y="1982160"/>
              <a:chExt cx="25200" cy="13680"/>
            </a:xfrm>
          </p:grpSpPr>
          <p:sp>
            <p:nvSpPr>
              <p:cNvPr id="803" name=""/>
              <p:cNvSpPr/>
              <p:nvPr/>
            </p:nvSpPr>
            <p:spPr>
              <a:xfrm rot="16200000">
                <a:off x="7570800" y="1976400"/>
                <a:ext cx="13680" cy="25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16200000">
                <a:off x="7565760" y="1987920"/>
                <a:ext cx="324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16200000">
                <a:off x="7586280" y="1987920"/>
                <a:ext cx="324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7563600" y="1653480"/>
              <a:ext cx="25200" cy="13680"/>
              <a:chOff x="7563600" y="1653480"/>
              <a:chExt cx="25200" cy="13680"/>
            </a:xfrm>
          </p:grpSpPr>
          <p:sp>
            <p:nvSpPr>
              <p:cNvPr id="807" name=""/>
              <p:cNvSpPr/>
              <p:nvPr/>
            </p:nvSpPr>
            <p:spPr>
              <a:xfrm rot="16200000">
                <a:off x="7569360" y="1647720"/>
                <a:ext cx="13680" cy="25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6200000">
                <a:off x="7564320" y="1659240"/>
                <a:ext cx="360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6200000">
                <a:off x="7584840" y="1659240"/>
                <a:ext cx="360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 rot="16200000">
              <a:off x="7495920" y="1941480"/>
              <a:ext cx="161640" cy="12600"/>
            </a:xfrm>
            <a:custGeom>
              <a:avLst/>
              <a:gdLst/>
              <a:ahLst/>
              <a:rect l="l" t="t" r="r" b="b"/>
              <a:pathLst>
                <a:path w="1273" h="101">
                  <a:moveTo>
                    <a:pt x="1272" y="0"/>
                  </a:moveTo>
                  <a:lnTo>
                    <a:pt x="50" y="0"/>
                  </a:lnTo>
                  <a:lnTo>
                    <a:pt x="80" y="41"/>
                  </a:lnTo>
                  <a:lnTo>
                    <a:pt x="12" y="90"/>
                  </a:lnTo>
                  <a:lnTo>
                    <a:pt x="0" y="100"/>
                  </a:lnTo>
                  <a:lnTo>
                    <a:pt x="1200" y="100"/>
                  </a:lnTo>
                  <a:lnTo>
                    <a:pt x="1272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6200000">
              <a:off x="7555680" y="1483200"/>
              <a:ext cx="12240" cy="315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6200000">
              <a:off x="7555320" y="1524960"/>
              <a:ext cx="13680" cy="315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7564320" y="2062800"/>
              <a:ext cx="25200" cy="13680"/>
              <a:chOff x="7564320" y="2062800"/>
              <a:chExt cx="25200" cy="13680"/>
            </a:xfrm>
          </p:grpSpPr>
          <p:sp>
            <p:nvSpPr>
              <p:cNvPr id="814" name=""/>
              <p:cNvSpPr/>
              <p:nvPr/>
            </p:nvSpPr>
            <p:spPr>
              <a:xfrm rot="16200000">
                <a:off x="7570080" y="2057040"/>
                <a:ext cx="13680" cy="25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6200000">
                <a:off x="7565040" y="2068560"/>
                <a:ext cx="324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16200000">
                <a:off x="7585560" y="2068560"/>
                <a:ext cx="324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 rot="16200000">
              <a:off x="7548120" y="2052000"/>
              <a:ext cx="57240" cy="12600"/>
            </a:xfrm>
            <a:custGeom>
              <a:avLst/>
              <a:gdLst/>
              <a:ahLst/>
              <a:rect l="l" t="t" r="r" b="b"/>
              <a:pathLst>
                <a:path w="452" h="101">
                  <a:moveTo>
                    <a:pt x="430" y="0"/>
                  </a:moveTo>
                  <a:lnTo>
                    <a:pt x="451" y="39"/>
                  </a:lnTo>
                  <a:lnTo>
                    <a:pt x="448" y="41"/>
                  </a:lnTo>
                  <a:lnTo>
                    <a:pt x="361" y="100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43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6200000">
              <a:off x="7697520" y="1688760"/>
              <a:ext cx="8280" cy="8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16200000">
              <a:off x="7625160" y="1839240"/>
              <a:ext cx="7560" cy="6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200000">
              <a:off x="7472160" y="1762920"/>
              <a:ext cx="9720" cy="37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6200000">
              <a:off x="7547040" y="1672200"/>
              <a:ext cx="53280" cy="78120"/>
            </a:xfrm>
            <a:custGeom>
              <a:avLst/>
              <a:gdLst>
                <a:gd name="textAreaLeft" fmla="*/ 2520 w 53280"/>
                <a:gd name="textAreaRight" fmla="*/ 50760 w 53280"/>
                <a:gd name="textAreaTop" fmla="*/ 2520 h 78120"/>
                <a:gd name="textAreaBottom" fmla="*/ 75600 h 78120"/>
              </a:gdLst>
              <a:ahLst/>
              <a:rect l="textAreaLeft" t="textAreaTop" r="textAreaRight" b="textAreaBottom"/>
              <a:pathLst>
                <a:path w="21600" h="31603">
                  <a:moveTo>
                    <a:pt x="3600" y="0"/>
                  </a:moveTo>
                  <a:arcTo wR="3600" hR="3600" stAng="16200000" swAng="-5400000"/>
                  <a:lnTo>
                    <a:pt x="0" y="28003"/>
                  </a:lnTo>
                  <a:arcTo wR="3600" hR="3600" stAng="10800000" swAng="-5400000"/>
                  <a:lnTo>
                    <a:pt x="18000" y="316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6200000">
              <a:off x="7556400" y="1682280"/>
              <a:ext cx="32760" cy="48600"/>
            </a:xfrm>
            <a:custGeom>
              <a:avLst/>
              <a:gdLst>
                <a:gd name="textAreaLeft" fmla="*/ 1440 w 32760"/>
                <a:gd name="textAreaRight" fmla="*/ 31320 w 32760"/>
                <a:gd name="textAreaTop" fmla="*/ 1440 h 48600"/>
                <a:gd name="textAreaBottom" fmla="*/ 47160 h 48600"/>
              </a:gdLst>
              <a:ahLst/>
              <a:rect l="textAreaLeft" t="textAreaTop" r="textAreaRight" b="textAreaBottom"/>
              <a:pathLst>
                <a:path w="21600" h="31930">
                  <a:moveTo>
                    <a:pt x="3600" y="0"/>
                  </a:moveTo>
                  <a:arcTo wR="3600" hR="3600" stAng="16200000" swAng="-5400000"/>
                  <a:lnTo>
                    <a:pt x="0" y="28330"/>
                  </a:lnTo>
                  <a:arcTo wR="3600" hR="3600" stAng="10800000" swAng="-5400000"/>
                  <a:lnTo>
                    <a:pt x="18000" y="319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16200000">
              <a:off x="7570800" y="1627920"/>
              <a:ext cx="11880" cy="108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16200000">
              <a:off x="7441200" y="1752840"/>
              <a:ext cx="270720" cy="12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6200000">
              <a:off x="7546320" y="1898280"/>
              <a:ext cx="61920" cy="19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16200000">
              <a:off x="7556760" y="1715760"/>
              <a:ext cx="36000" cy="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16200000">
              <a:off x="7549200" y="1726920"/>
              <a:ext cx="23400" cy="9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6200000">
              <a:off x="7576920" y="1727280"/>
              <a:ext cx="23400" cy="8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7541640" y="1693440"/>
              <a:ext cx="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605720" y="169812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7396200" y="2438280"/>
            <a:ext cx="315720" cy="470160"/>
            <a:chOff x="7396200" y="2438280"/>
            <a:chExt cx="315720" cy="470160"/>
          </a:xfrm>
        </p:grpSpPr>
        <p:sp>
          <p:nvSpPr>
            <p:cNvPr id="832" name=""/>
            <p:cNvSpPr/>
            <p:nvPr/>
          </p:nvSpPr>
          <p:spPr>
            <a:xfrm rot="16200000">
              <a:off x="7553880" y="2661120"/>
              <a:ext cx="162720" cy="493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6200000">
              <a:off x="7596720" y="2780280"/>
              <a:ext cx="20520" cy="16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rot="16200000">
              <a:off x="7595640" y="2575080"/>
              <a:ext cx="20160" cy="16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rot="16200000">
              <a:off x="7439400" y="2601360"/>
              <a:ext cx="187560" cy="166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16200000">
              <a:off x="7323120" y="2675160"/>
              <a:ext cx="205200" cy="18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6200000">
              <a:off x="7464960" y="2783160"/>
              <a:ext cx="36360" cy="46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16200000">
              <a:off x="7564320" y="2610720"/>
              <a:ext cx="51120" cy="10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590960" y="264204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16200000">
              <a:off x="7554600" y="2577960"/>
              <a:ext cx="7920" cy="15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6200000">
              <a:off x="7563600" y="2747520"/>
              <a:ext cx="51840" cy="9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585920" y="2726280"/>
              <a:ext cx="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16200000">
              <a:off x="7552080" y="2671560"/>
              <a:ext cx="34920" cy="25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6200000">
              <a:off x="7493760" y="2710440"/>
              <a:ext cx="31320" cy="86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16200000">
              <a:off x="7476480" y="2661480"/>
              <a:ext cx="108720" cy="43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16200000">
              <a:off x="7477560" y="2616480"/>
              <a:ext cx="18360" cy="43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7590240" y="2642400"/>
              <a:ext cx="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590600" y="268560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16200000">
              <a:off x="7561080" y="2865960"/>
              <a:ext cx="64800" cy="19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7557120" y="2797200"/>
              <a:ext cx="25200" cy="13680"/>
              <a:chOff x="7557120" y="2797200"/>
              <a:chExt cx="25200" cy="13680"/>
            </a:xfrm>
          </p:grpSpPr>
          <p:sp>
            <p:nvSpPr>
              <p:cNvPr id="851" name=""/>
              <p:cNvSpPr/>
              <p:nvPr/>
            </p:nvSpPr>
            <p:spPr>
              <a:xfrm rot="16200000">
                <a:off x="7562880" y="2791440"/>
                <a:ext cx="13680" cy="25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6200000">
                <a:off x="7557840" y="2802960"/>
                <a:ext cx="324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6200000">
                <a:off x="7578360" y="2802960"/>
                <a:ext cx="324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7555320" y="2468160"/>
              <a:ext cx="25200" cy="13680"/>
              <a:chOff x="7555320" y="2468160"/>
              <a:chExt cx="25200" cy="13680"/>
            </a:xfrm>
          </p:grpSpPr>
          <p:sp>
            <p:nvSpPr>
              <p:cNvPr id="855" name=""/>
              <p:cNvSpPr/>
              <p:nvPr/>
            </p:nvSpPr>
            <p:spPr>
              <a:xfrm rot="16200000">
                <a:off x="7561080" y="2462400"/>
                <a:ext cx="13680" cy="25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200000">
                <a:off x="7556040" y="2473920"/>
                <a:ext cx="360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7576560" y="2473920"/>
                <a:ext cx="360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 rot="16200000">
              <a:off x="7488000" y="2756520"/>
              <a:ext cx="161640" cy="12600"/>
            </a:xfrm>
            <a:custGeom>
              <a:avLst/>
              <a:gdLst/>
              <a:ahLst/>
              <a:rect l="l" t="t" r="r" b="b"/>
              <a:pathLst>
                <a:path w="1273" h="101">
                  <a:moveTo>
                    <a:pt x="1272" y="0"/>
                  </a:moveTo>
                  <a:lnTo>
                    <a:pt x="50" y="0"/>
                  </a:lnTo>
                  <a:lnTo>
                    <a:pt x="80" y="41"/>
                  </a:lnTo>
                  <a:lnTo>
                    <a:pt x="12" y="90"/>
                  </a:lnTo>
                  <a:lnTo>
                    <a:pt x="0" y="100"/>
                  </a:lnTo>
                  <a:lnTo>
                    <a:pt x="1200" y="100"/>
                  </a:lnTo>
                  <a:lnTo>
                    <a:pt x="1272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rot="16200000">
              <a:off x="7547400" y="2297520"/>
              <a:ext cx="12600" cy="315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rot="16200000">
              <a:off x="7547400" y="2339640"/>
              <a:ext cx="13680" cy="315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7556400" y="2877480"/>
              <a:ext cx="25200" cy="13680"/>
              <a:chOff x="7556400" y="2877480"/>
              <a:chExt cx="25200" cy="13680"/>
            </a:xfrm>
          </p:grpSpPr>
          <p:sp>
            <p:nvSpPr>
              <p:cNvPr id="862" name=""/>
              <p:cNvSpPr/>
              <p:nvPr/>
            </p:nvSpPr>
            <p:spPr>
              <a:xfrm rot="16200000">
                <a:off x="7562160" y="2871720"/>
                <a:ext cx="13680" cy="25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7557120" y="2883240"/>
                <a:ext cx="324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7577640" y="2883240"/>
                <a:ext cx="324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 rot="16200000">
              <a:off x="7540200" y="2867040"/>
              <a:ext cx="57240" cy="12600"/>
            </a:xfrm>
            <a:custGeom>
              <a:avLst/>
              <a:gdLst/>
              <a:ahLst/>
              <a:rect l="l" t="t" r="r" b="b"/>
              <a:pathLst>
                <a:path w="452" h="101">
                  <a:moveTo>
                    <a:pt x="430" y="0"/>
                  </a:moveTo>
                  <a:lnTo>
                    <a:pt x="451" y="39"/>
                  </a:lnTo>
                  <a:lnTo>
                    <a:pt x="448" y="41"/>
                  </a:lnTo>
                  <a:lnTo>
                    <a:pt x="361" y="100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43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16200000">
              <a:off x="7689600" y="2503440"/>
              <a:ext cx="8280" cy="8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rot="16200000">
              <a:off x="7617240" y="2653920"/>
              <a:ext cx="7560" cy="6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rot="16200000">
              <a:off x="7464240" y="2577960"/>
              <a:ext cx="9720" cy="37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rot="16200000">
              <a:off x="7539120" y="2486880"/>
              <a:ext cx="53280" cy="78120"/>
            </a:xfrm>
            <a:custGeom>
              <a:avLst/>
              <a:gdLst>
                <a:gd name="textAreaLeft" fmla="*/ 2520 w 53280"/>
                <a:gd name="textAreaRight" fmla="*/ 50760 w 53280"/>
                <a:gd name="textAreaTop" fmla="*/ 2520 h 78120"/>
                <a:gd name="textAreaBottom" fmla="*/ 75600 h 78120"/>
              </a:gdLst>
              <a:ahLst/>
              <a:rect l="textAreaLeft" t="textAreaTop" r="textAreaRight" b="textAreaBottom"/>
              <a:pathLst>
                <a:path w="21600" h="31603">
                  <a:moveTo>
                    <a:pt x="3600" y="0"/>
                  </a:moveTo>
                  <a:arcTo wR="3600" hR="3600" stAng="16200000" swAng="-5400000"/>
                  <a:lnTo>
                    <a:pt x="0" y="28003"/>
                  </a:lnTo>
                  <a:arcTo wR="3600" hR="3600" stAng="10800000" swAng="-5400000"/>
                  <a:lnTo>
                    <a:pt x="18000" y="316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rot="16200000">
              <a:off x="7548480" y="2496960"/>
              <a:ext cx="32760" cy="48600"/>
            </a:xfrm>
            <a:custGeom>
              <a:avLst/>
              <a:gdLst>
                <a:gd name="textAreaLeft" fmla="*/ 1440 w 32760"/>
                <a:gd name="textAreaRight" fmla="*/ 31320 w 32760"/>
                <a:gd name="textAreaTop" fmla="*/ 1440 h 48600"/>
                <a:gd name="textAreaBottom" fmla="*/ 47160 h 48600"/>
              </a:gdLst>
              <a:ahLst/>
              <a:rect l="textAreaLeft" t="textAreaTop" r="textAreaRight" b="textAreaBottom"/>
              <a:pathLst>
                <a:path w="21600" h="31930">
                  <a:moveTo>
                    <a:pt x="3600" y="0"/>
                  </a:moveTo>
                  <a:arcTo wR="3600" hR="3600" stAng="16200000" swAng="-5400000"/>
                  <a:lnTo>
                    <a:pt x="0" y="28330"/>
                  </a:lnTo>
                  <a:arcTo wR="3600" hR="3600" stAng="10800000" swAng="-5400000"/>
                  <a:lnTo>
                    <a:pt x="18000" y="319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16200000">
              <a:off x="7562880" y="2442600"/>
              <a:ext cx="11880" cy="108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16200000">
              <a:off x="7548840" y="2530440"/>
              <a:ext cx="36000" cy="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rot="16200000">
              <a:off x="7541280" y="2541600"/>
              <a:ext cx="23400" cy="9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6200000">
              <a:off x="7569000" y="2541960"/>
              <a:ext cx="23400" cy="8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7533720" y="2508120"/>
              <a:ext cx="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597800" y="251316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16200000">
              <a:off x="7432920" y="2567520"/>
              <a:ext cx="271080" cy="12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16200000">
              <a:off x="7538400" y="2713320"/>
              <a:ext cx="62280" cy="19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7283160" y="287964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00-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4694040" y="1636560"/>
            <a:ext cx="75564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034040" y="2006640"/>
            <a:ext cx="0" cy="47160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84640" y="1628640"/>
            <a:ext cx="329760" cy="433080"/>
            <a:chOff x="6884640" y="1628640"/>
            <a:chExt cx="329760" cy="433080"/>
          </a:xfrm>
        </p:grpSpPr>
        <p:sp>
          <p:nvSpPr>
            <p:cNvPr id="883" name=""/>
            <p:cNvSpPr/>
            <p:nvPr/>
          </p:nvSpPr>
          <p:spPr>
            <a:xfrm rot="5400000">
              <a:off x="6988320" y="1738080"/>
              <a:ext cx="21960" cy="16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5400000">
              <a:off x="6989760" y="1949040"/>
              <a:ext cx="21960" cy="15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5400000">
              <a:off x="6881040" y="1826640"/>
              <a:ext cx="173160" cy="493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5400000">
              <a:off x="6896160" y="1831680"/>
              <a:ext cx="149400" cy="3996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5400000">
              <a:off x="6972840" y="1768320"/>
              <a:ext cx="199800" cy="167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5400000">
              <a:off x="7106040" y="1842120"/>
              <a:ext cx="193680" cy="22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5400000">
              <a:off x="7103160" y="1699920"/>
              <a:ext cx="38880" cy="46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5400000">
              <a:off x="6989400" y="1919880"/>
              <a:ext cx="53640" cy="10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6989040" y="189720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5400000">
              <a:off x="7048800" y="1948680"/>
              <a:ext cx="8640" cy="15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5400000">
              <a:off x="6987600" y="1775160"/>
              <a:ext cx="55440" cy="9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989400" y="1807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5400000">
              <a:off x="7016400" y="1839960"/>
              <a:ext cx="37800" cy="25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5400000">
              <a:off x="7082640" y="1732680"/>
              <a:ext cx="28080" cy="86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5400000">
              <a:off x="7017840" y="1831680"/>
              <a:ext cx="115920" cy="43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5400000">
              <a:off x="7110000" y="1879560"/>
              <a:ext cx="19440" cy="44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016760" y="1807920"/>
              <a:ext cx="0" cy="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6989040" y="18514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5400000">
              <a:off x="6975000" y="2017440"/>
              <a:ext cx="68760" cy="19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rot="5400000">
              <a:off x="7041960" y="1471320"/>
              <a:ext cx="14760" cy="3294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5400000">
              <a:off x="7041240" y="1510920"/>
              <a:ext cx="14760" cy="3276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7025400" y="1971720"/>
              <a:ext cx="25560" cy="14760"/>
              <a:chOff x="7025400" y="1971720"/>
              <a:chExt cx="25560" cy="14760"/>
            </a:xfrm>
          </p:grpSpPr>
          <p:sp>
            <p:nvSpPr>
              <p:cNvPr id="905" name=""/>
              <p:cNvSpPr/>
              <p:nvPr/>
            </p:nvSpPr>
            <p:spPr>
              <a:xfrm rot="5400000">
                <a:off x="7030800" y="1966320"/>
                <a:ext cx="14760" cy="255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5400000">
                <a:off x="7045920" y="1977120"/>
                <a:ext cx="396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5400000">
                <a:off x="7025400" y="1977120"/>
                <a:ext cx="3960" cy="32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7023600" y="1648080"/>
              <a:ext cx="25560" cy="14760"/>
              <a:chOff x="7023600" y="1648080"/>
              <a:chExt cx="25560" cy="14760"/>
            </a:xfrm>
          </p:grpSpPr>
          <p:sp>
            <p:nvSpPr>
              <p:cNvPr id="909" name=""/>
              <p:cNvSpPr/>
              <p:nvPr/>
            </p:nvSpPr>
            <p:spPr>
              <a:xfrm rot="5400000">
                <a:off x="7029000" y="1642680"/>
                <a:ext cx="14760" cy="255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5400000">
                <a:off x="7044480" y="1653480"/>
                <a:ext cx="396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5400000">
                <a:off x="7023600" y="1653480"/>
                <a:ext cx="3960" cy="32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 rot="5400000">
              <a:off x="6976080" y="1926720"/>
              <a:ext cx="28080" cy="2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5400000">
              <a:off x="6981840" y="1884600"/>
              <a:ext cx="7920" cy="6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5400000">
              <a:off x="7135920" y="1931040"/>
              <a:ext cx="8640" cy="33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rot="5400000">
              <a:off x="6951960" y="1677240"/>
              <a:ext cx="12960" cy="14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rot="5400000">
              <a:off x="7011720" y="1665000"/>
              <a:ext cx="50040" cy="67320"/>
            </a:xfrm>
            <a:prstGeom prst="flowChartAlternateProcess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rot="5400000">
              <a:off x="7019640" y="1674360"/>
              <a:ext cx="30960" cy="48600"/>
            </a:xfrm>
            <a:custGeom>
              <a:avLst/>
              <a:gdLst>
                <a:gd name="textAreaLeft" fmla="*/ 1440 w 30960"/>
                <a:gd name="textAreaRight" fmla="*/ 29520 w 30960"/>
                <a:gd name="textAreaTop" fmla="*/ 1440 h 48600"/>
                <a:gd name="textAreaBottom" fmla="*/ 47160 h 48600"/>
              </a:gdLst>
              <a:ahLst/>
              <a:rect l="textAreaLeft" t="textAreaTop" r="textAreaRight" b="textAreaBottom"/>
              <a:pathLst>
                <a:path w="21600" h="33766">
                  <a:moveTo>
                    <a:pt x="3600" y="0"/>
                  </a:moveTo>
                  <a:arcTo wR="3600" hR="3600" stAng="16200000" swAng="-5400000"/>
                  <a:lnTo>
                    <a:pt x="0" y="30166"/>
                  </a:lnTo>
                  <a:arcTo wR="3600" hR="3600" stAng="10800000" swAng="-5400000"/>
                  <a:lnTo>
                    <a:pt x="18000" y="337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5400000">
              <a:off x="7023240" y="1702800"/>
              <a:ext cx="30960" cy="30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rot="5400000">
              <a:off x="7028640" y="1625760"/>
              <a:ext cx="10440" cy="99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rot="5400000">
              <a:off x="6852960" y="1816200"/>
              <a:ext cx="367920" cy="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5400000">
              <a:off x="7005600" y="1766880"/>
              <a:ext cx="66240" cy="19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7065360" y="1688400"/>
              <a:ext cx="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008120" y="1687680"/>
              <a:ext cx="0" cy="2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6750000" y="198108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10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6881400" y="2432160"/>
            <a:ext cx="328680" cy="434880"/>
            <a:chOff x="6881400" y="2432160"/>
            <a:chExt cx="328680" cy="434880"/>
          </a:xfrm>
        </p:grpSpPr>
        <p:sp>
          <p:nvSpPr>
            <p:cNvPr id="926" name=""/>
            <p:cNvSpPr/>
            <p:nvPr/>
          </p:nvSpPr>
          <p:spPr>
            <a:xfrm rot="5400000">
              <a:off x="6985440" y="2541960"/>
              <a:ext cx="21960" cy="16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5400000">
              <a:off x="6986160" y="2753280"/>
              <a:ext cx="21960" cy="16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5400000">
              <a:off x="6877440" y="2630880"/>
              <a:ext cx="173880" cy="496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rot="5400000">
              <a:off x="6893640" y="2636280"/>
              <a:ext cx="149400" cy="3996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rot="5400000">
              <a:off x="6969960" y="2573640"/>
              <a:ext cx="200520" cy="166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5400000">
              <a:off x="7111800" y="2635560"/>
              <a:ext cx="172440" cy="18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5400000">
              <a:off x="7100640" y="2503800"/>
              <a:ext cx="38880" cy="46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5400000">
              <a:off x="6985800" y="2724480"/>
              <a:ext cx="54720" cy="10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6986160" y="270252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rot="5400000">
              <a:off x="7045560" y="2753280"/>
              <a:ext cx="8640" cy="15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rot="5400000">
              <a:off x="6984720" y="2579760"/>
              <a:ext cx="55800" cy="9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6986520" y="2612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rot="5400000">
              <a:off x="7014240" y="2644560"/>
              <a:ext cx="37440" cy="25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5400000">
              <a:off x="7079760" y="2536920"/>
              <a:ext cx="27720" cy="86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rot="5400000">
              <a:off x="7013880" y="2635920"/>
              <a:ext cx="116280" cy="43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5400000">
              <a:off x="7106760" y="2684520"/>
              <a:ext cx="19800" cy="43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012800" y="2612520"/>
              <a:ext cx="0" cy="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6987240" y="26560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5400000">
              <a:off x="6971400" y="2822400"/>
              <a:ext cx="69480" cy="19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rot="5400000">
              <a:off x="7038360" y="2275200"/>
              <a:ext cx="14760" cy="3286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5400000">
              <a:off x="7037640" y="2315160"/>
              <a:ext cx="14760" cy="326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7023240" y="2776320"/>
              <a:ext cx="25200" cy="14760"/>
              <a:chOff x="7023240" y="2776320"/>
              <a:chExt cx="25200" cy="14760"/>
            </a:xfrm>
          </p:grpSpPr>
          <p:sp>
            <p:nvSpPr>
              <p:cNvPr id="948" name=""/>
              <p:cNvSpPr/>
              <p:nvPr/>
            </p:nvSpPr>
            <p:spPr>
              <a:xfrm rot="5400000">
                <a:off x="7028280" y="2770920"/>
                <a:ext cx="14760" cy="25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5400000">
                <a:off x="7043760" y="2781720"/>
                <a:ext cx="396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5400000">
                <a:off x="7023240" y="2781720"/>
                <a:ext cx="396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7021800" y="2450520"/>
              <a:ext cx="25200" cy="15120"/>
              <a:chOff x="7021800" y="2450520"/>
              <a:chExt cx="25200" cy="15120"/>
            </a:xfrm>
          </p:grpSpPr>
          <p:sp>
            <p:nvSpPr>
              <p:cNvPr id="952" name=""/>
              <p:cNvSpPr/>
              <p:nvPr/>
            </p:nvSpPr>
            <p:spPr>
              <a:xfrm rot="5400000">
                <a:off x="7026840" y="2445480"/>
                <a:ext cx="15120" cy="25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5400000">
                <a:off x="7042320" y="2455920"/>
                <a:ext cx="396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5400000">
                <a:off x="7021800" y="2455920"/>
                <a:ext cx="396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"/>
            <p:cNvSpPr/>
            <p:nvPr/>
          </p:nvSpPr>
          <p:spPr>
            <a:xfrm rot="5400000">
              <a:off x="6973560" y="2731680"/>
              <a:ext cx="28800" cy="2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rot="5400000">
              <a:off x="6979680" y="2689200"/>
              <a:ext cx="6840" cy="6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rot="5400000">
              <a:off x="7132320" y="2735640"/>
              <a:ext cx="8640" cy="33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rot="5400000">
              <a:off x="6949080" y="2481120"/>
              <a:ext cx="13680" cy="14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rot="5400000">
              <a:off x="7008120" y="2468880"/>
              <a:ext cx="50040" cy="66960"/>
            </a:xfrm>
            <a:prstGeom prst="flowChartAlternateProcess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rot="5400000">
              <a:off x="7017480" y="2478240"/>
              <a:ext cx="30960" cy="48240"/>
            </a:xfrm>
            <a:custGeom>
              <a:avLst/>
              <a:gdLst>
                <a:gd name="textAreaLeft" fmla="*/ 1440 w 30960"/>
                <a:gd name="textAreaRight" fmla="*/ 29520 w 30960"/>
                <a:gd name="textAreaTop" fmla="*/ 1440 h 48240"/>
                <a:gd name="textAreaBottom" fmla="*/ 46800 h 48240"/>
              </a:gdLst>
              <a:ahLst/>
              <a:rect l="textAreaLeft" t="textAreaTop" r="textAreaRight" b="textAreaBottom"/>
              <a:pathLst>
                <a:path w="21600" h="33517">
                  <a:moveTo>
                    <a:pt x="3600" y="0"/>
                  </a:moveTo>
                  <a:arcTo wR="3600" hR="3600" stAng="16200000" swAng="-5400000"/>
                  <a:lnTo>
                    <a:pt x="0" y="29917"/>
                  </a:lnTo>
                  <a:arcTo wR="3600" hR="3600" stAng="10800000" swAng="-5400000"/>
                  <a:lnTo>
                    <a:pt x="18000" y="335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rot="5400000">
              <a:off x="7021080" y="2506680"/>
              <a:ext cx="30960" cy="3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5400000">
              <a:off x="7026120" y="2429640"/>
              <a:ext cx="10440" cy="99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rot="5400000">
              <a:off x="6850440" y="2620440"/>
              <a:ext cx="369000" cy="9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rot="5400000">
              <a:off x="7002000" y="2570760"/>
              <a:ext cx="66600" cy="19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7061760" y="249228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04520" y="2491560"/>
              <a:ext cx="0" cy="2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6519600" y="284796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10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3751200" y="1636560"/>
            <a:ext cx="94320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622920" y="2273040"/>
            <a:ext cx="317520" cy="469800"/>
            <a:chOff x="6622920" y="2273040"/>
            <a:chExt cx="317520" cy="469800"/>
          </a:xfrm>
        </p:grpSpPr>
        <p:sp>
          <p:nvSpPr>
            <p:cNvPr id="970" name=""/>
            <p:cNvSpPr/>
            <p:nvPr/>
          </p:nvSpPr>
          <p:spPr>
            <a:xfrm rot="16200000">
              <a:off x="6661080" y="2402280"/>
              <a:ext cx="270720" cy="12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rot="16200000">
              <a:off x="6782040" y="2495520"/>
              <a:ext cx="162360" cy="4968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rot="16200000">
              <a:off x="6824520" y="2614680"/>
              <a:ext cx="20520" cy="16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rot="16200000">
              <a:off x="6823440" y="2409840"/>
              <a:ext cx="20160" cy="16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rot="16200000">
              <a:off x="6667200" y="2435760"/>
              <a:ext cx="187560" cy="167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6200000">
              <a:off x="6550200" y="2509560"/>
              <a:ext cx="204840" cy="18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16200000">
              <a:off x="6692400" y="2617560"/>
              <a:ext cx="36360" cy="46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rot="16200000">
              <a:off x="6792480" y="2445840"/>
              <a:ext cx="50760" cy="10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819120" y="247680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rot="16200000">
              <a:off x="6782400" y="2412360"/>
              <a:ext cx="7920" cy="15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16200000">
              <a:off x="6791400" y="2582280"/>
              <a:ext cx="51840" cy="9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13720" y="2561040"/>
              <a:ext cx="3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rot="16200000">
              <a:off x="6779520" y="2506320"/>
              <a:ext cx="34920" cy="25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16200000">
              <a:off x="6721200" y="2544840"/>
              <a:ext cx="31320" cy="86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6200000">
              <a:off x="6703920" y="2496240"/>
              <a:ext cx="108720" cy="43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16200000">
              <a:off x="6704640" y="2450880"/>
              <a:ext cx="18360" cy="43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6818040" y="2477160"/>
              <a:ext cx="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818760" y="252000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16200000">
              <a:off x="6788880" y="2700360"/>
              <a:ext cx="64800" cy="19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9" name=""/>
            <p:cNvGrpSpPr/>
            <p:nvPr/>
          </p:nvGrpSpPr>
          <p:grpSpPr>
            <a:xfrm>
              <a:off x="6784560" y="2631600"/>
              <a:ext cx="25200" cy="13680"/>
              <a:chOff x="6784560" y="2631600"/>
              <a:chExt cx="25200" cy="13680"/>
            </a:xfrm>
          </p:grpSpPr>
          <p:sp>
            <p:nvSpPr>
              <p:cNvPr id="990" name=""/>
              <p:cNvSpPr/>
              <p:nvPr/>
            </p:nvSpPr>
            <p:spPr>
              <a:xfrm rot="16200000">
                <a:off x="6790320" y="2625840"/>
                <a:ext cx="13680" cy="25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16200000">
                <a:off x="6785280" y="2637360"/>
                <a:ext cx="324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16200000">
                <a:off x="6805800" y="2637360"/>
                <a:ext cx="324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6783120" y="2302920"/>
              <a:ext cx="25200" cy="13680"/>
              <a:chOff x="6783120" y="2302920"/>
              <a:chExt cx="25200" cy="13680"/>
            </a:xfrm>
          </p:grpSpPr>
          <p:sp>
            <p:nvSpPr>
              <p:cNvPr id="994" name=""/>
              <p:cNvSpPr/>
              <p:nvPr/>
            </p:nvSpPr>
            <p:spPr>
              <a:xfrm rot="16200000">
                <a:off x="6788880" y="2297160"/>
                <a:ext cx="13680" cy="25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16200000">
                <a:off x="6783840" y="2308680"/>
                <a:ext cx="360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16200000">
                <a:off x="6804360" y="2308680"/>
                <a:ext cx="360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"/>
            <p:cNvSpPr/>
            <p:nvPr/>
          </p:nvSpPr>
          <p:spPr>
            <a:xfrm rot="16200000">
              <a:off x="6715800" y="2590920"/>
              <a:ext cx="161640" cy="12600"/>
            </a:xfrm>
            <a:custGeom>
              <a:avLst/>
              <a:gdLst/>
              <a:ahLst/>
              <a:rect l="l" t="t" r="r" b="b"/>
              <a:pathLst>
                <a:path w="1273" h="101">
                  <a:moveTo>
                    <a:pt x="1272" y="0"/>
                  </a:moveTo>
                  <a:lnTo>
                    <a:pt x="50" y="0"/>
                  </a:lnTo>
                  <a:lnTo>
                    <a:pt x="80" y="41"/>
                  </a:lnTo>
                  <a:lnTo>
                    <a:pt x="12" y="90"/>
                  </a:lnTo>
                  <a:lnTo>
                    <a:pt x="0" y="100"/>
                  </a:lnTo>
                  <a:lnTo>
                    <a:pt x="1200" y="100"/>
                  </a:lnTo>
                  <a:lnTo>
                    <a:pt x="1272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rot="16200000">
              <a:off x="6775200" y="2131200"/>
              <a:ext cx="12240" cy="31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rot="16200000">
              <a:off x="6774840" y="2173320"/>
              <a:ext cx="13680" cy="31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6783840" y="2711880"/>
              <a:ext cx="25200" cy="13680"/>
              <a:chOff x="6783840" y="2711880"/>
              <a:chExt cx="25200" cy="13680"/>
            </a:xfrm>
          </p:grpSpPr>
          <p:sp>
            <p:nvSpPr>
              <p:cNvPr id="1001" name=""/>
              <p:cNvSpPr/>
              <p:nvPr/>
            </p:nvSpPr>
            <p:spPr>
              <a:xfrm rot="16200000">
                <a:off x="6789600" y="2706120"/>
                <a:ext cx="13680" cy="25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6200000">
                <a:off x="6784560" y="2717640"/>
                <a:ext cx="324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16200000">
                <a:off x="6805080" y="2717640"/>
                <a:ext cx="324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4" name=""/>
            <p:cNvSpPr/>
            <p:nvPr/>
          </p:nvSpPr>
          <p:spPr>
            <a:xfrm rot="16200000">
              <a:off x="6768000" y="2701440"/>
              <a:ext cx="57240" cy="12600"/>
            </a:xfrm>
            <a:custGeom>
              <a:avLst/>
              <a:gdLst/>
              <a:ahLst/>
              <a:rect l="l" t="t" r="r" b="b"/>
              <a:pathLst>
                <a:path w="452" h="101">
                  <a:moveTo>
                    <a:pt x="430" y="0"/>
                  </a:moveTo>
                  <a:lnTo>
                    <a:pt x="451" y="39"/>
                  </a:lnTo>
                  <a:lnTo>
                    <a:pt x="448" y="41"/>
                  </a:lnTo>
                  <a:lnTo>
                    <a:pt x="361" y="100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43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rot="16200000">
              <a:off x="6918120" y="2338200"/>
              <a:ext cx="8280" cy="8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rot="16200000">
              <a:off x="6845040" y="2488680"/>
              <a:ext cx="7560" cy="6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rot="16200000">
              <a:off x="6691320" y="2412000"/>
              <a:ext cx="9720" cy="37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16200000">
              <a:off x="6766920" y="2321640"/>
              <a:ext cx="53280" cy="78480"/>
            </a:xfrm>
            <a:custGeom>
              <a:avLst/>
              <a:gdLst>
                <a:gd name="textAreaLeft" fmla="*/ 2520 w 53280"/>
                <a:gd name="textAreaRight" fmla="*/ 50760 w 53280"/>
                <a:gd name="textAreaTop" fmla="*/ 2520 h 78480"/>
                <a:gd name="textAreaBottom" fmla="*/ 75960 h 78480"/>
              </a:gdLst>
              <a:ahLst/>
              <a:rect l="textAreaLeft" t="textAreaTop" r="textAreaRight" b="textAreaBottom"/>
              <a:pathLst>
                <a:path w="21600" h="31748">
                  <a:moveTo>
                    <a:pt x="3600" y="0"/>
                  </a:moveTo>
                  <a:arcTo wR="3600" hR="3600" stAng="16200000" swAng="-5400000"/>
                  <a:lnTo>
                    <a:pt x="0" y="28148"/>
                  </a:lnTo>
                  <a:arcTo wR="3600" hR="3600" stAng="10800000" swAng="-5400000"/>
                  <a:lnTo>
                    <a:pt x="18000" y="317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16200000">
              <a:off x="6776280" y="2331720"/>
              <a:ext cx="32760" cy="48600"/>
            </a:xfrm>
            <a:custGeom>
              <a:avLst/>
              <a:gdLst>
                <a:gd name="textAreaLeft" fmla="*/ 1440 w 32760"/>
                <a:gd name="textAreaRight" fmla="*/ 31320 w 32760"/>
                <a:gd name="textAreaTop" fmla="*/ 1440 h 48600"/>
                <a:gd name="textAreaBottom" fmla="*/ 47160 h 48600"/>
              </a:gdLst>
              <a:ahLst/>
              <a:rect l="textAreaLeft" t="textAreaTop" r="textAreaRight" b="textAreaBottom"/>
              <a:pathLst>
                <a:path w="21600" h="31930">
                  <a:moveTo>
                    <a:pt x="3600" y="0"/>
                  </a:moveTo>
                  <a:arcTo wR="3600" hR="3600" stAng="16200000" swAng="-5400000"/>
                  <a:lnTo>
                    <a:pt x="0" y="28330"/>
                  </a:lnTo>
                  <a:arcTo wR="3600" hR="3600" stAng="10800000" swAng="-5400000"/>
                  <a:lnTo>
                    <a:pt x="18000" y="319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16200000">
              <a:off x="6790680" y="2277360"/>
              <a:ext cx="11880" cy="109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rot="16200000">
              <a:off x="6777000" y="2365200"/>
              <a:ext cx="36000" cy="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rot="16200000">
              <a:off x="6769080" y="2376360"/>
              <a:ext cx="23400" cy="9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rot="16200000">
              <a:off x="6796440" y="2376720"/>
              <a:ext cx="23400" cy="8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6761520" y="2342880"/>
              <a:ext cx="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25600" y="234756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rot="16200000">
              <a:off x="6579360" y="2557800"/>
              <a:ext cx="260280" cy="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t" vert="eaVer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rot="16200000">
              <a:off x="6661080" y="2402280"/>
              <a:ext cx="270720" cy="12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16200000">
              <a:off x="6765840" y="2547720"/>
              <a:ext cx="61920" cy="19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9" name=""/>
          <p:cNvSpPr/>
          <p:nvPr/>
        </p:nvSpPr>
        <p:spPr>
          <a:xfrm>
            <a:off x="6378480" y="266688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10-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5152680" y="1635120"/>
            <a:ext cx="330120" cy="433440"/>
            <a:chOff x="5152680" y="1635120"/>
            <a:chExt cx="330120" cy="433440"/>
          </a:xfrm>
        </p:grpSpPr>
        <p:sp>
          <p:nvSpPr>
            <p:cNvPr id="1021" name=""/>
            <p:cNvSpPr/>
            <p:nvPr/>
          </p:nvSpPr>
          <p:spPr>
            <a:xfrm rot="5400000">
              <a:off x="5256720" y="1744560"/>
              <a:ext cx="21960" cy="16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rot="5400000">
              <a:off x="5257440" y="1955160"/>
              <a:ext cx="21960" cy="16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5400000">
              <a:off x="5149080" y="1832760"/>
              <a:ext cx="173160" cy="4968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5165280" y="1838160"/>
              <a:ext cx="149040" cy="3996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5400000">
              <a:off x="5241960" y="1775160"/>
              <a:ext cx="199800" cy="167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rot="5400000">
              <a:off x="5374440" y="1848960"/>
              <a:ext cx="193680" cy="22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5400000">
              <a:off x="5372280" y="1706400"/>
              <a:ext cx="38880" cy="46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rot="5400000">
              <a:off x="5257800" y="1926720"/>
              <a:ext cx="54360" cy="10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5257800" y="190440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rot="5400000">
              <a:off x="5317200" y="1955160"/>
              <a:ext cx="8640" cy="15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5400000">
              <a:off x="5256360" y="1781640"/>
              <a:ext cx="55440" cy="9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5258160" y="181476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rot="5400000">
              <a:off x="5285880" y="1846800"/>
              <a:ext cx="37440" cy="25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5351760" y="1739160"/>
              <a:ext cx="27720" cy="86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rot="5400000">
              <a:off x="5286240" y="1838520"/>
              <a:ext cx="115920" cy="43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5400000">
              <a:off x="5378760" y="1886400"/>
              <a:ext cx="19800" cy="43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84440" y="1814760"/>
              <a:ext cx="0" cy="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5258160" y="185832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5400000">
              <a:off x="5243040" y="2023920"/>
              <a:ext cx="69120" cy="19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5400000">
              <a:off x="5310000" y="1477440"/>
              <a:ext cx="14760" cy="329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rot="5400000">
              <a:off x="5309280" y="1517400"/>
              <a:ext cx="14760" cy="327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5294880" y="1978200"/>
              <a:ext cx="25200" cy="14760"/>
              <a:chOff x="5294880" y="1978200"/>
              <a:chExt cx="25200" cy="14760"/>
            </a:xfrm>
          </p:grpSpPr>
          <p:sp>
            <p:nvSpPr>
              <p:cNvPr id="1043" name=""/>
              <p:cNvSpPr/>
              <p:nvPr/>
            </p:nvSpPr>
            <p:spPr>
              <a:xfrm rot="5400000">
                <a:off x="5299920" y="1972800"/>
                <a:ext cx="14760" cy="25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5400000">
                <a:off x="5315400" y="1983600"/>
                <a:ext cx="396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5400000">
                <a:off x="5294880" y="1983600"/>
                <a:ext cx="396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5293440" y="1654560"/>
              <a:ext cx="25200" cy="14760"/>
              <a:chOff x="5293440" y="1654560"/>
              <a:chExt cx="25200" cy="14760"/>
            </a:xfrm>
          </p:grpSpPr>
          <p:sp>
            <p:nvSpPr>
              <p:cNvPr id="1047" name=""/>
              <p:cNvSpPr/>
              <p:nvPr/>
            </p:nvSpPr>
            <p:spPr>
              <a:xfrm rot="5400000">
                <a:off x="5298480" y="1649160"/>
                <a:ext cx="14760" cy="25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5400000">
                <a:off x="5313960" y="1659960"/>
                <a:ext cx="396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5400000">
                <a:off x="5293440" y="1659960"/>
                <a:ext cx="396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0" name=""/>
            <p:cNvSpPr/>
            <p:nvPr/>
          </p:nvSpPr>
          <p:spPr>
            <a:xfrm rot="5400000">
              <a:off x="5244840" y="1933920"/>
              <a:ext cx="28800" cy="2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5400000">
              <a:off x="5250960" y="1891080"/>
              <a:ext cx="6840" cy="6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5400000">
              <a:off x="5403960" y="1937520"/>
              <a:ext cx="8640" cy="33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rot="5400000">
              <a:off x="5175720" y="1734120"/>
              <a:ext cx="276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Times New Roman"/>
                </a:rPr>
                <a:t>W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rot="5400000">
              <a:off x="5181840" y="1685520"/>
              <a:ext cx="13680" cy="14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5400000">
              <a:off x="5279040" y="1672560"/>
              <a:ext cx="51480" cy="66960"/>
            </a:xfrm>
            <a:prstGeom prst="flowChartAlternateProcess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rot="5400000">
              <a:off x="5289120" y="1680480"/>
              <a:ext cx="30960" cy="48240"/>
            </a:xfrm>
            <a:custGeom>
              <a:avLst/>
              <a:gdLst>
                <a:gd name="textAreaLeft" fmla="*/ 1440 w 30960"/>
                <a:gd name="textAreaRight" fmla="*/ 29520 w 30960"/>
                <a:gd name="textAreaTop" fmla="*/ 1440 h 48240"/>
                <a:gd name="textAreaBottom" fmla="*/ 46800 h 48240"/>
              </a:gdLst>
              <a:ahLst/>
              <a:rect l="textAreaLeft" t="textAreaTop" r="textAreaRight" b="textAreaBottom"/>
              <a:pathLst>
                <a:path w="21600" h="33517">
                  <a:moveTo>
                    <a:pt x="3600" y="0"/>
                  </a:moveTo>
                  <a:arcTo wR="3600" hR="3600" stAng="16200000" swAng="-5400000"/>
                  <a:lnTo>
                    <a:pt x="0" y="29917"/>
                  </a:lnTo>
                  <a:arcTo wR="3600" hR="3600" stAng="10800000" swAng="-5400000"/>
                  <a:lnTo>
                    <a:pt x="18000" y="335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rot="5400000">
              <a:off x="5292720" y="1708920"/>
              <a:ext cx="30960" cy="3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rot="5400000">
              <a:off x="5297760" y="1632600"/>
              <a:ext cx="10440" cy="99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rot="5400000">
              <a:off x="5122800" y="1823040"/>
              <a:ext cx="367920" cy="9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rot="5400000">
              <a:off x="5273640" y="1773000"/>
              <a:ext cx="66240" cy="19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276160" y="1694160"/>
              <a:ext cx="0" cy="2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2" name=""/>
          <p:cNvSpPr/>
          <p:nvPr/>
        </p:nvSpPr>
        <p:spPr>
          <a:xfrm>
            <a:off x="4981320" y="198108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20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871880" y="2084400"/>
            <a:ext cx="0" cy="33012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4697280" y="1623600"/>
            <a:ext cx="317520" cy="469800"/>
            <a:chOff x="4697280" y="1623600"/>
            <a:chExt cx="317520" cy="469800"/>
          </a:xfrm>
        </p:grpSpPr>
        <p:sp>
          <p:nvSpPr>
            <p:cNvPr id="1065" name=""/>
            <p:cNvSpPr/>
            <p:nvPr/>
          </p:nvSpPr>
          <p:spPr>
            <a:xfrm rot="16200000">
              <a:off x="4735440" y="1752840"/>
              <a:ext cx="270720" cy="12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16200000">
              <a:off x="4856400" y="1846080"/>
              <a:ext cx="162360" cy="4968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16200000">
              <a:off x="4898880" y="1965240"/>
              <a:ext cx="20520" cy="16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rot="16200000">
              <a:off x="4897800" y="1760400"/>
              <a:ext cx="20160" cy="16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16200000">
              <a:off x="4741560" y="1786320"/>
              <a:ext cx="187560" cy="167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16200000">
              <a:off x="4624560" y="1860120"/>
              <a:ext cx="204840" cy="18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16200000">
              <a:off x="4766760" y="1968120"/>
              <a:ext cx="36000" cy="46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6200000">
              <a:off x="4866840" y="1796400"/>
              <a:ext cx="50760" cy="10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893480" y="182736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16200000">
              <a:off x="4856760" y="1762920"/>
              <a:ext cx="7920" cy="15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16200000">
              <a:off x="4865760" y="1932840"/>
              <a:ext cx="51840" cy="9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888080" y="1911600"/>
              <a:ext cx="3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6200000">
              <a:off x="4853880" y="1856880"/>
              <a:ext cx="34920" cy="25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16200000">
              <a:off x="4795560" y="1895400"/>
              <a:ext cx="31320" cy="86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rot="16200000">
              <a:off x="4778280" y="1846440"/>
              <a:ext cx="108720" cy="43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rot="16200000">
              <a:off x="4779000" y="1801440"/>
              <a:ext cx="18360" cy="43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4892400" y="1827720"/>
              <a:ext cx="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892760" y="187056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16200000">
              <a:off x="4863240" y="2050920"/>
              <a:ext cx="64800" cy="19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4" name=""/>
            <p:cNvGrpSpPr/>
            <p:nvPr/>
          </p:nvGrpSpPr>
          <p:grpSpPr>
            <a:xfrm>
              <a:off x="4858920" y="1982160"/>
              <a:ext cx="25200" cy="13680"/>
              <a:chOff x="4858920" y="1982160"/>
              <a:chExt cx="25200" cy="13680"/>
            </a:xfrm>
          </p:grpSpPr>
          <p:sp>
            <p:nvSpPr>
              <p:cNvPr id="1085" name=""/>
              <p:cNvSpPr/>
              <p:nvPr/>
            </p:nvSpPr>
            <p:spPr>
              <a:xfrm rot="16200000">
                <a:off x="4864680" y="1976400"/>
                <a:ext cx="13680" cy="25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16200000">
                <a:off x="4859640" y="1987920"/>
                <a:ext cx="324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6200000">
                <a:off x="4880160" y="1987920"/>
                <a:ext cx="324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4857480" y="1653480"/>
              <a:ext cx="25200" cy="13680"/>
              <a:chOff x="4857480" y="1653480"/>
              <a:chExt cx="25200" cy="13680"/>
            </a:xfrm>
          </p:grpSpPr>
          <p:sp>
            <p:nvSpPr>
              <p:cNvPr id="1089" name=""/>
              <p:cNvSpPr/>
              <p:nvPr/>
            </p:nvSpPr>
            <p:spPr>
              <a:xfrm rot="16200000">
                <a:off x="4863240" y="1647720"/>
                <a:ext cx="13680" cy="25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6200000">
                <a:off x="4858200" y="1659240"/>
                <a:ext cx="360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rot="16200000">
                <a:off x="4878720" y="1659240"/>
                <a:ext cx="360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2" name=""/>
            <p:cNvSpPr/>
            <p:nvPr/>
          </p:nvSpPr>
          <p:spPr>
            <a:xfrm rot="16200000">
              <a:off x="4790160" y="1941480"/>
              <a:ext cx="161640" cy="12600"/>
            </a:xfrm>
            <a:custGeom>
              <a:avLst/>
              <a:gdLst/>
              <a:ahLst/>
              <a:rect l="l" t="t" r="r" b="b"/>
              <a:pathLst>
                <a:path w="1273" h="101">
                  <a:moveTo>
                    <a:pt x="1272" y="0"/>
                  </a:moveTo>
                  <a:lnTo>
                    <a:pt x="50" y="0"/>
                  </a:lnTo>
                  <a:lnTo>
                    <a:pt x="80" y="41"/>
                  </a:lnTo>
                  <a:lnTo>
                    <a:pt x="12" y="90"/>
                  </a:lnTo>
                  <a:lnTo>
                    <a:pt x="0" y="100"/>
                  </a:lnTo>
                  <a:lnTo>
                    <a:pt x="1200" y="100"/>
                  </a:lnTo>
                  <a:lnTo>
                    <a:pt x="1272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rot="16200000">
              <a:off x="4849560" y="1481760"/>
              <a:ext cx="12240" cy="31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rot="16200000">
              <a:off x="4849200" y="1523880"/>
              <a:ext cx="13680" cy="31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5" name=""/>
            <p:cNvGrpSpPr/>
            <p:nvPr/>
          </p:nvGrpSpPr>
          <p:grpSpPr>
            <a:xfrm>
              <a:off x="4858200" y="2062440"/>
              <a:ext cx="25200" cy="13680"/>
              <a:chOff x="4858200" y="2062440"/>
              <a:chExt cx="25200" cy="13680"/>
            </a:xfrm>
          </p:grpSpPr>
          <p:sp>
            <p:nvSpPr>
              <p:cNvPr id="1096" name=""/>
              <p:cNvSpPr/>
              <p:nvPr/>
            </p:nvSpPr>
            <p:spPr>
              <a:xfrm rot="16200000">
                <a:off x="4863960" y="2056680"/>
                <a:ext cx="13680" cy="25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16200000">
                <a:off x="4858920" y="2068200"/>
                <a:ext cx="324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16200000">
                <a:off x="4879440" y="2068200"/>
                <a:ext cx="324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 rot="16200000">
              <a:off x="4842360" y="2052000"/>
              <a:ext cx="57240" cy="12600"/>
            </a:xfrm>
            <a:custGeom>
              <a:avLst/>
              <a:gdLst/>
              <a:ahLst/>
              <a:rect l="l" t="t" r="r" b="b"/>
              <a:pathLst>
                <a:path w="452" h="101">
                  <a:moveTo>
                    <a:pt x="430" y="0"/>
                  </a:moveTo>
                  <a:lnTo>
                    <a:pt x="451" y="39"/>
                  </a:lnTo>
                  <a:lnTo>
                    <a:pt x="448" y="41"/>
                  </a:lnTo>
                  <a:lnTo>
                    <a:pt x="361" y="100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43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 rot="16200000">
              <a:off x="4906800" y="1710000"/>
              <a:ext cx="9000" cy="8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rot="16200000">
              <a:off x="4919400" y="1839240"/>
              <a:ext cx="7560" cy="6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rot="16200000">
              <a:off x="4765680" y="1762560"/>
              <a:ext cx="9720" cy="37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rot="16200000">
              <a:off x="4687560" y="1816560"/>
              <a:ext cx="226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rot="16200000">
              <a:off x="4841280" y="1672200"/>
              <a:ext cx="53280" cy="78480"/>
            </a:xfrm>
            <a:custGeom>
              <a:avLst/>
              <a:gdLst>
                <a:gd name="textAreaLeft" fmla="*/ 2520 w 53280"/>
                <a:gd name="textAreaRight" fmla="*/ 50760 w 53280"/>
                <a:gd name="textAreaTop" fmla="*/ 2520 h 78480"/>
                <a:gd name="textAreaBottom" fmla="*/ 75960 h 78480"/>
              </a:gdLst>
              <a:ahLst/>
              <a:rect l="textAreaLeft" t="textAreaTop" r="textAreaRight" b="textAreaBottom"/>
              <a:pathLst>
                <a:path w="21600" h="31748">
                  <a:moveTo>
                    <a:pt x="3600" y="0"/>
                  </a:moveTo>
                  <a:arcTo wR="3600" hR="3600" stAng="16200000" swAng="-5400000"/>
                  <a:lnTo>
                    <a:pt x="0" y="28148"/>
                  </a:lnTo>
                  <a:arcTo wR="3600" hR="3600" stAng="10800000" swAng="-5400000"/>
                  <a:lnTo>
                    <a:pt x="18000" y="317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rot="16200000">
              <a:off x="4850640" y="1681920"/>
              <a:ext cx="32760" cy="48960"/>
            </a:xfrm>
            <a:custGeom>
              <a:avLst/>
              <a:gdLst>
                <a:gd name="textAreaLeft" fmla="*/ 1440 w 32760"/>
                <a:gd name="textAreaRight" fmla="*/ 31320 w 32760"/>
                <a:gd name="textAreaTop" fmla="*/ 1440 h 48960"/>
                <a:gd name="textAreaBottom" fmla="*/ 47520 h 48960"/>
              </a:gdLst>
              <a:ahLst/>
              <a:rect l="textAreaLeft" t="textAreaTop" r="textAreaRight" b="textAreaBottom"/>
              <a:pathLst>
                <a:path w="21600" h="32165">
                  <a:moveTo>
                    <a:pt x="3600" y="0"/>
                  </a:moveTo>
                  <a:arcTo wR="3600" hR="3600" stAng="16200000" swAng="-5400000"/>
                  <a:lnTo>
                    <a:pt x="0" y="28565"/>
                  </a:lnTo>
                  <a:arcTo wR="3600" hR="3600" stAng="10800000" swAng="-5400000"/>
                  <a:lnTo>
                    <a:pt x="18000" y="321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rot="16200000">
              <a:off x="4865040" y="1627920"/>
              <a:ext cx="11880" cy="109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rot="16200000">
              <a:off x="4851000" y="1715760"/>
              <a:ext cx="36000" cy="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4835520" y="1693440"/>
              <a:ext cx="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899960" y="169812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rot="16200000">
              <a:off x="4654080" y="1911600"/>
              <a:ext cx="259560" cy="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t" vert="eaVer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rot="16200000">
              <a:off x="4735440" y="1752840"/>
              <a:ext cx="270720" cy="12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rot="16200000">
              <a:off x="4840200" y="1898280"/>
              <a:ext cx="61920" cy="19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3" name=""/>
          <p:cNvSpPr/>
          <p:nvPr/>
        </p:nvSpPr>
        <p:spPr>
          <a:xfrm>
            <a:off x="9699480" y="4248000"/>
            <a:ext cx="59040" cy="889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186080" y="198108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20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4657680" y="2404800"/>
            <a:ext cx="360360" cy="603000"/>
            <a:chOff x="4657680" y="2404800"/>
            <a:chExt cx="360360" cy="603000"/>
          </a:xfrm>
        </p:grpSpPr>
        <p:sp>
          <p:nvSpPr>
            <p:cNvPr id="1116" name=""/>
            <p:cNvSpPr/>
            <p:nvPr/>
          </p:nvSpPr>
          <p:spPr>
            <a:xfrm rot="16200000">
              <a:off x="4740480" y="2533680"/>
              <a:ext cx="270000" cy="12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16200000">
              <a:off x="4860720" y="2626920"/>
              <a:ext cx="162000" cy="4932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rot="16200000">
              <a:off x="4903200" y="2745360"/>
              <a:ext cx="20520" cy="16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rot="16200000">
              <a:off x="4902120" y="2541240"/>
              <a:ext cx="20160" cy="16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rot="16200000">
              <a:off x="4746600" y="2567520"/>
              <a:ext cx="186840" cy="165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rot="16200000">
              <a:off x="4630680" y="2640600"/>
              <a:ext cx="204480" cy="18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rot="16200000">
              <a:off x="4772880" y="2748600"/>
              <a:ext cx="36000" cy="46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16200000">
              <a:off x="4871520" y="2576880"/>
              <a:ext cx="50760" cy="10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897800" y="260784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rot="16200000">
              <a:off x="4861080" y="2543400"/>
              <a:ext cx="8280" cy="15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rot="16200000">
              <a:off x="4870440" y="2712960"/>
              <a:ext cx="51840" cy="9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892760" y="2691720"/>
              <a:ext cx="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rot="16200000">
              <a:off x="4858920" y="2637720"/>
              <a:ext cx="34920" cy="24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rot="16200000">
              <a:off x="4800240" y="2675880"/>
              <a:ext cx="31320" cy="85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4783680" y="2627280"/>
              <a:ext cx="108360" cy="43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rot="16200000">
              <a:off x="4784760" y="2582280"/>
              <a:ext cx="18360" cy="43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4897080" y="2608200"/>
              <a:ext cx="0" cy="8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897440" y="265104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rot="16200000">
              <a:off x="4867920" y="2831400"/>
              <a:ext cx="64440" cy="19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4863960" y="2762280"/>
              <a:ext cx="24840" cy="13680"/>
              <a:chOff x="4863960" y="2762280"/>
              <a:chExt cx="24840" cy="13680"/>
            </a:xfrm>
          </p:grpSpPr>
          <p:sp>
            <p:nvSpPr>
              <p:cNvPr id="1136" name=""/>
              <p:cNvSpPr/>
              <p:nvPr/>
            </p:nvSpPr>
            <p:spPr>
              <a:xfrm rot="16200000">
                <a:off x="4869360" y="2756520"/>
                <a:ext cx="13680" cy="24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rot="16200000">
                <a:off x="4864680" y="2768040"/>
                <a:ext cx="324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rot="16200000">
                <a:off x="4884840" y="2768040"/>
                <a:ext cx="324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4862520" y="2434680"/>
              <a:ext cx="24840" cy="13680"/>
              <a:chOff x="4862520" y="2434680"/>
              <a:chExt cx="24840" cy="13680"/>
            </a:xfrm>
          </p:grpSpPr>
          <p:sp>
            <p:nvSpPr>
              <p:cNvPr id="1140" name=""/>
              <p:cNvSpPr/>
              <p:nvPr/>
            </p:nvSpPr>
            <p:spPr>
              <a:xfrm rot="16200000">
                <a:off x="4867920" y="2428920"/>
                <a:ext cx="13680" cy="24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rot="16200000">
                <a:off x="4863240" y="2440440"/>
                <a:ext cx="360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16200000">
                <a:off x="4883400" y="2440440"/>
                <a:ext cx="360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3" name=""/>
            <p:cNvSpPr/>
            <p:nvPr/>
          </p:nvSpPr>
          <p:spPr>
            <a:xfrm rot="16200000">
              <a:off x="4794840" y="2721600"/>
              <a:ext cx="161280" cy="12600"/>
            </a:xfrm>
            <a:custGeom>
              <a:avLst/>
              <a:gdLst/>
              <a:ahLst/>
              <a:rect l="l" t="t" r="r" b="b"/>
              <a:pathLst>
                <a:path w="1273" h="101">
                  <a:moveTo>
                    <a:pt x="1272" y="0"/>
                  </a:moveTo>
                  <a:lnTo>
                    <a:pt x="50" y="0"/>
                  </a:lnTo>
                  <a:lnTo>
                    <a:pt x="80" y="41"/>
                  </a:lnTo>
                  <a:lnTo>
                    <a:pt x="12" y="90"/>
                  </a:lnTo>
                  <a:lnTo>
                    <a:pt x="0" y="100"/>
                  </a:lnTo>
                  <a:lnTo>
                    <a:pt x="1200" y="100"/>
                  </a:lnTo>
                  <a:lnTo>
                    <a:pt x="1272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16200000">
              <a:off x="4854240" y="2264760"/>
              <a:ext cx="12240" cy="313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rot="16200000">
              <a:off x="4854240" y="2306520"/>
              <a:ext cx="13680" cy="313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rot="16200000">
              <a:off x="4534200" y="2792520"/>
              <a:ext cx="338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anchor="t" vert="eaVer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7" name=""/>
            <p:cNvGrpSpPr/>
            <p:nvPr/>
          </p:nvGrpSpPr>
          <p:grpSpPr>
            <a:xfrm>
              <a:off x="4862880" y="2842560"/>
              <a:ext cx="24840" cy="13680"/>
              <a:chOff x="4862880" y="2842560"/>
              <a:chExt cx="24840" cy="13680"/>
            </a:xfrm>
          </p:grpSpPr>
          <p:sp>
            <p:nvSpPr>
              <p:cNvPr id="1148" name=""/>
              <p:cNvSpPr/>
              <p:nvPr/>
            </p:nvSpPr>
            <p:spPr>
              <a:xfrm rot="16200000">
                <a:off x="4868280" y="2836800"/>
                <a:ext cx="13680" cy="24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16200000">
                <a:off x="4863600" y="2848320"/>
                <a:ext cx="324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rot="16200000">
                <a:off x="4883760" y="2848320"/>
                <a:ext cx="3240" cy="28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1" name=""/>
            <p:cNvSpPr/>
            <p:nvPr/>
          </p:nvSpPr>
          <p:spPr>
            <a:xfrm rot="16200000">
              <a:off x="4847040" y="2831760"/>
              <a:ext cx="57240" cy="12600"/>
            </a:xfrm>
            <a:custGeom>
              <a:avLst/>
              <a:gdLst/>
              <a:ahLst/>
              <a:rect l="l" t="t" r="r" b="b"/>
              <a:pathLst>
                <a:path w="452" h="101">
                  <a:moveTo>
                    <a:pt x="430" y="0"/>
                  </a:moveTo>
                  <a:lnTo>
                    <a:pt x="451" y="39"/>
                  </a:lnTo>
                  <a:lnTo>
                    <a:pt x="448" y="41"/>
                  </a:lnTo>
                  <a:lnTo>
                    <a:pt x="361" y="100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43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rot="16200000">
              <a:off x="4923720" y="2619720"/>
              <a:ext cx="7560" cy="6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rot="16200000">
              <a:off x="4771440" y="2543760"/>
              <a:ext cx="9720" cy="37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rot="16200000">
              <a:off x="4845960" y="2453400"/>
              <a:ext cx="52920" cy="77760"/>
            </a:xfrm>
            <a:custGeom>
              <a:avLst/>
              <a:gdLst>
                <a:gd name="textAreaLeft" fmla="*/ 2520 w 52920"/>
                <a:gd name="textAreaRight" fmla="*/ 50400 w 52920"/>
                <a:gd name="textAreaTop" fmla="*/ 2520 h 77760"/>
                <a:gd name="textAreaBottom" fmla="*/ 75240 h 77760"/>
              </a:gdLst>
              <a:ahLst/>
              <a:rect l="textAreaLeft" t="textAreaTop" r="textAreaRight" b="textAreaBottom"/>
              <a:pathLst>
                <a:path w="21600" h="31670">
                  <a:moveTo>
                    <a:pt x="3600" y="0"/>
                  </a:moveTo>
                  <a:arcTo wR="3600" hR="3600" stAng="16200000" swAng="-5400000"/>
                  <a:lnTo>
                    <a:pt x="0" y="28070"/>
                  </a:lnTo>
                  <a:arcTo wR="3600" hR="3600" stAng="10800000" swAng="-5400000"/>
                  <a:lnTo>
                    <a:pt x="18000" y="316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rot="16200000">
              <a:off x="4855320" y="2463480"/>
              <a:ext cx="32400" cy="48240"/>
            </a:xfrm>
            <a:custGeom>
              <a:avLst/>
              <a:gdLst>
                <a:gd name="textAreaLeft" fmla="*/ 1440 w 32400"/>
                <a:gd name="textAreaRight" fmla="*/ 30960 w 32400"/>
                <a:gd name="textAreaTop" fmla="*/ 1440 h 48240"/>
                <a:gd name="textAreaBottom" fmla="*/ 46800 h 48240"/>
              </a:gdLst>
              <a:ahLst/>
              <a:rect l="textAreaLeft" t="textAreaTop" r="textAreaRight" b="textAreaBottom"/>
              <a:pathLst>
                <a:path w="21600" h="32044">
                  <a:moveTo>
                    <a:pt x="3600" y="0"/>
                  </a:moveTo>
                  <a:arcTo wR="3600" hR="3600" stAng="16200000" swAng="-5400000"/>
                  <a:lnTo>
                    <a:pt x="0" y="28444"/>
                  </a:lnTo>
                  <a:arcTo wR="3600" hR="3600" stAng="10800000" swAng="-5400000"/>
                  <a:lnTo>
                    <a:pt x="18000" y="320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rot="16200000">
              <a:off x="4869720" y="2409480"/>
              <a:ext cx="11880" cy="108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rot="16200000">
              <a:off x="4855680" y="2496600"/>
              <a:ext cx="36000" cy="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16200000">
              <a:off x="4848120" y="2507760"/>
              <a:ext cx="23400" cy="9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6200000">
              <a:off x="4875480" y="2508120"/>
              <a:ext cx="23400" cy="8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4840920" y="2474280"/>
              <a:ext cx="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904280" y="247932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rot="16200000">
              <a:off x="4740480" y="2533680"/>
              <a:ext cx="270000" cy="12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16200000">
              <a:off x="4845240" y="2679120"/>
              <a:ext cx="61920" cy="18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4449600" y="278136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20-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3987720" y="1541520"/>
            <a:ext cx="433440" cy="325440"/>
            <a:chOff x="3987720" y="1541520"/>
            <a:chExt cx="433440" cy="325440"/>
          </a:xfrm>
        </p:grpSpPr>
        <p:sp>
          <p:nvSpPr>
            <p:cNvPr id="1166" name=""/>
            <p:cNvSpPr/>
            <p:nvPr/>
          </p:nvSpPr>
          <p:spPr>
            <a:xfrm>
              <a:off x="4342680" y="1728360"/>
              <a:ext cx="30960" cy="43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rot="18480000">
              <a:off x="4323240" y="1688760"/>
              <a:ext cx="33480" cy="62280"/>
            </a:xfrm>
            <a:prstGeom prst="parallelogram">
              <a:avLst>
                <a:gd name="adj" fmla="val 59292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309560" y="1679400"/>
              <a:ext cx="26640" cy="23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346640" y="1737360"/>
              <a:ext cx="20880" cy="180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380840" y="1769040"/>
              <a:ext cx="23400" cy="9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373280" y="1687320"/>
              <a:ext cx="47880" cy="32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987720" y="1555560"/>
              <a:ext cx="126000" cy="219960"/>
            </a:xfrm>
            <a:custGeom>
              <a:avLst/>
              <a:gdLst>
                <a:gd name="textAreaLeft" fmla="*/ 6120 w 126000"/>
                <a:gd name="textAreaRight" fmla="*/ 119880 w 126000"/>
                <a:gd name="textAreaTop" fmla="*/ 6120 h 219960"/>
                <a:gd name="textAreaBottom" fmla="*/ 213840 h 219960"/>
              </a:gdLst>
              <a:ahLst/>
              <a:rect l="textAreaLeft" t="textAreaTop" r="textAreaRight" b="textAreaBottom"/>
              <a:pathLst>
                <a:path w="21600" h="37662">
                  <a:moveTo>
                    <a:pt x="3600" y="0"/>
                  </a:moveTo>
                  <a:arcTo wR="3600" hR="3600" stAng="16200000" swAng="-5400000"/>
                  <a:lnTo>
                    <a:pt x="0" y="34062"/>
                  </a:lnTo>
                  <a:arcTo wR="3600" hR="3600" stAng="10800000" swAng="-5400000"/>
                  <a:lnTo>
                    <a:pt x="18000" y="376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017960" y="1541520"/>
              <a:ext cx="69840" cy="85320"/>
            </a:xfrm>
            <a:custGeom>
              <a:avLst/>
              <a:gdLst>
                <a:gd name="textAreaLeft" fmla="*/ 3240 w 69840"/>
                <a:gd name="textAreaRight" fmla="*/ 66600 w 69840"/>
                <a:gd name="textAreaTop" fmla="*/ 3240 h 85320"/>
                <a:gd name="textAreaBottom" fmla="*/ 82080 h 85320"/>
              </a:gdLst>
              <a:ahLst/>
              <a:rect l="textAreaLeft" t="textAreaTop" r="textAreaRight" b="textAreaBottom"/>
              <a:pathLst>
                <a:path w="21600" h="26363">
                  <a:moveTo>
                    <a:pt x="3600" y="0"/>
                  </a:moveTo>
                  <a:arcTo wR="3600" hR="3600" stAng="16200000" swAng="-5400000"/>
                  <a:lnTo>
                    <a:pt x="0" y="22763"/>
                  </a:lnTo>
                  <a:arcTo wR="3600" hR="3600" stAng="10800000" swAng="-5400000"/>
                  <a:lnTo>
                    <a:pt x="18000" y="26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11840" y="1589400"/>
              <a:ext cx="78120" cy="163800"/>
            </a:xfrm>
            <a:custGeom>
              <a:avLst/>
              <a:gdLst>
                <a:gd name="textAreaLeft" fmla="*/ 3600 w 78120"/>
                <a:gd name="textAreaRight" fmla="*/ 74520 w 78120"/>
                <a:gd name="textAreaTop" fmla="*/ 3600 h 163800"/>
                <a:gd name="textAreaBottom" fmla="*/ 160200 h 163800"/>
              </a:gdLst>
              <a:ahLst/>
              <a:rect l="textAreaLeft" t="textAreaTop" r="textAreaRight" b="textAreaBottom"/>
              <a:pathLst>
                <a:path w="21600" h="45182">
                  <a:moveTo>
                    <a:pt x="3600" y="0"/>
                  </a:moveTo>
                  <a:arcTo wR="3600" hR="3600" stAng="16200000" swAng="-5400000"/>
                  <a:lnTo>
                    <a:pt x="0" y="41582"/>
                  </a:lnTo>
                  <a:arcTo wR="3600" hR="3600" stAng="10800000" swAng="-5400000"/>
                  <a:lnTo>
                    <a:pt x="18000" y="45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089960" y="1625040"/>
              <a:ext cx="278280" cy="226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091400" y="1626840"/>
              <a:ext cx="21240" cy="518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1567440"/>
              <a:ext cx="173880" cy="142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257360" y="1600200"/>
              <a:ext cx="22320" cy="74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74920" y="1590480"/>
              <a:ext cx="120600" cy="95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3999600" y="1641960"/>
              <a:ext cx="0" cy="7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3917520" y="182880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710880" y="242244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760920" y="2400480"/>
            <a:ext cx="0" cy="47124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3602160" y="1979280"/>
            <a:ext cx="320400" cy="444600"/>
            <a:chOff x="3602160" y="1979280"/>
            <a:chExt cx="320400" cy="444600"/>
          </a:xfrm>
        </p:grpSpPr>
        <p:sp>
          <p:nvSpPr>
            <p:cNvPr id="1185" name=""/>
            <p:cNvSpPr/>
            <p:nvPr/>
          </p:nvSpPr>
          <p:spPr>
            <a:xfrm rot="16200000">
              <a:off x="3771000" y="2046240"/>
              <a:ext cx="16920" cy="35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rot="16200000">
              <a:off x="3804840" y="1964520"/>
              <a:ext cx="19080" cy="615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rot="16200000">
              <a:off x="3646800" y="2166840"/>
              <a:ext cx="111240" cy="77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rot="16200000">
              <a:off x="3844080" y="2291760"/>
              <a:ext cx="69840" cy="85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rot="16200000">
              <a:off x="3763080" y="2163960"/>
              <a:ext cx="196200" cy="20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rot="16200000">
              <a:off x="3674880" y="2318760"/>
              <a:ext cx="16200" cy="52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rot="16200000">
              <a:off x="3648960" y="1999080"/>
              <a:ext cx="54720" cy="15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rot="16200000">
              <a:off x="3857040" y="2352240"/>
              <a:ext cx="45000" cy="86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rot="16200000">
              <a:off x="3643920" y="2193480"/>
              <a:ext cx="232200" cy="3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rot="16200000">
              <a:off x="3676320" y="2162880"/>
              <a:ext cx="165600" cy="84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16200000">
              <a:off x="3620160" y="2092320"/>
              <a:ext cx="59400" cy="38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rot="16200000">
              <a:off x="3715920" y="2337480"/>
              <a:ext cx="56880" cy="98640"/>
            </a:xfrm>
            <a:custGeom>
              <a:avLst/>
              <a:gdLst>
                <a:gd name="textAreaLeft" fmla="*/ 2520 w 56880"/>
                <a:gd name="textAreaRight" fmla="*/ 54360 w 56880"/>
                <a:gd name="textAreaTop" fmla="*/ 2520 h 98640"/>
                <a:gd name="textAreaBottom" fmla="*/ 96120 h 98640"/>
              </a:gdLst>
              <a:ahLst/>
              <a:rect l="textAreaLeft" t="textAreaTop" r="textAreaRight" b="textAreaBottom"/>
              <a:pathLst>
                <a:path w="21600" h="37358">
                  <a:moveTo>
                    <a:pt x="3600" y="0"/>
                  </a:moveTo>
                  <a:arcTo wR="3600" hR="3600" stAng="16200000" swAng="-5400000"/>
                  <a:lnTo>
                    <a:pt x="0" y="33758"/>
                  </a:lnTo>
                  <a:arcTo wR="3600" hR="3600" stAng="10800000" swAng="-5400000"/>
                  <a:lnTo>
                    <a:pt x="18000" y="373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16200000">
              <a:off x="3724920" y="2346840"/>
              <a:ext cx="22680" cy="81000"/>
            </a:xfrm>
            <a:custGeom>
              <a:avLst/>
              <a:gdLst>
                <a:gd name="textAreaLeft" fmla="*/ 1080 w 22680"/>
                <a:gd name="textAreaRight" fmla="*/ 21600 w 22680"/>
                <a:gd name="textAreaTop" fmla="*/ 1080 h 81000"/>
                <a:gd name="textAreaBottom" fmla="*/ 79920 h 81000"/>
              </a:gdLst>
              <a:ahLst/>
              <a:rect l="textAreaLeft" t="textAreaTop" r="textAreaRight" b="textAreaBottom"/>
              <a:pathLst>
                <a:path w="21600" h="76275">
                  <a:moveTo>
                    <a:pt x="3600" y="0"/>
                  </a:moveTo>
                  <a:arcTo wR="3600" hR="3600" stAng="16200000" swAng="-5400000"/>
                  <a:lnTo>
                    <a:pt x="0" y="72675"/>
                  </a:lnTo>
                  <a:arcTo wR="3600" hR="3600" stAng="10800000" swAng="-5400000"/>
                  <a:lnTo>
                    <a:pt x="18000" y="762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16200000">
              <a:off x="3674160" y="2288520"/>
              <a:ext cx="18000" cy="1576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rot="16200000">
              <a:off x="3673440" y="2326680"/>
              <a:ext cx="17640" cy="1602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rot="16200000">
              <a:off x="3695040" y="2355120"/>
              <a:ext cx="127800" cy="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rot="16200000">
              <a:off x="3738240" y="2349000"/>
              <a:ext cx="40320" cy="29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16200000">
              <a:off x="3730680" y="1971360"/>
              <a:ext cx="54000" cy="84960"/>
            </a:xfrm>
            <a:custGeom>
              <a:avLst/>
              <a:gdLst>
                <a:gd name="textAreaLeft" fmla="*/ 2520 w 54000"/>
                <a:gd name="textAreaRight" fmla="*/ 51480 w 54000"/>
                <a:gd name="textAreaTop" fmla="*/ 2520 h 84960"/>
                <a:gd name="textAreaBottom" fmla="*/ 82440 h 84960"/>
              </a:gdLst>
              <a:ahLst/>
              <a:rect l="textAreaLeft" t="textAreaTop" r="textAreaRight" b="textAreaBottom"/>
              <a:pathLst>
                <a:path w="21600" h="33902">
                  <a:moveTo>
                    <a:pt x="3600" y="0"/>
                  </a:moveTo>
                  <a:arcTo wR="3600" hR="3600" stAng="16200000" swAng="-5400000"/>
                  <a:lnTo>
                    <a:pt x="0" y="30302"/>
                  </a:lnTo>
                  <a:arcTo wR="3600" hR="3600" stAng="10800000" swAng="-5400000"/>
                  <a:lnTo>
                    <a:pt x="18000" y="339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rot="16200000">
              <a:off x="3736800" y="1977120"/>
              <a:ext cx="41040" cy="51120"/>
            </a:xfrm>
            <a:custGeom>
              <a:avLst/>
              <a:gdLst>
                <a:gd name="textAreaLeft" fmla="*/ 1800 w 41040"/>
                <a:gd name="textAreaRight" fmla="*/ 39240 w 41040"/>
                <a:gd name="textAreaTop" fmla="*/ 1800 h 51120"/>
                <a:gd name="textAreaBottom" fmla="*/ 49320 h 51120"/>
              </a:gdLst>
              <a:ahLst/>
              <a:rect l="textAreaLeft" t="textAreaTop" r="textAreaRight" b="textAreaBottom"/>
              <a:pathLst>
                <a:path w="21600" h="26859">
                  <a:moveTo>
                    <a:pt x="3600" y="0"/>
                  </a:moveTo>
                  <a:arcTo wR="3600" hR="3600" stAng="16200000" swAng="-5400000"/>
                  <a:lnTo>
                    <a:pt x="0" y="23259"/>
                  </a:lnTo>
                  <a:arcTo wR="3600" hR="3600" stAng="10800000" swAng="-5400000"/>
                  <a:lnTo>
                    <a:pt x="18000" y="268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rot="16200000">
              <a:off x="3740760" y="1951920"/>
              <a:ext cx="11520" cy="7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16200000">
              <a:off x="3787200" y="1983960"/>
              <a:ext cx="16920" cy="22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rot="16200000">
              <a:off x="3702240" y="2050560"/>
              <a:ext cx="115200" cy="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16200000">
              <a:off x="3740040" y="2069280"/>
              <a:ext cx="40320" cy="29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rot="16200000">
              <a:off x="3683160" y="2375280"/>
              <a:ext cx="2088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3755880" y="1638360"/>
            <a:ext cx="0" cy="37620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851200" y="2440080"/>
            <a:ext cx="51912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3367080" y="2349000"/>
            <a:ext cx="0" cy="9396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062160" y="119700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 150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2859120" y="2344320"/>
            <a:ext cx="0" cy="9540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2661840" y="1871640"/>
            <a:ext cx="363240" cy="482400"/>
            <a:chOff x="2661840" y="1871640"/>
            <a:chExt cx="363240" cy="482400"/>
          </a:xfrm>
        </p:grpSpPr>
        <p:sp>
          <p:nvSpPr>
            <p:cNvPr id="1215" name=""/>
            <p:cNvSpPr/>
            <p:nvPr/>
          </p:nvSpPr>
          <p:spPr>
            <a:xfrm rot="5400000">
              <a:off x="2836440" y="1906920"/>
              <a:ext cx="41400" cy="176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rot="5400000">
              <a:off x="2795400" y="2025000"/>
              <a:ext cx="121320" cy="177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723040" y="2049840"/>
              <a:ext cx="267120" cy="40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rot="5400000">
              <a:off x="2963160" y="2226960"/>
              <a:ext cx="20520" cy="66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rot="5400000">
              <a:off x="2554560" y="2117880"/>
              <a:ext cx="330840" cy="26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2765880" y="2255760"/>
              <a:ext cx="27360" cy="46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5400000">
              <a:off x="2957040" y="2129760"/>
              <a:ext cx="46080" cy="51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rot="5400000">
              <a:off x="2815200" y="1881000"/>
              <a:ext cx="45000" cy="40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5400000">
              <a:off x="2837520" y="1702080"/>
              <a:ext cx="10440" cy="361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rot="5400000">
              <a:off x="2933640" y="1832040"/>
              <a:ext cx="9360" cy="173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rot="5400000">
              <a:off x="2828520" y="1887840"/>
              <a:ext cx="26280" cy="25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5400000">
              <a:off x="2816280" y="1906200"/>
              <a:ext cx="80640" cy="11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rot="5400000">
              <a:off x="2815560" y="2275560"/>
              <a:ext cx="44280" cy="40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rot="5400000">
              <a:off x="2859480" y="2159640"/>
              <a:ext cx="10440" cy="308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5400000">
              <a:off x="2931840" y="2194200"/>
              <a:ext cx="9360" cy="168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5400000">
              <a:off x="2829960" y="2283120"/>
              <a:ext cx="26280" cy="24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rot="5400000">
              <a:off x="2859480" y="2187360"/>
              <a:ext cx="10440" cy="308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5400000">
              <a:off x="2773440" y="2265120"/>
              <a:ext cx="166680" cy="11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5400000">
              <a:off x="2819880" y="1878840"/>
              <a:ext cx="8640" cy="11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rot="5400000">
              <a:off x="2848320" y="1893240"/>
              <a:ext cx="23760" cy="230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rot="5400000">
              <a:off x="2845800" y="2221200"/>
              <a:ext cx="24840" cy="230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5400000">
              <a:off x="2704320" y="1870560"/>
              <a:ext cx="14040" cy="61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5400000">
              <a:off x="2819520" y="2307240"/>
              <a:ext cx="9360" cy="11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8" name=""/>
          <p:cNvSpPr/>
          <p:nvPr/>
        </p:nvSpPr>
        <p:spPr>
          <a:xfrm>
            <a:off x="2485800" y="119700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50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9312120" y="1636560"/>
            <a:ext cx="42408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9280440" y="1630440"/>
            <a:ext cx="324000" cy="475920"/>
            <a:chOff x="9280440" y="1630440"/>
            <a:chExt cx="324000" cy="475920"/>
          </a:xfrm>
        </p:grpSpPr>
        <p:sp>
          <p:nvSpPr>
            <p:cNvPr id="1241" name=""/>
            <p:cNvSpPr/>
            <p:nvPr/>
          </p:nvSpPr>
          <p:spPr>
            <a:xfrm rot="5400000">
              <a:off x="9434880" y="1475640"/>
              <a:ext cx="14760" cy="324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rot="5400000">
              <a:off x="9409320" y="1623600"/>
              <a:ext cx="51840" cy="66240"/>
            </a:xfrm>
            <a:prstGeom prst="flowChartAlternateProcess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9421920" y="1636200"/>
              <a:ext cx="23760" cy="41760"/>
            </a:xfrm>
            <a:custGeom>
              <a:avLst/>
              <a:gdLst>
                <a:gd name="textAreaLeft" fmla="*/ 1080 w 23760"/>
                <a:gd name="textAreaRight" fmla="*/ 22680 w 23760"/>
                <a:gd name="textAreaTop" fmla="*/ 1080 h 41760"/>
                <a:gd name="textAreaBottom" fmla="*/ 40680 h 41760"/>
              </a:gdLst>
              <a:ahLst/>
              <a:rect l="textAreaLeft" t="textAreaTop" r="textAreaRight" b="textAreaBottom"/>
              <a:pathLst>
                <a:path w="21600" h="37719">
                  <a:moveTo>
                    <a:pt x="3600" y="0"/>
                  </a:moveTo>
                  <a:arcTo wR="3600" hR="3600" stAng="16200000" swAng="-5400000"/>
                  <a:lnTo>
                    <a:pt x="0" y="34119"/>
                  </a:lnTo>
                  <a:arcTo wR="3600" hR="3600" stAng="10800000" swAng="-5400000"/>
                  <a:lnTo>
                    <a:pt x="18000" y="377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rot="5400000">
              <a:off x="9416520" y="1588320"/>
              <a:ext cx="12600" cy="98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9461520" y="163692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9409320" y="1644480"/>
              <a:ext cx="0" cy="2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7" name=""/>
            <p:cNvGrpSpPr/>
            <p:nvPr/>
          </p:nvGrpSpPr>
          <p:grpSpPr>
            <a:xfrm>
              <a:off x="9421560" y="1749240"/>
              <a:ext cx="22680" cy="318240"/>
              <a:chOff x="9421560" y="1749240"/>
              <a:chExt cx="22680" cy="318240"/>
            </a:xfrm>
          </p:grpSpPr>
          <p:sp>
            <p:nvSpPr>
              <p:cNvPr id="1248" name=""/>
              <p:cNvSpPr/>
              <p:nvPr/>
            </p:nvSpPr>
            <p:spPr>
              <a:xfrm rot="5400000">
                <a:off x="9426960" y="1744560"/>
                <a:ext cx="12600" cy="216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rot="5400000">
                <a:off x="9441000" y="1754280"/>
                <a:ext cx="1080" cy="14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rot="5400000">
                <a:off x="9424440" y="1754280"/>
                <a:ext cx="1080" cy="14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rot="5400000">
                <a:off x="9426240" y="2050200"/>
                <a:ext cx="12600" cy="219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rot="5400000">
                <a:off x="9439920" y="2060280"/>
                <a:ext cx="1080" cy="14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rot="5400000">
                <a:off x="9423720" y="2060280"/>
                <a:ext cx="1080" cy="14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4" name=""/>
            <p:cNvSpPr/>
            <p:nvPr/>
          </p:nvSpPr>
          <p:spPr>
            <a:xfrm rot="5400000">
              <a:off x="9405720" y="1688040"/>
              <a:ext cx="54720" cy="48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5400000">
              <a:off x="9411120" y="2070360"/>
              <a:ext cx="8640" cy="32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5400000">
              <a:off x="9370800" y="2063160"/>
              <a:ext cx="65520" cy="20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5400000">
              <a:off x="9402480" y="2007720"/>
              <a:ext cx="9720" cy="9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4560" bIns="-345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rot="5400000">
              <a:off x="9374400" y="1838160"/>
              <a:ext cx="212400" cy="149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rot="5400000">
              <a:off x="9362160" y="1976040"/>
              <a:ext cx="78480" cy="8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rot="5400000">
              <a:off x="9410040" y="1897560"/>
              <a:ext cx="47520" cy="2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5400000">
              <a:off x="9366120" y="1824120"/>
              <a:ext cx="37800" cy="27720"/>
            </a:xfrm>
            <a:custGeom>
              <a:avLst/>
              <a:gdLst/>
              <a:ahLst/>
              <a:rect l="l" t="t" r="r" b="b"/>
              <a:pathLst>
                <a:path w="299" h="220">
                  <a:moveTo>
                    <a:pt x="0" y="5"/>
                  </a:moveTo>
                  <a:lnTo>
                    <a:pt x="0" y="219"/>
                  </a:lnTo>
                  <a:lnTo>
                    <a:pt x="298" y="219"/>
                  </a:lnTo>
                  <a:lnTo>
                    <a:pt x="292" y="127"/>
                  </a:lnTo>
                  <a:lnTo>
                    <a:pt x="78" y="127"/>
                  </a:lnTo>
                  <a:lnTo>
                    <a:pt x="78" y="0"/>
                  </a:lnTo>
                  <a:lnTo>
                    <a:pt x="0" y="5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rot="5400000">
              <a:off x="9362880" y="1841400"/>
              <a:ext cx="77400" cy="8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5400000">
              <a:off x="9364320" y="1851480"/>
              <a:ext cx="23760" cy="30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rot="5400000">
              <a:off x="9510480" y="1942560"/>
              <a:ext cx="21240" cy="136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rot="5400000">
              <a:off x="9398880" y="1890720"/>
              <a:ext cx="9720" cy="9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4560" bIns="-345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rot="5400000">
              <a:off x="9498240" y="1745280"/>
              <a:ext cx="56520" cy="57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rot="5400000">
              <a:off x="9402480" y="1722240"/>
              <a:ext cx="9720" cy="9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4560" bIns="-345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5400000">
              <a:off x="9203400" y="1860120"/>
              <a:ext cx="459000" cy="7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5400000">
              <a:off x="9405720" y="1962000"/>
              <a:ext cx="55800" cy="23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5400000">
              <a:off x="9309960" y="1726920"/>
              <a:ext cx="69120" cy="21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1" name=""/>
          <p:cNvSpPr/>
          <p:nvPr/>
        </p:nvSpPr>
        <p:spPr>
          <a:xfrm flipH="1">
            <a:off x="3094200" y="2863800"/>
            <a:ext cx="66024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3102120" y="2438280"/>
            <a:ext cx="0" cy="42552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2854440" y="1684440"/>
            <a:ext cx="0" cy="18720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3365640" y="1684440"/>
            <a:ext cx="0" cy="23472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2854440" y="1684440"/>
            <a:ext cx="51912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3179880" y="1889280"/>
            <a:ext cx="328320" cy="452160"/>
            <a:chOff x="3179880" y="1889280"/>
            <a:chExt cx="328320" cy="452160"/>
          </a:xfrm>
        </p:grpSpPr>
        <p:sp>
          <p:nvSpPr>
            <p:cNvPr id="1277" name=""/>
            <p:cNvSpPr/>
            <p:nvPr/>
          </p:nvSpPr>
          <p:spPr>
            <a:xfrm rot="5400000">
              <a:off x="3336840" y="2161080"/>
              <a:ext cx="14400" cy="32832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8" name=""/>
            <p:cNvGrpSpPr/>
            <p:nvPr/>
          </p:nvGrpSpPr>
          <p:grpSpPr>
            <a:xfrm>
              <a:off x="3189600" y="1889280"/>
              <a:ext cx="279360" cy="452160"/>
              <a:chOff x="3189600" y="1889280"/>
              <a:chExt cx="279360" cy="452160"/>
            </a:xfrm>
          </p:grpSpPr>
          <p:sp>
            <p:nvSpPr>
              <p:cNvPr id="1279" name=""/>
              <p:cNvSpPr/>
              <p:nvPr/>
            </p:nvSpPr>
            <p:spPr>
              <a:xfrm rot="5400000">
                <a:off x="3290040" y="1797480"/>
                <a:ext cx="14400" cy="21528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5400000">
                <a:off x="3382560" y="1981800"/>
                <a:ext cx="63720" cy="80640"/>
              </a:xfrm>
              <a:prstGeom prst="rect">
                <a:avLst/>
              </a:prstGeom>
              <a:solidFill>
                <a:srgbClr val="00cc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5400000">
                <a:off x="3350520" y="2103480"/>
                <a:ext cx="117720" cy="90360"/>
              </a:xfrm>
              <a:prstGeom prst="rect">
                <a:avLst/>
              </a:prstGeom>
              <a:solidFill>
                <a:srgbClr val="00cc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5400000">
                <a:off x="3237840" y="2084760"/>
                <a:ext cx="258480" cy="40320"/>
              </a:xfrm>
              <a:prstGeom prst="rect">
                <a:avLst/>
              </a:prstGeom>
              <a:solidFill>
                <a:srgbClr val="00cc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rot="5400000">
                <a:off x="3276720" y="1906200"/>
                <a:ext cx="5760" cy="67680"/>
              </a:xfrm>
              <a:prstGeom prst="downArrow">
                <a:avLst>
                  <a:gd name="adj1" fmla="val 50000"/>
                  <a:gd name="adj2" fmla="val 293750"/>
                </a:avLst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5400000">
                <a:off x="3085920" y="2100600"/>
                <a:ext cx="251640" cy="25200"/>
              </a:xfrm>
              <a:prstGeom prst="rect">
                <a:avLst/>
              </a:prstGeom>
              <a:solidFill>
                <a:srgbClr val="00cc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5400000">
                <a:off x="3429360" y="2220840"/>
                <a:ext cx="36000" cy="43200"/>
              </a:xfrm>
              <a:prstGeom prst="rect">
                <a:avLst/>
              </a:prstGeom>
              <a:solidFill>
                <a:srgbClr val="00cc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5400000">
                <a:off x="3289320" y="1833120"/>
                <a:ext cx="15480" cy="21528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5400000">
                <a:off x="3371400" y="1889280"/>
                <a:ext cx="51840" cy="66600"/>
              </a:xfrm>
              <a:custGeom>
                <a:avLst/>
                <a:gdLst>
                  <a:gd name="textAreaLeft" fmla="*/ 2520 w 51840"/>
                  <a:gd name="textAreaRight" fmla="*/ 49320 w 51840"/>
                  <a:gd name="textAreaTop" fmla="*/ 2520 h 66600"/>
                  <a:gd name="textAreaBottom" fmla="*/ 64080 h 66600"/>
                </a:gdLst>
                <a:ahLst/>
                <a:rect l="textAreaLeft" t="textAreaTop" r="textAreaRight" b="textAreaBottom"/>
                <a:pathLst>
                  <a:path w="21600" h="27708">
                    <a:moveTo>
                      <a:pt x="3600" y="0"/>
                    </a:moveTo>
                    <a:arcTo wR="3600" hR="3600" stAng="16200000" swAng="-5400000"/>
                    <a:lnTo>
                      <a:pt x="0" y="24108"/>
                    </a:lnTo>
                    <a:arcTo wR="3600" hR="3600" stAng="10800000" swAng="-5400000"/>
                    <a:lnTo>
                      <a:pt x="18000" y="2770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rot="5400000">
                <a:off x="3379680" y="1897920"/>
                <a:ext cx="22680" cy="50040"/>
              </a:xfrm>
              <a:custGeom>
                <a:avLst/>
                <a:gdLst>
                  <a:gd name="textAreaLeft" fmla="*/ 1080 w 22680"/>
                  <a:gd name="textAreaRight" fmla="*/ 21600 w 22680"/>
                  <a:gd name="textAreaTop" fmla="*/ 1080 h 50040"/>
                  <a:gd name="textAreaBottom" fmla="*/ 48960 h 50040"/>
                </a:gdLst>
                <a:ahLst/>
                <a:rect l="textAreaLeft" t="textAreaTop" r="textAreaRight" b="textAreaBottom"/>
                <a:pathLst>
                  <a:path w="21600" h="47250">
                    <a:moveTo>
                      <a:pt x="3600" y="0"/>
                    </a:moveTo>
                    <a:arcTo wR="3600" hR="3600" stAng="16200000" swAng="-5400000"/>
                    <a:lnTo>
                      <a:pt x="0" y="43650"/>
                    </a:lnTo>
                    <a:arcTo wR="3600" hR="3600" stAng="10800000" swAng="-5400000"/>
                    <a:lnTo>
                      <a:pt x="18000" y="472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rot="5400000">
                <a:off x="3362040" y="1896120"/>
                <a:ext cx="47160" cy="111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rot="5400000">
                <a:off x="3294720" y="2179440"/>
                <a:ext cx="14400" cy="21636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rot="5400000">
                <a:off x="3373560" y="2271240"/>
                <a:ext cx="50760" cy="69480"/>
              </a:xfrm>
              <a:custGeom>
                <a:avLst/>
                <a:gdLst>
                  <a:gd name="textAreaLeft" fmla="*/ 2160 w 50760"/>
                  <a:gd name="textAreaRight" fmla="*/ 48600 w 50760"/>
                  <a:gd name="textAreaTop" fmla="*/ 2160 h 69480"/>
                  <a:gd name="textAreaBottom" fmla="*/ 67320 h 69480"/>
                </a:gdLst>
                <a:ahLst/>
                <a:rect l="textAreaLeft" t="textAreaTop" r="textAreaRight" b="textAreaBottom"/>
                <a:pathLst>
                  <a:path w="21600" h="29510">
                    <a:moveTo>
                      <a:pt x="3600" y="0"/>
                    </a:moveTo>
                    <a:arcTo wR="3600" hR="3600" stAng="16200000" swAng="-5400000"/>
                    <a:lnTo>
                      <a:pt x="0" y="25910"/>
                    </a:lnTo>
                    <a:arcTo wR="3600" hR="3600" stAng="10800000" swAng="-5400000"/>
                    <a:lnTo>
                      <a:pt x="18000" y="295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5400000">
                <a:off x="3382560" y="2278440"/>
                <a:ext cx="21600" cy="55080"/>
              </a:xfrm>
              <a:custGeom>
                <a:avLst/>
                <a:gdLst>
                  <a:gd name="textAreaLeft" fmla="*/ 720 w 21600"/>
                  <a:gd name="textAreaRight" fmla="*/ 20880 w 21600"/>
                  <a:gd name="textAreaTop" fmla="*/ 720 h 55080"/>
                  <a:gd name="textAreaBottom" fmla="*/ 54360 h 55080"/>
                </a:gdLst>
                <a:ahLst/>
                <a:rect l="textAreaLeft" t="textAreaTop" r="textAreaRight" b="textAreaBottom"/>
                <a:pathLst>
                  <a:path w="21600" h="54531">
                    <a:moveTo>
                      <a:pt x="3600" y="0"/>
                    </a:moveTo>
                    <a:arcTo wR="3600" hR="3600" stAng="16200000" swAng="-5400000"/>
                    <a:lnTo>
                      <a:pt x="0" y="50931"/>
                    </a:lnTo>
                    <a:arcTo wR="3600" hR="3600" stAng="10800000" swAng="-5400000"/>
                    <a:lnTo>
                      <a:pt x="18000" y="5453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5400000">
                <a:off x="3141720" y="2111040"/>
                <a:ext cx="452160" cy="8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5400000">
                <a:off x="3328560" y="2110680"/>
                <a:ext cx="77400" cy="17280"/>
              </a:xfrm>
              <a:prstGeom prst="rect">
                <a:avLst/>
              </a:prstGeom>
              <a:solidFill>
                <a:srgbClr val="00cc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5" name=""/>
          <p:cNvSpPr/>
          <p:nvPr/>
        </p:nvSpPr>
        <p:spPr>
          <a:xfrm flipV="1">
            <a:off x="3090960" y="1588680"/>
            <a:ext cx="0" cy="9540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2052720" y="1589040"/>
            <a:ext cx="103824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052720" y="1589040"/>
            <a:ext cx="0" cy="9540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816200" y="1684440"/>
            <a:ext cx="51912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335320" y="1684440"/>
            <a:ext cx="0" cy="14112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rot="16200000">
            <a:off x="2343240" y="2176560"/>
            <a:ext cx="55440" cy="460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rot="16200000">
            <a:off x="2342160" y="2000520"/>
            <a:ext cx="57240" cy="460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rot="16200000">
            <a:off x="2380320" y="2043360"/>
            <a:ext cx="25560" cy="39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rot="16200000">
            <a:off x="2380320" y="1957680"/>
            <a:ext cx="25560" cy="39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rot="5400000">
            <a:off x="2288880" y="2286000"/>
            <a:ext cx="55800" cy="489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rot="5400000">
            <a:off x="2307600" y="2294640"/>
            <a:ext cx="31680" cy="30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rot="5400000">
            <a:off x="2343600" y="2177280"/>
            <a:ext cx="12600" cy="376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rot="5400000">
            <a:off x="2295360" y="2323800"/>
            <a:ext cx="11160" cy="14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16200000">
            <a:off x="2340720" y="2093040"/>
            <a:ext cx="63360" cy="4284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rot="16200000">
            <a:off x="2316960" y="2119680"/>
            <a:ext cx="36360" cy="795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16200000">
            <a:off x="2387520" y="2301480"/>
            <a:ext cx="52200" cy="331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 anchorCtr="1" vert="eaVert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rot="16200000">
            <a:off x="2447640" y="1944360"/>
            <a:ext cx="7920" cy="270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rot="16200000">
            <a:off x="2279520" y="2236680"/>
            <a:ext cx="20880" cy="144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rot="16200000">
            <a:off x="2277720" y="2152080"/>
            <a:ext cx="24120" cy="144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16200000">
            <a:off x="2278800" y="2061360"/>
            <a:ext cx="22320" cy="144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rot="16200000">
            <a:off x="2440800" y="1956600"/>
            <a:ext cx="20880" cy="316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rot="16200000">
            <a:off x="2412000" y="2378520"/>
            <a:ext cx="47520" cy="493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rot="16200000">
            <a:off x="2579400" y="2296440"/>
            <a:ext cx="79560" cy="828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rot="16200000">
            <a:off x="2614320" y="2385360"/>
            <a:ext cx="50760" cy="381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rot="16200000">
            <a:off x="2583360" y="2379960"/>
            <a:ext cx="42840" cy="540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 anchorCtr="1" vert="eaVert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rot="16200000">
            <a:off x="2611440" y="2325240"/>
            <a:ext cx="44280" cy="414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rot="14640000">
            <a:off x="2605320" y="2343240"/>
            <a:ext cx="9720" cy="270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rot="16200000">
            <a:off x="2317680" y="2028240"/>
            <a:ext cx="34920" cy="795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rot="16200000">
            <a:off x="2316600" y="2203920"/>
            <a:ext cx="36720" cy="795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rot="16200000">
            <a:off x="2319120" y="1942560"/>
            <a:ext cx="34920" cy="79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rot="16200000">
            <a:off x="2278080" y="1973160"/>
            <a:ext cx="22320" cy="158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rot="16200000">
            <a:off x="2175480" y="2088000"/>
            <a:ext cx="320760" cy="428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 anchorCtr="1" vert="eaVert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rot="16200000">
            <a:off x="2398680" y="2249280"/>
            <a:ext cx="11160" cy="140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rot="16200000">
            <a:off x="2381760" y="2135520"/>
            <a:ext cx="25560" cy="39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rot="16200000">
            <a:off x="2381040" y="2218680"/>
            <a:ext cx="27000" cy="39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6200000">
            <a:off x="2289960" y="2188440"/>
            <a:ext cx="22320" cy="17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rot="16200000">
            <a:off x="2290680" y="2098800"/>
            <a:ext cx="20880" cy="17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rot="16200000">
            <a:off x="2290680" y="2015640"/>
            <a:ext cx="20520" cy="17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rot="16200000">
            <a:off x="2425680" y="2387160"/>
            <a:ext cx="20520" cy="176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rot="16200000">
            <a:off x="2270880" y="2316600"/>
            <a:ext cx="128520" cy="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rot="16200000">
            <a:off x="2280240" y="2367360"/>
            <a:ext cx="20520" cy="633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rot="16200000">
            <a:off x="2605680" y="2221200"/>
            <a:ext cx="20520" cy="60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rot="16200000">
            <a:off x="2203200" y="1879200"/>
            <a:ext cx="63720" cy="190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rot="16200000">
            <a:off x="2281320" y="1871640"/>
            <a:ext cx="46080" cy="68400"/>
          </a:xfrm>
          <a:custGeom>
            <a:avLst/>
            <a:gdLst>
              <a:gd name="textAreaLeft" fmla="*/ 2160 w 46080"/>
              <a:gd name="textAreaRight" fmla="*/ 43920 w 46080"/>
              <a:gd name="textAreaTop" fmla="*/ 2160 h 68400"/>
              <a:gd name="textAreaBottom" fmla="*/ 66240 h 68400"/>
            </a:gdLst>
            <a:ahLst/>
            <a:rect l="textAreaLeft" t="textAreaTop" r="textAreaRight" b="textAreaBottom"/>
            <a:pathLst>
              <a:path w="21600" h="31981">
                <a:moveTo>
                  <a:pt x="3600" y="0"/>
                </a:moveTo>
                <a:arcTo wR="3600" hR="3600" stAng="16200000" swAng="-5400000"/>
                <a:lnTo>
                  <a:pt x="0" y="28381"/>
                </a:lnTo>
                <a:arcTo wR="3600" hR="3600" stAng="10800000" swAng="-5400000"/>
                <a:lnTo>
                  <a:pt x="18000" y="319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rot="16200000">
            <a:off x="2301120" y="1881720"/>
            <a:ext cx="19080" cy="49320"/>
          </a:xfrm>
          <a:custGeom>
            <a:avLst/>
            <a:gdLst>
              <a:gd name="textAreaLeft" fmla="*/ 720 w 19080"/>
              <a:gd name="textAreaRight" fmla="*/ 18360 w 19080"/>
              <a:gd name="textAreaTop" fmla="*/ 720 h 49320"/>
              <a:gd name="textAreaBottom" fmla="*/ 48600 h 49320"/>
            </a:gdLst>
            <a:ahLst/>
            <a:rect l="textAreaLeft" t="textAreaTop" r="textAreaRight" b="textAreaBottom"/>
            <a:pathLst>
              <a:path w="21600" h="55200">
                <a:moveTo>
                  <a:pt x="3600" y="0"/>
                </a:moveTo>
                <a:arcTo wR="3600" hR="3600" stAng="16200000" swAng="-5400000"/>
                <a:lnTo>
                  <a:pt x="0" y="51600"/>
                </a:lnTo>
                <a:arcTo wR="3600" hR="3600" stAng="10800000" swAng="-5400000"/>
                <a:lnTo>
                  <a:pt x="18000" y="55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rot="16200000">
            <a:off x="2282040" y="1839240"/>
            <a:ext cx="46080" cy="69840"/>
          </a:xfrm>
          <a:custGeom>
            <a:avLst/>
            <a:gdLst>
              <a:gd name="textAreaLeft" fmla="*/ 2160 w 46080"/>
              <a:gd name="textAreaRight" fmla="*/ 43920 w 46080"/>
              <a:gd name="textAreaTop" fmla="*/ 2160 h 69840"/>
              <a:gd name="textAreaBottom" fmla="*/ 67680 h 69840"/>
            </a:gdLst>
            <a:ahLst/>
            <a:rect l="textAreaLeft" t="textAreaTop" r="textAreaRight" b="textAreaBottom"/>
            <a:pathLst>
              <a:path w="21600" h="32651">
                <a:moveTo>
                  <a:pt x="3600" y="0"/>
                </a:moveTo>
                <a:arcTo wR="3600" hR="3600" stAng="16200000" swAng="-5400000"/>
                <a:lnTo>
                  <a:pt x="0" y="29051"/>
                </a:lnTo>
                <a:arcTo wR="3600" hR="3600" stAng="10800000" swAng="-5400000"/>
                <a:lnTo>
                  <a:pt x="18000" y="326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rot="16200000">
            <a:off x="2300760" y="1850040"/>
            <a:ext cx="20880" cy="50760"/>
          </a:xfrm>
          <a:custGeom>
            <a:avLst/>
            <a:gdLst>
              <a:gd name="textAreaLeft" fmla="*/ 720 w 20880"/>
              <a:gd name="textAreaRight" fmla="*/ 20160 w 20880"/>
              <a:gd name="textAreaTop" fmla="*/ 720 h 50760"/>
              <a:gd name="textAreaBottom" fmla="*/ 50040 h 50760"/>
            </a:gdLst>
            <a:ahLst/>
            <a:rect l="textAreaLeft" t="textAreaTop" r="textAreaRight" b="textAreaBottom"/>
            <a:pathLst>
              <a:path w="21600" h="51986">
                <a:moveTo>
                  <a:pt x="3600" y="0"/>
                </a:moveTo>
                <a:arcTo wR="3600" hR="3600" stAng="16200000" swAng="-5400000"/>
                <a:lnTo>
                  <a:pt x="0" y="48386"/>
                </a:lnTo>
                <a:arcTo wR="3600" hR="3600" stAng="10800000" swAng="-5400000"/>
                <a:lnTo>
                  <a:pt x="18000" y="519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rot="16200000">
            <a:off x="2270880" y="1879920"/>
            <a:ext cx="128520" cy="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rot="16200000">
            <a:off x="2262960" y="1886040"/>
            <a:ext cx="28440" cy="14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rot="16200000">
            <a:off x="2345400" y="2178720"/>
            <a:ext cx="390240" cy="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 anchorCtr="1" vert="eaVert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rot="16200000">
            <a:off x="2313720" y="1875600"/>
            <a:ext cx="38160" cy="30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 anchorCtr="1" vert="eaVert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rot="16200000">
            <a:off x="2319120" y="2318760"/>
            <a:ext cx="36360" cy="30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 anchorCtr="1" vert="eaVert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rot="16200000">
            <a:off x="2538360" y="2314080"/>
            <a:ext cx="49320" cy="176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944360" y="131292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60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816200" y="1684440"/>
            <a:ext cx="0" cy="18720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789200" y="2259000"/>
            <a:ext cx="58680" cy="63360"/>
          </a:xfrm>
          <a:custGeom>
            <a:avLst/>
            <a:gdLst>
              <a:gd name="textAreaLeft" fmla="*/ 2880 w 58680"/>
              <a:gd name="textAreaRight" fmla="*/ 55800 w 58680"/>
              <a:gd name="textAreaTop" fmla="*/ 2880 h 63360"/>
              <a:gd name="textAreaBottom" fmla="*/ 60480 h 63360"/>
            </a:gdLst>
            <a:ahLst/>
            <a:rect l="textAreaLeft" t="textAreaTop" r="textAreaRight" b="textAreaBottom"/>
            <a:pathLst>
              <a:path w="21600" h="23312">
                <a:moveTo>
                  <a:pt x="3600" y="0"/>
                </a:moveTo>
                <a:arcTo wR="3600" hR="3600" stAng="16200000" swAng="-5400000"/>
                <a:lnTo>
                  <a:pt x="0" y="19712"/>
                </a:lnTo>
                <a:arcTo wR="3600" hR="3600" stAng="10800000" swAng="-5400000"/>
                <a:lnTo>
                  <a:pt x="18000" y="233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1547280" y="2039760"/>
            <a:ext cx="235080" cy="336600"/>
            <a:chOff x="1547280" y="2039760"/>
            <a:chExt cx="235080" cy="336600"/>
          </a:xfrm>
        </p:grpSpPr>
        <p:sp>
          <p:nvSpPr>
            <p:cNvPr id="1352" name=""/>
            <p:cNvSpPr/>
            <p:nvPr/>
          </p:nvSpPr>
          <p:spPr>
            <a:xfrm rot="5400000">
              <a:off x="1736640" y="2141280"/>
              <a:ext cx="38160" cy="53280"/>
            </a:xfrm>
            <a:custGeom>
              <a:avLst/>
              <a:gdLst/>
              <a:ahLst/>
              <a:rect l="l" t="t" r="r" b="b"/>
              <a:pathLst>
                <a:path w="272" h="384">
                  <a:moveTo>
                    <a:pt x="0" y="8"/>
                  </a:moveTo>
                  <a:lnTo>
                    <a:pt x="0" y="312"/>
                  </a:lnTo>
                  <a:lnTo>
                    <a:pt x="64" y="384"/>
                  </a:lnTo>
                  <a:lnTo>
                    <a:pt x="272" y="384"/>
                  </a:lnTo>
                  <a:lnTo>
                    <a:pt x="264" y="272"/>
                  </a:lnTo>
                  <a:lnTo>
                    <a:pt x="104" y="272"/>
                  </a:lnTo>
                  <a:lnTo>
                    <a:pt x="10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rot="5400000">
              <a:off x="1425600" y="2161080"/>
              <a:ext cx="33660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vert="eaVert" rot="108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rot="5400000">
              <a:off x="1719000" y="2182680"/>
              <a:ext cx="41760" cy="34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Times New Roman"/>
                </a:rPr>
                <a:t>º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5" name=""/>
          <p:cNvGrpSpPr/>
          <p:nvPr/>
        </p:nvGrpSpPr>
        <p:grpSpPr>
          <a:xfrm>
            <a:off x="1644120" y="2039760"/>
            <a:ext cx="142920" cy="335160"/>
            <a:chOff x="1644120" y="2039760"/>
            <a:chExt cx="142920" cy="335160"/>
          </a:xfrm>
        </p:grpSpPr>
        <p:sp>
          <p:nvSpPr>
            <p:cNvPr id="1356" name=""/>
            <p:cNvSpPr/>
            <p:nvPr/>
          </p:nvSpPr>
          <p:spPr>
            <a:xfrm rot="5400000">
              <a:off x="1740600" y="2039040"/>
              <a:ext cx="38160" cy="54360"/>
            </a:xfrm>
            <a:custGeom>
              <a:avLst/>
              <a:gdLst/>
              <a:ahLst/>
              <a:rect l="l" t="t" r="r" b="b"/>
              <a:pathLst>
                <a:path w="272" h="384">
                  <a:moveTo>
                    <a:pt x="0" y="8"/>
                  </a:moveTo>
                  <a:lnTo>
                    <a:pt x="0" y="312"/>
                  </a:lnTo>
                  <a:lnTo>
                    <a:pt x="64" y="384"/>
                  </a:lnTo>
                  <a:lnTo>
                    <a:pt x="272" y="384"/>
                  </a:lnTo>
                  <a:lnTo>
                    <a:pt x="264" y="272"/>
                  </a:lnTo>
                  <a:lnTo>
                    <a:pt x="104" y="272"/>
                  </a:lnTo>
                  <a:lnTo>
                    <a:pt x="10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5400000">
              <a:off x="1523160" y="2160720"/>
              <a:ext cx="335160" cy="932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vert="eaVert" rot="108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5400000">
              <a:off x="1722960" y="2081160"/>
              <a:ext cx="41400" cy="349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Times New Roman"/>
                </a:rPr>
                <a:t>º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1773360" y="1998720"/>
            <a:ext cx="9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773360" y="2085840"/>
            <a:ext cx="9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16200000">
            <a:off x="1847160" y="1803960"/>
            <a:ext cx="11160" cy="12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rot="5400000">
            <a:off x="1783080" y="1939320"/>
            <a:ext cx="79560" cy="2988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t" anchorCtr="1" vert="eaVert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rot="5400000">
            <a:off x="1809720" y="2266920"/>
            <a:ext cx="14400" cy="10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816200" y="2297160"/>
            <a:ext cx="0" cy="18900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816200" y="2486160"/>
            <a:ext cx="51912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336760" y="2390760"/>
            <a:ext cx="0" cy="9540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306440" y="141300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 160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052720" y="2486160"/>
            <a:ext cx="0" cy="33012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>
            <a:off x="1438200" y="2816280"/>
            <a:ext cx="61776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434960" y="2438280"/>
            <a:ext cx="0" cy="37800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815040" y="220968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1438200" y="1730520"/>
            <a:ext cx="0" cy="14112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 flipV="1">
            <a:off x="1203480" y="1684440"/>
            <a:ext cx="234720" cy="4608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8160" y="177948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H="1">
            <a:off x="588960" y="1636560"/>
            <a:ext cx="42552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rot="6358800">
            <a:off x="1235520" y="1727640"/>
            <a:ext cx="32040" cy="428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203480" y="1679400"/>
            <a:ext cx="27000" cy="223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150920" y="1598760"/>
            <a:ext cx="22320" cy="745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068480" y="1590840"/>
            <a:ext cx="120600" cy="95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919080" y="1447920"/>
            <a:ext cx="401760" cy="323640"/>
            <a:chOff x="919080" y="1447920"/>
            <a:chExt cx="401760" cy="323640"/>
          </a:xfrm>
        </p:grpSpPr>
        <p:sp>
          <p:nvSpPr>
            <p:cNvPr id="1381" name=""/>
            <p:cNvSpPr/>
            <p:nvPr/>
          </p:nvSpPr>
          <p:spPr>
            <a:xfrm>
              <a:off x="919080" y="1499040"/>
              <a:ext cx="225360" cy="272520"/>
            </a:xfrm>
            <a:custGeom>
              <a:avLst/>
              <a:gdLst>
                <a:gd name="textAreaLeft" fmla="*/ 10800 w 225360"/>
                <a:gd name="textAreaRight" fmla="*/ 214560 w 225360"/>
                <a:gd name="textAreaTop" fmla="*/ 10800 h 272520"/>
                <a:gd name="textAreaBottom" fmla="*/ 261720 h 272520"/>
              </a:gdLst>
              <a:ahLst/>
              <a:rect l="textAreaLeft" t="textAreaTop" r="textAreaRight" b="textAreaBottom"/>
              <a:pathLst>
                <a:path w="21600" h="26113">
                  <a:moveTo>
                    <a:pt x="3600" y="0"/>
                  </a:moveTo>
                  <a:arcTo wR="3600" hR="3600" stAng="16200000" swAng="-5400000"/>
                  <a:lnTo>
                    <a:pt x="0" y="22513"/>
                  </a:lnTo>
                  <a:arcTo wR="3600" hR="3600" stAng="10800000" swAng="-5400000"/>
                  <a:lnTo>
                    <a:pt x="18000" y="261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18480000">
              <a:off x="1216080" y="1688040"/>
              <a:ext cx="33120" cy="62640"/>
            </a:xfrm>
            <a:prstGeom prst="parallelogram">
              <a:avLst>
                <a:gd name="adj" fmla="val 59292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240200" y="1736280"/>
              <a:ext cx="21600" cy="1728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272600" y="1629360"/>
              <a:ext cx="48240" cy="32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246680" y="1494000"/>
              <a:ext cx="23400" cy="99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939600" y="1515600"/>
              <a:ext cx="182880" cy="234360"/>
            </a:xfrm>
            <a:custGeom>
              <a:avLst/>
              <a:gdLst>
                <a:gd name="textAreaLeft" fmla="*/ 8640 w 182880"/>
                <a:gd name="textAreaRight" fmla="*/ 174240 w 182880"/>
                <a:gd name="textAreaTop" fmla="*/ 8640 h 234360"/>
                <a:gd name="textAreaBottom" fmla="*/ 225720 h 234360"/>
              </a:gdLst>
              <a:ahLst/>
              <a:rect l="textAreaLeft" t="textAreaTop" r="textAreaRight" b="textAreaBottom"/>
              <a:pathLst>
                <a:path w="21600" h="27668">
                  <a:moveTo>
                    <a:pt x="3600" y="0"/>
                  </a:moveTo>
                  <a:arcTo wR="3600" hR="3600" stAng="16200000" swAng="-5400000"/>
                  <a:lnTo>
                    <a:pt x="0" y="24068"/>
                  </a:lnTo>
                  <a:arcTo wR="3600" hR="3600" stAng="10800000" swAng="-5400000"/>
                  <a:lnTo>
                    <a:pt x="18000" y="276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041120" y="1567440"/>
              <a:ext cx="174240" cy="142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023120" y="1447920"/>
              <a:ext cx="12600" cy="109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186920" y="1447920"/>
              <a:ext cx="19800" cy="68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1014480" y="1479600"/>
            <a:ext cx="30240" cy="28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163440" y="2386080"/>
            <a:ext cx="493920" cy="357120"/>
            <a:chOff x="163440" y="2386080"/>
            <a:chExt cx="493920" cy="357120"/>
          </a:xfrm>
        </p:grpSpPr>
        <p:sp>
          <p:nvSpPr>
            <p:cNvPr id="1392" name=""/>
            <p:cNvSpPr/>
            <p:nvPr/>
          </p:nvSpPr>
          <p:spPr>
            <a:xfrm>
              <a:off x="199440" y="2613240"/>
              <a:ext cx="347760" cy="16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96920" y="2529720"/>
              <a:ext cx="425160" cy="15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4" name=""/>
            <p:cNvGrpSpPr/>
            <p:nvPr/>
          </p:nvGrpSpPr>
          <p:grpSpPr>
            <a:xfrm>
              <a:off x="163440" y="2415600"/>
              <a:ext cx="493920" cy="41040"/>
              <a:chOff x="163440" y="2415600"/>
              <a:chExt cx="493920" cy="41040"/>
            </a:xfrm>
          </p:grpSpPr>
          <p:sp>
            <p:nvSpPr>
              <p:cNvPr id="1395" name=""/>
              <p:cNvSpPr/>
              <p:nvPr/>
            </p:nvSpPr>
            <p:spPr>
              <a:xfrm>
                <a:off x="163440" y="2415600"/>
                <a:ext cx="493920" cy="410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170640" y="2435760"/>
                <a:ext cx="47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7" name=""/>
            <p:cNvSpPr/>
            <p:nvPr/>
          </p:nvSpPr>
          <p:spPr>
            <a:xfrm>
              <a:off x="194040" y="2388240"/>
              <a:ext cx="433440" cy="292320"/>
            </a:xfrm>
            <a:custGeom>
              <a:avLst/>
              <a:gdLst/>
              <a:ahLst/>
              <a:rect l="l" t="t" r="r" b="b"/>
              <a:pathLst>
                <a:path w="3394" h="2293">
                  <a:moveTo>
                    <a:pt x="696" y="833"/>
                  </a:moveTo>
                  <a:lnTo>
                    <a:pt x="0" y="834"/>
                  </a:lnTo>
                  <a:lnTo>
                    <a:pt x="0" y="2293"/>
                  </a:lnTo>
                  <a:lnTo>
                    <a:pt x="2038" y="2293"/>
                  </a:lnTo>
                  <a:lnTo>
                    <a:pt x="2038" y="2091"/>
                  </a:lnTo>
                  <a:lnTo>
                    <a:pt x="2794" y="2091"/>
                  </a:lnTo>
                  <a:lnTo>
                    <a:pt x="2794" y="1512"/>
                  </a:lnTo>
                  <a:lnTo>
                    <a:pt x="3394" y="1512"/>
                  </a:lnTo>
                  <a:lnTo>
                    <a:pt x="3394" y="810"/>
                  </a:lnTo>
                  <a:lnTo>
                    <a:pt x="2013" y="812"/>
                  </a:lnTo>
                  <a:lnTo>
                    <a:pt x="2014" y="0"/>
                  </a:lnTo>
                  <a:lnTo>
                    <a:pt x="694" y="0"/>
                  </a:lnTo>
                  <a:lnTo>
                    <a:pt x="696" y="83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22640" y="2511720"/>
              <a:ext cx="44280" cy="51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04120" y="2593800"/>
              <a:ext cx="54360" cy="5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6480" y="2593800"/>
              <a:ext cx="54360" cy="5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45960" y="2593800"/>
              <a:ext cx="54360" cy="5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17240" y="2593800"/>
              <a:ext cx="54360" cy="5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87080" y="2593800"/>
              <a:ext cx="54360" cy="5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58720" y="2509560"/>
              <a:ext cx="54360" cy="5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03760" y="2509560"/>
              <a:ext cx="54360" cy="5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76480" y="2509560"/>
              <a:ext cx="54360" cy="5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45960" y="2509560"/>
              <a:ext cx="54360" cy="5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87080" y="2509560"/>
              <a:ext cx="54360" cy="5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93320" y="2711520"/>
              <a:ext cx="231480" cy="31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0" name=""/>
            <p:cNvGrpSpPr/>
            <p:nvPr/>
          </p:nvGrpSpPr>
          <p:grpSpPr>
            <a:xfrm>
              <a:off x="413640" y="2509560"/>
              <a:ext cx="58320" cy="55800"/>
              <a:chOff x="413640" y="2509560"/>
              <a:chExt cx="58320" cy="55800"/>
            </a:xfrm>
          </p:grpSpPr>
          <p:sp>
            <p:nvSpPr>
              <p:cNvPr id="1411" name=""/>
              <p:cNvSpPr/>
              <p:nvPr/>
            </p:nvSpPr>
            <p:spPr>
              <a:xfrm>
                <a:off x="415440" y="2509560"/>
                <a:ext cx="54360" cy="558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13640" y="2515680"/>
                <a:ext cx="58320" cy="432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446040" y="2593800"/>
              <a:ext cx="58320" cy="55800"/>
              <a:chOff x="446040" y="2593800"/>
              <a:chExt cx="58320" cy="55800"/>
            </a:xfrm>
          </p:grpSpPr>
          <p:sp>
            <p:nvSpPr>
              <p:cNvPr id="1414" name=""/>
              <p:cNvSpPr/>
              <p:nvPr/>
            </p:nvSpPr>
            <p:spPr>
              <a:xfrm>
                <a:off x="447840" y="2593800"/>
                <a:ext cx="54360" cy="558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46040" y="2599920"/>
                <a:ext cx="58320" cy="432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6" name=""/>
            <p:cNvSpPr/>
            <p:nvPr/>
          </p:nvSpPr>
          <p:spPr>
            <a:xfrm>
              <a:off x="467280" y="2454480"/>
              <a:ext cx="3420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12400" y="2454480"/>
              <a:ext cx="3420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68800" y="2454480"/>
              <a:ext cx="3420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9" name=""/>
            <p:cNvGrpSpPr/>
            <p:nvPr/>
          </p:nvGrpSpPr>
          <p:grpSpPr>
            <a:xfrm>
              <a:off x="286560" y="2393640"/>
              <a:ext cx="34200" cy="15840"/>
              <a:chOff x="286560" y="2393640"/>
              <a:chExt cx="34200" cy="15840"/>
            </a:xfrm>
          </p:grpSpPr>
          <p:sp>
            <p:nvSpPr>
              <p:cNvPr id="1420" name=""/>
              <p:cNvSpPr/>
              <p:nvPr/>
            </p:nvSpPr>
            <p:spPr>
              <a:xfrm>
                <a:off x="286560" y="2393640"/>
                <a:ext cx="34200" cy="158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288720" y="2397960"/>
                <a:ext cx="6840" cy="68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11040" y="2397960"/>
                <a:ext cx="6840" cy="68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411120" y="2661480"/>
              <a:ext cx="34200" cy="15840"/>
              <a:chOff x="411120" y="2661480"/>
              <a:chExt cx="34200" cy="15840"/>
            </a:xfrm>
          </p:grpSpPr>
          <p:sp>
            <p:nvSpPr>
              <p:cNvPr id="1424" name=""/>
              <p:cNvSpPr/>
              <p:nvPr/>
            </p:nvSpPr>
            <p:spPr>
              <a:xfrm>
                <a:off x="411120" y="2661480"/>
                <a:ext cx="34200" cy="158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13280" y="2665800"/>
                <a:ext cx="6840" cy="68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35600" y="2665800"/>
                <a:ext cx="6840" cy="68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286560" y="2658960"/>
              <a:ext cx="34200" cy="15840"/>
              <a:chOff x="286560" y="2658960"/>
              <a:chExt cx="34200" cy="15840"/>
            </a:xfrm>
          </p:grpSpPr>
          <p:sp>
            <p:nvSpPr>
              <p:cNvPr id="1428" name=""/>
              <p:cNvSpPr/>
              <p:nvPr/>
            </p:nvSpPr>
            <p:spPr>
              <a:xfrm>
                <a:off x="286560" y="2658960"/>
                <a:ext cx="34200" cy="158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88720" y="2663280"/>
                <a:ext cx="6840" cy="68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11040" y="2663280"/>
                <a:ext cx="6840" cy="68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411120" y="2393640"/>
              <a:ext cx="34200" cy="15840"/>
              <a:chOff x="411120" y="2393640"/>
              <a:chExt cx="34200" cy="15840"/>
            </a:xfrm>
          </p:grpSpPr>
          <p:sp>
            <p:nvSpPr>
              <p:cNvPr id="1432" name=""/>
              <p:cNvSpPr/>
              <p:nvPr/>
            </p:nvSpPr>
            <p:spPr>
              <a:xfrm>
                <a:off x="411120" y="2393640"/>
                <a:ext cx="34200" cy="158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13280" y="2397960"/>
                <a:ext cx="6840" cy="68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435600" y="2397960"/>
                <a:ext cx="6840" cy="68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5" name=""/>
            <p:cNvSpPr/>
            <p:nvPr/>
          </p:nvSpPr>
          <p:spPr>
            <a:xfrm>
              <a:off x="423000" y="2386080"/>
              <a:ext cx="9720" cy="297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99160" y="2386080"/>
              <a:ext cx="9720" cy="295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96640" y="2480040"/>
              <a:ext cx="140040" cy="6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42720" y="2471760"/>
              <a:ext cx="45720" cy="24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27840" y="2571840"/>
              <a:ext cx="0" cy="11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168120" y="2494440"/>
              <a:ext cx="4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54320" y="2492280"/>
              <a:ext cx="6840" cy="8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54320" y="2651400"/>
              <a:ext cx="6840" cy="8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69280" y="2671200"/>
              <a:ext cx="6840" cy="8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69640" y="2494440"/>
              <a:ext cx="6840" cy="8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53600" y="2672280"/>
              <a:ext cx="6840" cy="8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96920" y="2709720"/>
              <a:ext cx="32760" cy="6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7" name=""/>
          <p:cNvSpPr/>
          <p:nvPr/>
        </p:nvSpPr>
        <p:spPr>
          <a:xfrm>
            <a:off x="388080" y="260820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2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rot="5400000">
            <a:off x="8787240" y="3834720"/>
            <a:ext cx="58680" cy="889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rot="5400000">
            <a:off x="8835480" y="4538520"/>
            <a:ext cx="57240" cy="889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9704520" y="3429000"/>
            <a:ext cx="58680" cy="889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9701280" y="2108160"/>
            <a:ext cx="57240" cy="889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rot="10800000">
            <a:off x="7542000" y="2296800"/>
            <a:ext cx="58680" cy="889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rot="10800000">
            <a:off x="7007040" y="2285640"/>
            <a:ext cx="58680" cy="8748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rot="10800000">
            <a:off x="4844520" y="2249280"/>
            <a:ext cx="57240" cy="889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rot="16200000">
            <a:off x="4506840" y="1591920"/>
            <a:ext cx="57240" cy="889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rot="10800000">
            <a:off x="3723840" y="1730160"/>
            <a:ext cx="57240" cy="889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rot="10800000">
            <a:off x="3727080" y="2633760"/>
            <a:ext cx="58680" cy="871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rot="16200000">
            <a:off x="3388680" y="2819880"/>
            <a:ext cx="58680" cy="889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070080" y="2627280"/>
            <a:ext cx="59040" cy="889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rot="16200000">
            <a:off x="2539080" y="1541880"/>
            <a:ext cx="58680" cy="889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rot="10800000">
            <a:off x="2025360" y="2674440"/>
            <a:ext cx="57240" cy="8748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rot="16200000">
            <a:off x="1689840" y="2769120"/>
            <a:ext cx="58680" cy="889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403280" y="2627280"/>
            <a:ext cx="58680" cy="889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4" name=""/>
          <p:cNvGrpSpPr/>
          <p:nvPr/>
        </p:nvGrpSpPr>
        <p:grpSpPr>
          <a:xfrm>
            <a:off x="1635120" y="1776240"/>
            <a:ext cx="353520" cy="544320"/>
            <a:chOff x="1635120" y="1776240"/>
            <a:chExt cx="353520" cy="544320"/>
          </a:xfrm>
        </p:grpSpPr>
        <p:sp>
          <p:nvSpPr>
            <p:cNvPr id="1465" name=""/>
            <p:cNvSpPr/>
            <p:nvPr/>
          </p:nvSpPr>
          <p:spPr>
            <a:xfrm>
              <a:off x="1773000" y="2243160"/>
              <a:ext cx="89640" cy="774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6" name=""/>
            <p:cNvGrpSpPr/>
            <p:nvPr/>
          </p:nvGrpSpPr>
          <p:grpSpPr>
            <a:xfrm>
              <a:off x="1655640" y="1915560"/>
              <a:ext cx="131040" cy="335160"/>
              <a:chOff x="1655640" y="1915560"/>
              <a:chExt cx="131040" cy="335160"/>
            </a:xfrm>
          </p:grpSpPr>
          <p:sp>
            <p:nvSpPr>
              <p:cNvPr id="1467" name=""/>
              <p:cNvSpPr/>
              <p:nvPr/>
            </p:nvSpPr>
            <p:spPr>
              <a:xfrm rot="5400000">
                <a:off x="1740600" y="1912320"/>
                <a:ext cx="38160" cy="54000"/>
              </a:xfrm>
              <a:custGeom>
                <a:avLst/>
                <a:gdLst/>
                <a:ahLst/>
                <a:rect l="l" t="t" r="r" b="b"/>
                <a:pathLst>
                  <a:path w="272" h="384">
                    <a:moveTo>
                      <a:pt x="0" y="8"/>
                    </a:moveTo>
                    <a:lnTo>
                      <a:pt x="0" y="312"/>
                    </a:lnTo>
                    <a:lnTo>
                      <a:pt x="64" y="384"/>
                    </a:lnTo>
                    <a:lnTo>
                      <a:pt x="272" y="384"/>
                    </a:lnTo>
                    <a:lnTo>
                      <a:pt x="264" y="272"/>
                    </a:lnTo>
                    <a:lnTo>
                      <a:pt x="104" y="272"/>
                    </a:lnTo>
                    <a:lnTo>
                      <a:pt x="10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rot="5400000">
                <a:off x="1534320" y="2036880"/>
                <a:ext cx="335160" cy="92520"/>
              </a:xfrm>
              <a:prstGeom prst="rect">
                <a:avLst/>
              </a:prstGeom>
              <a:solidFill>
                <a:srgbClr val="00cc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 vert="eaVert" rot="10800000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rot="5400000">
                <a:off x="1722600" y="1954080"/>
                <a:ext cx="41400" cy="34920"/>
              </a:xfrm>
              <a:prstGeom prst="rect">
                <a:avLst/>
              </a:prstGeom>
              <a:solidFill>
                <a:srgbClr val="00cc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600" spc="-1" strike="noStrike">
                    <a:solidFill>
                      <a:srgbClr val="000000"/>
                    </a:solidFill>
                    <a:latin typeface="Times New Roman"/>
                  </a:rPr>
                  <a:t>º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0" name=""/>
            <p:cNvSpPr/>
            <p:nvPr/>
          </p:nvSpPr>
          <p:spPr>
            <a:xfrm rot="5400000">
              <a:off x="1885320" y="2041560"/>
              <a:ext cx="33120" cy="705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rot="5400000">
              <a:off x="1950120" y="1887840"/>
              <a:ext cx="47160" cy="29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rot="5400000">
              <a:off x="1810080" y="2156400"/>
              <a:ext cx="20520" cy="954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rot="5400000">
              <a:off x="1881360" y="1857960"/>
              <a:ext cx="19440" cy="680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rot="5400000">
              <a:off x="1885680" y="2103120"/>
              <a:ext cx="32400" cy="705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rot="5400000">
              <a:off x="1885320" y="1916640"/>
              <a:ext cx="33120" cy="705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6200000">
              <a:off x="1814760" y="1805760"/>
              <a:ext cx="48960" cy="442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1820520" y="1814040"/>
              <a:ext cx="29160" cy="27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rot="16200000">
              <a:off x="1800360" y="1611000"/>
              <a:ext cx="11520" cy="3420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rot="5400000">
              <a:off x="1564560" y="2035800"/>
              <a:ext cx="513360" cy="1368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rot="5400000">
              <a:off x="1683000" y="1995120"/>
              <a:ext cx="274320" cy="954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rot="5400000">
              <a:off x="1885320" y="1978560"/>
              <a:ext cx="33120" cy="705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2" name=""/>
          <p:cNvSpPr/>
          <p:nvPr/>
        </p:nvSpPr>
        <p:spPr>
          <a:xfrm flipH="1" flipV="1" rot="5400000">
            <a:off x="1251000" y="2054160"/>
            <a:ext cx="7920" cy="79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rot="5400000">
            <a:off x="1321200" y="2151720"/>
            <a:ext cx="33120" cy="190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rot="5400000">
            <a:off x="1402920" y="2182680"/>
            <a:ext cx="63720" cy="6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rot="5400000">
            <a:off x="1420560" y="1965240"/>
            <a:ext cx="27000" cy="3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rot="5400000">
            <a:off x="1484280" y="2008080"/>
            <a:ext cx="30240" cy="237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 anchorCtr="1" vert="eaVert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7" name=""/>
          <p:cNvGrpSpPr/>
          <p:nvPr/>
        </p:nvGrpSpPr>
        <p:grpSpPr>
          <a:xfrm>
            <a:off x="1300320" y="2054160"/>
            <a:ext cx="47520" cy="69840"/>
            <a:chOff x="1300320" y="2054160"/>
            <a:chExt cx="47520" cy="69840"/>
          </a:xfrm>
        </p:grpSpPr>
        <p:sp>
          <p:nvSpPr>
            <p:cNvPr id="1488" name=""/>
            <p:cNvSpPr/>
            <p:nvPr/>
          </p:nvSpPr>
          <p:spPr>
            <a:xfrm rot="5400000">
              <a:off x="1301400" y="2052720"/>
              <a:ext cx="45000" cy="47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rot="5400000">
              <a:off x="1324800" y="2090520"/>
              <a:ext cx="6840" cy="39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rot="5400000">
              <a:off x="1324800" y="2100960"/>
              <a:ext cx="6840" cy="39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1" name=""/>
          <p:cNvSpPr/>
          <p:nvPr/>
        </p:nvSpPr>
        <p:spPr>
          <a:xfrm rot="5400000">
            <a:off x="1199160" y="2108880"/>
            <a:ext cx="120960" cy="208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rot="5400000">
            <a:off x="1338480" y="1999440"/>
            <a:ext cx="7920" cy="61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rot="16200000">
            <a:off x="1388880" y="1838160"/>
            <a:ext cx="51120" cy="120960"/>
          </a:xfrm>
          <a:custGeom>
            <a:avLst/>
            <a:gdLst>
              <a:gd name="textAreaLeft" fmla="*/ 2160 w 51120"/>
              <a:gd name="textAreaRight" fmla="*/ 48960 w 51120"/>
              <a:gd name="textAreaTop" fmla="*/ 2160 h 120960"/>
              <a:gd name="textAreaBottom" fmla="*/ 118800 h 120960"/>
            </a:gdLst>
            <a:ahLst/>
            <a:rect l="textAreaLeft" t="textAreaTop" r="textAreaRight" b="textAreaBottom"/>
            <a:pathLst>
              <a:path w="21600" h="50903">
                <a:moveTo>
                  <a:pt x="3600" y="0"/>
                </a:moveTo>
                <a:arcTo wR="3600" hR="3600" stAng="16200000" swAng="-5400000"/>
                <a:lnTo>
                  <a:pt x="0" y="47303"/>
                </a:lnTo>
                <a:arcTo wR="3600" hR="3600" stAng="10800000" swAng="-5400000"/>
                <a:lnTo>
                  <a:pt x="18000" y="509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rot="16200000">
            <a:off x="1392840" y="1849680"/>
            <a:ext cx="20520" cy="98640"/>
          </a:xfrm>
          <a:custGeom>
            <a:avLst/>
            <a:gdLst>
              <a:gd name="textAreaLeft" fmla="*/ 720 w 20520"/>
              <a:gd name="textAreaRight" fmla="*/ 19800 w 20520"/>
              <a:gd name="textAreaTop" fmla="*/ 720 h 98640"/>
              <a:gd name="textAreaBottom" fmla="*/ 97920 h 98640"/>
            </a:gdLst>
            <a:ahLst/>
            <a:rect l="textAreaLeft" t="textAreaTop" r="textAreaRight" b="textAreaBottom"/>
            <a:pathLst>
              <a:path w="21600" h="102414">
                <a:moveTo>
                  <a:pt x="3600" y="0"/>
                </a:moveTo>
                <a:arcTo wR="3600" hR="3600" stAng="16200000" swAng="-5400000"/>
                <a:lnTo>
                  <a:pt x="0" y="98814"/>
                </a:lnTo>
                <a:arcTo wR="3600" hR="3600" stAng="10800000" swAng="-5400000"/>
                <a:lnTo>
                  <a:pt x="18000" y="1024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rot="16200000">
            <a:off x="1343160" y="1884240"/>
            <a:ext cx="18720" cy="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rot="5400000">
            <a:off x="1429920" y="2325600"/>
            <a:ext cx="50760" cy="120600"/>
          </a:xfrm>
          <a:custGeom>
            <a:avLst/>
            <a:gdLst>
              <a:gd name="textAreaLeft" fmla="*/ 2160 w 50760"/>
              <a:gd name="textAreaRight" fmla="*/ 48600 w 50760"/>
              <a:gd name="textAreaTop" fmla="*/ 2160 h 120600"/>
              <a:gd name="textAreaBottom" fmla="*/ 118440 h 120600"/>
            </a:gdLst>
            <a:ahLst/>
            <a:rect l="textAreaLeft" t="textAreaTop" r="textAreaRight" b="textAreaBottom"/>
            <a:pathLst>
              <a:path w="21600" h="51110">
                <a:moveTo>
                  <a:pt x="3600" y="0"/>
                </a:moveTo>
                <a:arcTo wR="3600" hR="3600" stAng="16200000" swAng="-5400000"/>
                <a:lnTo>
                  <a:pt x="0" y="47510"/>
                </a:lnTo>
                <a:arcTo wR="3600" hR="3600" stAng="10800000" swAng="-5400000"/>
                <a:lnTo>
                  <a:pt x="18000" y="511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rot="5400000">
            <a:off x="1454760" y="2335680"/>
            <a:ext cx="20520" cy="98640"/>
          </a:xfrm>
          <a:custGeom>
            <a:avLst/>
            <a:gdLst>
              <a:gd name="textAreaLeft" fmla="*/ 720 w 20520"/>
              <a:gd name="textAreaRight" fmla="*/ 19800 w 20520"/>
              <a:gd name="textAreaTop" fmla="*/ 720 h 98640"/>
              <a:gd name="textAreaBottom" fmla="*/ 97920 h 98640"/>
            </a:gdLst>
            <a:ahLst/>
            <a:rect l="textAreaLeft" t="textAreaTop" r="textAreaRight" b="textAreaBottom"/>
            <a:pathLst>
              <a:path w="21600" h="102414">
                <a:moveTo>
                  <a:pt x="3600" y="0"/>
                </a:moveTo>
                <a:arcTo wR="3600" hR="3600" stAng="16200000" swAng="-5400000"/>
                <a:lnTo>
                  <a:pt x="0" y="98814"/>
                </a:lnTo>
                <a:arcTo wR="3600" hR="3600" stAng="10800000" swAng="-5400000"/>
                <a:lnTo>
                  <a:pt x="18000" y="1024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5400000">
            <a:off x="1472400" y="2356560"/>
            <a:ext cx="15840" cy="93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rot="5400000">
            <a:off x="1472760" y="2320560"/>
            <a:ext cx="15840" cy="9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rot="5400000">
            <a:off x="1507680" y="2371680"/>
            <a:ext cx="19080" cy="2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rot="5400000">
            <a:off x="1374480" y="1923840"/>
            <a:ext cx="118800" cy="11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rot="5400000">
            <a:off x="1359720" y="1905840"/>
            <a:ext cx="12960" cy="619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rot="5400000">
            <a:off x="1496520" y="2327040"/>
            <a:ext cx="9360" cy="507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rot="5400000">
            <a:off x="1327680" y="2326320"/>
            <a:ext cx="212760" cy="11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rot="5400000">
            <a:off x="1418760" y="2287440"/>
            <a:ext cx="31680" cy="3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 anchorCtr="1" vert="eaVert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rot="5400000">
            <a:off x="1420920" y="1910520"/>
            <a:ext cx="30240" cy="3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 anchorCtr="1" vert="eaVert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5400000">
            <a:off x="1295280" y="2041560"/>
            <a:ext cx="220680" cy="1252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486080" y="2108160"/>
            <a:ext cx="47520" cy="316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8605800" y="295596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80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54040" y="5343480"/>
            <a:ext cx="49320" cy="5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84200" y="5359320"/>
            <a:ext cx="12600" cy="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01600" y="5397480"/>
            <a:ext cx="441360" cy="2890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14360" y="5697360"/>
            <a:ext cx="36360" cy="241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46200" y="5473800"/>
            <a:ext cx="28440" cy="2077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12760" y="5672160"/>
            <a:ext cx="79200" cy="14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41360" y="5672160"/>
            <a:ext cx="81000" cy="14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38120" y="5494320"/>
            <a:ext cx="130320" cy="11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09680" y="5684760"/>
            <a:ext cx="14040" cy="158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20760" y="5672160"/>
            <a:ext cx="79200" cy="14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0800" y="5672160"/>
            <a:ext cx="79560" cy="14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0120" y="5391000"/>
            <a:ext cx="122400" cy="111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214200" y="5587920"/>
            <a:ext cx="76320" cy="61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52600" y="5587920"/>
            <a:ext cx="74520" cy="61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38280" y="5407200"/>
            <a:ext cx="9360" cy="615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00160" y="5688000"/>
            <a:ext cx="15840" cy="46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03360" y="5351400"/>
            <a:ext cx="12600" cy="2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68440" y="5334120"/>
            <a:ext cx="9360" cy="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-14760" y="520056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57200" y="1571760"/>
            <a:ext cx="220680" cy="1252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00200" y="1676520"/>
            <a:ext cx="47520" cy="316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rot="5400000">
            <a:off x="726120" y="1726200"/>
            <a:ext cx="120600" cy="208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276120" y="1623960"/>
            <a:ext cx="0" cy="18720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rot="5400000">
            <a:off x="133920" y="1818360"/>
            <a:ext cx="304920" cy="1728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rot="5400000">
            <a:off x="378360" y="1955160"/>
            <a:ext cx="120600" cy="205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275760" y="1828800"/>
            <a:ext cx="47880" cy="69840"/>
            <a:chOff x="275760" y="1828800"/>
            <a:chExt cx="47880" cy="69840"/>
          </a:xfrm>
        </p:grpSpPr>
        <p:sp>
          <p:nvSpPr>
            <p:cNvPr id="1536" name=""/>
            <p:cNvSpPr/>
            <p:nvPr/>
          </p:nvSpPr>
          <p:spPr>
            <a:xfrm rot="5400000">
              <a:off x="277200" y="1827360"/>
              <a:ext cx="45000" cy="47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5400000">
              <a:off x="300600" y="1865160"/>
              <a:ext cx="6840" cy="39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rot="5400000">
              <a:off x="300600" y="1875600"/>
              <a:ext cx="6840" cy="39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9" name=""/>
          <p:cNvSpPr/>
          <p:nvPr/>
        </p:nvSpPr>
        <p:spPr>
          <a:xfrm>
            <a:off x="233280" y="1981080"/>
            <a:ext cx="47880" cy="320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>
            <a:off x="276120" y="2228760"/>
            <a:ext cx="45720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V="1">
            <a:off x="276120" y="2057400"/>
            <a:ext cx="0" cy="18720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723960" y="2223720"/>
            <a:ext cx="0" cy="29052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76840" y="135576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00880" y="204156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5481720" y="1249200"/>
            <a:ext cx="1121040" cy="2203920"/>
            <a:chOff x="5481720" y="1249200"/>
            <a:chExt cx="1121040" cy="2203920"/>
          </a:xfrm>
        </p:grpSpPr>
        <p:grpSp>
          <p:nvGrpSpPr>
            <p:cNvPr id="1546" name=""/>
            <p:cNvGrpSpPr/>
            <p:nvPr/>
          </p:nvGrpSpPr>
          <p:grpSpPr>
            <a:xfrm>
              <a:off x="5481720" y="1878120"/>
              <a:ext cx="1121040" cy="1575000"/>
              <a:chOff x="5481720" y="1878120"/>
              <a:chExt cx="1121040" cy="1575000"/>
            </a:xfrm>
          </p:grpSpPr>
          <p:sp>
            <p:nvSpPr>
              <p:cNvPr id="1547" name=""/>
              <p:cNvSpPr/>
              <p:nvPr/>
            </p:nvSpPr>
            <p:spPr>
              <a:xfrm>
                <a:off x="5638320" y="1878120"/>
                <a:ext cx="504720" cy="1366560"/>
              </a:xfrm>
              <a:custGeom>
                <a:avLst/>
                <a:gdLst/>
                <a:ahLst/>
                <a:rect l="l" t="t" r="r" b="b"/>
                <a:pathLst>
                  <a:path w="726" h="1678">
                    <a:moveTo>
                      <a:pt x="726" y="1496"/>
                    </a:moveTo>
                    <a:lnTo>
                      <a:pt x="726" y="1678"/>
                    </a:lnTo>
                    <a:lnTo>
                      <a:pt x="0" y="1678"/>
                    </a:lnTo>
                    <a:lnTo>
                      <a:pt x="0" y="0"/>
                    </a:lnTo>
                  </a:path>
                </a:pathLst>
              </a:custGeom>
              <a:noFill/>
              <a:ln w="248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105240" y="2381040"/>
                <a:ext cx="0" cy="533520"/>
              </a:xfrm>
              <a:prstGeom prst="line">
                <a:avLst/>
              </a:prstGeom>
              <a:ln w="24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117840" y="1878120"/>
                <a:ext cx="0" cy="533160"/>
              </a:xfrm>
              <a:prstGeom prst="line">
                <a:avLst/>
              </a:prstGeom>
              <a:ln w="24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0" name=""/>
              <p:cNvGrpSpPr/>
              <p:nvPr/>
            </p:nvGrpSpPr>
            <p:grpSpPr>
              <a:xfrm>
                <a:off x="6036840" y="2089080"/>
                <a:ext cx="286560" cy="569520"/>
                <a:chOff x="6036840" y="2089080"/>
                <a:chExt cx="286560" cy="56952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6077520" y="2089080"/>
                  <a:ext cx="76680" cy="522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6077520" y="2584080"/>
                  <a:ext cx="76680" cy="522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6219000" y="2546280"/>
                  <a:ext cx="76680" cy="52200"/>
                </a:xfrm>
                <a:prstGeom prst="rect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6219000" y="2403720"/>
                  <a:ext cx="76680" cy="52200"/>
                </a:xfrm>
                <a:prstGeom prst="rect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6085440" y="2126520"/>
                  <a:ext cx="209880" cy="247320"/>
                </a:xfrm>
                <a:prstGeom prst="rect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6036840" y="2126520"/>
                  <a:ext cx="210240" cy="472320"/>
                </a:xfrm>
                <a:prstGeom prst="rect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6181920" y="2606400"/>
                  <a:ext cx="141480" cy="52200"/>
                </a:xfrm>
                <a:prstGeom prst="rect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8" name=""/>
              <p:cNvGrpSpPr/>
              <p:nvPr/>
            </p:nvGrpSpPr>
            <p:grpSpPr>
              <a:xfrm>
                <a:off x="6019560" y="2741400"/>
                <a:ext cx="313920" cy="490320"/>
                <a:chOff x="6019560" y="2741400"/>
                <a:chExt cx="313920" cy="490320"/>
              </a:xfrm>
            </p:grpSpPr>
            <p:sp>
              <p:nvSpPr>
                <p:cNvPr id="1559" name=""/>
                <p:cNvSpPr/>
                <p:nvPr/>
              </p:nvSpPr>
              <p:spPr>
                <a:xfrm rot="16200000">
                  <a:off x="5969880" y="2836440"/>
                  <a:ext cx="353520" cy="254160"/>
                </a:xfrm>
                <a:prstGeom prst="rect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rot="16200000">
                  <a:off x="6085440" y="2770920"/>
                  <a:ext cx="118080" cy="239400"/>
                </a:xfrm>
                <a:prstGeom prst="rect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078960" y="2741400"/>
                  <a:ext cx="56520" cy="4536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228720" y="3186360"/>
                  <a:ext cx="104760" cy="45360"/>
                </a:xfrm>
                <a:prstGeom prst="rect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3" name=""/>
              <p:cNvSpPr/>
              <p:nvPr/>
            </p:nvSpPr>
            <p:spPr>
              <a:xfrm>
                <a:off x="5821920" y="1898640"/>
                <a:ext cx="603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808080"/>
                    </a:solidFill>
                    <a:latin typeface="Arial"/>
                  </a:rPr>
                  <a:t>Op 1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999760" y="3206880"/>
                <a:ext cx="603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808080"/>
                    </a:solidFill>
                    <a:latin typeface="Arial"/>
                  </a:rPr>
                  <a:t>Op 1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5" name=""/>
              <p:cNvGrpSpPr/>
              <p:nvPr/>
            </p:nvGrpSpPr>
            <p:grpSpPr>
              <a:xfrm>
                <a:off x="5481720" y="2093400"/>
                <a:ext cx="313920" cy="649440"/>
                <a:chOff x="5481720" y="2093400"/>
                <a:chExt cx="313920" cy="649440"/>
              </a:xfrm>
            </p:grpSpPr>
            <p:sp>
              <p:nvSpPr>
                <p:cNvPr id="1566" name=""/>
                <p:cNvSpPr/>
                <p:nvPr/>
              </p:nvSpPr>
              <p:spPr>
                <a:xfrm rot="16200000">
                  <a:off x="5481360" y="2305800"/>
                  <a:ext cx="365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rot="16200000">
                  <a:off x="5659920" y="2229480"/>
                  <a:ext cx="34200" cy="2232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8" name=""/>
                <p:cNvGrpSpPr/>
                <p:nvPr/>
              </p:nvGrpSpPr>
              <p:grpSpPr>
                <a:xfrm>
                  <a:off x="5529960" y="2716920"/>
                  <a:ext cx="211680" cy="25920"/>
                  <a:chOff x="5529960" y="2716920"/>
                  <a:chExt cx="211680" cy="25920"/>
                </a:xfrm>
              </p:grpSpPr>
              <p:sp>
                <p:nvSpPr>
                  <p:cNvPr id="1569" name=""/>
                  <p:cNvSpPr/>
                  <p:nvPr/>
                </p:nvSpPr>
                <p:spPr>
                  <a:xfrm rot="16200000">
                    <a:off x="5529240" y="2717640"/>
                    <a:ext cx="25920" cy="24480"/>
                  </a:xfrm>
                  <a:prstGeom prst="rect">
                    <a:avLst/>
                  </a:prstGeom>
                  <a:solidFill>
                    <a:srgbClr val="33cc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 rot="16200000">
                    <a:off x="5716440" y="2717640"/>
                    <a:ext cx="25920" cy="24480"/>
                  </a:xfrm>
                  <a:prstGeom prst="rect">
                    <a:avLst/>
                  </a:prstGeom>
                  <a:solidFill>
                    <a:srgbClr val="33cc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 rot="16200000">
                    <a:off x="5684760" y="2687760"/>
                    <a:ext cx="16200" cy="83520"/>
                  </a:xfrm>
                  <a:custGeom>
                    <a:avLst/>
                    <a:gdLst>
                      <a:gd name="textAreaLeft" fmla="*/ 720 w 16200"/>
                      <a:gd name="textAreaRight" fmla="*/ 15480 w 16200"/>
                      <a:gd name="textAreaTop" fmla="*/ 720 h 83520"/>
                      <a:gd name="textAreaBottom" fmla="*/ 82800 h 83520"/>
                    </a:gdLst>
                    <a:ahLst/>
                    <a:rect l="textAreaLeft" t="textAreaTop" r="textAreaRight" b="textAreaBottom"/>
                    <a:pathLst>
                      <a:path w="21600" h="109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05809"/>
                        </a:lnTo>
                        <a:arcTo wR="3600" hR="3600" stAng="10800000" swAng="-5400000"/>
                        <a:lnTo>
                          <a:pt x="18000" y="109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 rot="16200000">
                    <a:off x="5569560" y="2687760"/>
                    <a:ext cx="16200" cy="83520"/>
                  </a:xfrm>
                  <a:custGeom>
                    <a:avLst/>
                    <a:gdLst>
                      <a:gd name="textAreaLeft" fmla="*/ 720 w 16200"/>
                      <a:gd name="textAreaRight" fmla="*/ 15480 w 16200"/>
                      <a:gd name="textAreaTop" fmla="*/ 720 h 83520"/>
                      <a:gd name="textAreaBottom" fmla="*/ 82800 h 83520"/>
                    </a:gdLst>
                    <a:ahLst/>
                    <a:rect l="textAreaLeft" t="textAreaTop" r="textAreaRight" b="textAreaBottom"/>
                    <a:pathLst>
                      <a:path w="21600" h="109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05809"/>
                        </a:lnTo>
                        <a:arcTo wR="3600" hR="3600" stAng="10800000" swAng="-5400000"/>
                        <a:lnTo>
                          <a:pt x="18000" y="109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3" name=""/>
                <p:cNvGrpSpPr/>
                <p:nvPr/>
              </p:nvGrpSpPr>
              <p:grpSpPr>
                <a:xfrm>
                  <a:off x="5598360" y="2212200"/>
                  <a:ext cx="73440" cy="64080"/>
                  <a:chOff x="5598360" y="2212200"/>
                  <a:chExt cx="73440" cy="64080"/>
                </a:xfrm>
              </p:grpSpPr>
              <p:sp>
                <p:nvSpPr>
                  <p:cNvPr id="1574" name=""/>
                  <p:cNvSpPr/>
                  <p:nvPr/>
                </p:nvSpPr>
                <p:spPr>
                  <a:xfrm rot="16200000">
                    <a:off x="5627880" y="2232360"/>
                    <a:ext cx="64080" cy="23400"/>
                  </a:xfrm>
                  <a:prstGeom prst="rect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 rot="16200000">
                    <a:off x="5577840" y="2232360"/>
                    <a:ext cx="64080" cy="23400"/>
                  </a:xfrm>
                  <a:prstGeom prst="rect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6" name=""/>
                <p:cNvSpPr/>
                <p:nvPr/>
              </p:nvSpPr>
              <p:spPr>
                <a:xfrm rot="16200000">
                  <a:off x="5700600" y="2129760"/>
                  <a:ext cx="131400" cy="58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rot="16200000">
                  <a:off x="5522760" y="2615040"/>
                  <a:ext cx="80640" cy="7992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t" anchorCtr="1" vert="eaVert">
                  <a:no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rot="16200000">
                  <a:off x="5478840" y="2374920"/>
                  <a:ext cx="58320" cy="439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9" name=""/>
                <p:cNvGrpSpPr/>
                <p:nvPr/>
              </p:nvGrpSpPr>
              <p:grpSpPr>
                <a:xfrm>
                  <a:off x="5531040" y="2631600"/>
                  <a:ext cx="60840" cy="18000"/>
                  <a:chOff x="5531040" y="2631600"/>
                  <a:chExt cx="60840" cy="18000"/>
                </a:xfrm>
              </p:grpSpPr>
              <p:sp>
                <p:nvSpPr>
                  <p:cNvPr id="1580" name=""/>
                  <p:cNvSpPr/>
                  <p:nvPr/>
                </p:nvSpPr>
                <p:spPr>
                  <a:xfrm>
                    <a:off x="5569560" y="2631960"/>
                    <a:ext cx="223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60">
                        <a:moveTo>
                          <a:pt x="0" y="51"/>
                        </a:moveTo>
                        <a:cubicBezTo>
                          <a:pt x="43" y="55"/>
                          <a:pt x="87" y="60"/>
                          <a:pt x="107" y="51"/>
                        </a:cubicBezTo>
                        <a:cubicBezTo>
                          <a:pt x="127" y="42"/>
                          <a:pt x="118" y="9"/>
                          <a:pt x="12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81" name=""/>
                  <p:cNvGrpSpPr/>
                  <p:nvPr/>
                </p:nvGrpSpPr>
                <p:grpSpPr>
                  <a:xfrm>
                    <a:off x="5531040" y="2631600"/>
                    <a:ext cx="39600" cy="18000"/>
                    <a:chOff x="5531040" y="2631600"/>
                    <a:chExt cx="39600" cy="18000"/>
                  </a:xfrm>
                </p:grpSpPr>
                <p:grpSp>
                  <p:nvGrpSpPr>
                    <p:cNvPr id="1582" name=""/>
                    <p:cNvGrpSpPr/>
                    <p:nvPr/>
                  </p:nvGrpSpPr>
                  <p:grpSpPr>
                    <a:xfrm>
                      <a:off x="5531040" y="2631600"/>
                      <a:ext cx="39600" cy="18000"/>
                      <a:chOff x="5531040" y="2631600"/>
                      <a:chExt cx="39600" cy="18000"/>
                    </a:xfrm>
                  </p:grpSpPr>
                  <p:sp>
                    <p:nvSpPr>
                      <p:cNvPr id="1583" name=""/>
                      <p:cNvSpPr/>
                      <p:nvPr/>
                    </p:nvSpPr>
                    <p:spPr>
                      <a:xfrm>
                        <a:off x="5531040" y="2631960"/>
                        <a:ext cx="29520" cy="17640"/>
                      </a:xfrm>
                      <a:prstGeom prst="rect">
                        <a:avLst/>
                      </a:prstGeom>
                      <a:solidFill>
                        <a:srgbClr val="00808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4" name=""/>
                      <p:cNvSpPr/>
                      <p:nvPr/>
                    </p:nvSpPr>
                    <p:spPr>
                      <a:xfrm>
                        <a:off x="5560920" y="2631600"/>
                        <a:ext cx="972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83">
                            <a:moveTo>
                              <a:pt x="1" y="83"/>
                            </a:moveTo>
                            <a:cubicBezTo>
                              <a:pt x="20" y="70"/>
                              <a:pt x="39" y="58"/>
                              <a:pt x="39" y="44"/>
                            </a:cubicBezTo>
                            <a:cubicBezTo>
                              <a:pt x="39" y="30"/>
                              <a:pt x="6" y="7"/>
                              <a:pt x="0" y="0"/>
                            </a:cubicBezTo>
                          </a:path>
                        </a:pathLst>
                      </a:custGeom>
                      <a:solidFill>
                        <a:srgbClr val="00808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85" name=""/>
                    <p:cNvSpPr/>
                    <p:nvPr/>
                  </p:nvSpPr>
                  <p:spPr>
                    <a:xfrm>
                      <a:off x="5560920" y="2635200"/>
                      <a:ext cx="36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6" name=""/>
                    <p:cNvSpPr/>
                    <p:nvPr/>
                  </p:nvSpPr>
                  <p:spPr>
                    <a:xfrm>
                      <a:off x="5560560" y="2645640"/>
                      <a:ext cx="36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7" name=""/>
                    <p:cNvSpPr/>
                    <p:nvPr/>
                  </p:nvSpPr>
                  <p:spPr>
                    <a:xfrm>
                      <a:off x="5560920" y="2638080"/>
                      <a:ext cx="36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8" name=""/>
                    <p:cNvSpPr/>
                    <p:nvPr/>
                  </p:nvSpPr>
                  <p:spPr>
                    <a:xfrm>
                      <a:off x="5560560" y="2640600"/>
                      <a:ext cx="36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9" name=""/>
                    <p:cNvSpPr/>
                    <p:nvPr/>
                  </p:nvSpPr>
                  <p:spPr>
                    <a:xfrm>
                      <a:off x="5560920" y="2643120"/>
                      <a:ext cx="36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0" name=""/>
                    <p:cNvSpPr/>
                    <p:nvPr/>
                  </p:nvSpPr>
                  <p:spPr>
                    <a:xfrm flipV="1">
                      <a:off x="5565600" y="2635200"/>
                      <a:ext cx="0" cy="1080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91" name=""/>
                <p:cNvSpPr/>
                <p:nvPr/>
              </p:nvSpPr>
              <p:spPr>
                <a:xfrm rot="16200000">
                  <a:off x="5484600" y="2206080"/>
                  <a:ext cx="30600" cy="3636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rot="16200000">
                  <a:off x="5742000" y="2142360"/>
                  <a:ext cx="30600" cy="3636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3" name=""/>
                <p:cNvGrpSpPr/>
                <p:nvPr/>
              </p:nvGrpSpPr>
              <p:grpSpPr>
                <a:xfrm>
                  <a:off x="5598360" y="2616840"/>
                  <a:ext cx="73440" cy="64080"/>
                  <a:chOff x="5598360" y="2616840"/>
                  <a:chExt cx="73440" cy="64080"/>
                </a:xfrm>
              </p:grpSpPr>
              <p:sp>
                <p:nvSpPr>
                  <p:cNvPr id="1594" name=""/>
                  <p:cNvSpPr/>
                  <p:nvPr/>
                </p:nvSpPr>
                <p:spPr>
                  <a:xfrm rot="16200000">
                    <a:off x="5627880" y="2637000"/>
                    <a:ext cx="64080" cy="23400"/>
                  </a:xfrm>
                  <a:prstGeom prst="rect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 rot="16200000">
                    <a:off x="5577840" y="2637000"/>
                    <a:ext cx="64080" cy="23400"/>
                  </a:xfrm>
                  <a:prstGeom prst="rect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6" name=""/>
                <p:cNvSpPr/>
                <p:nvPr/>
              </p:nvSpPr>
              <p:spPr>
                <a:xfrm rot="16200000">
                  <a:off x="5434920" y="2363760"/>
                  <a:ext cx="358920" cy="168840"/>
                </a:xfrm>
                <a:prstGeom prst="rect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7" name=""/>
                <p:cNvGrpSpPr/>
                <p:nvPr/>
              </p:nvGrpSpPr>
              <p:grpSpPr>
                <a:xfrm>
                  <a:off x="5586120" y="2513520"/>
                  <a:ext cx="46440" cy="39240"/>
                  <a:chOff x="5586120" y="2513520"/>
                  <a:chExt cx="46440" cy="39240"/>
                </a:xfrm>
              </p:grpSpPr>
              <p:sp>
                <p:nvSpPr>
                  <p:cNvPr id="1598" name=""/>
                  <p:cNvSpPr/>
                  <p:nvPr/>
                </p:nvSpPr>
                <p:spPr>
                  <a:xfrm rot="16200000">
                    <a:off x="5589720" y="2509920"/>
                    <a:ext cx="39240" cy="4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 rot="16200000">
                    <a:off x="5599080" y="2521800"/>
                    <a:ext cx="20160" cy="237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0" name=""/>
                <p:cNvGrpSpPr/>
                <p:nvPr/>
              </p:nvGrpSpPr>
              <p:grpSpPr>
                <a:xfrm>
                  <a:off x="5491440" y="2148120"/>
                  <a:ext cx="269640" cy="90720"/>
                  <a:chOff x="5491440" y="2148120"/>
                  <a:chExt cx="269640" cy="90720"/>
                </a:xfrm>
              </p:grpSpPr>
              <p:sp>
                <p:nvSpPr>
                  <p:cNvPr id="1601" name=""/>
                  <p:cNvSpPr/>
                  <p:nvPr/>
                </p:nvSpPr>
                <p:spPr>
                  <a:xfrm rot="20066400">
                    <a:off x="5486040" y="2185200"/>
                    <a:ext cx="176400" cy="16200"/>
                  </a:xfrm>
                  <a:prstGeom prst="roundRect">
                    <a:avLst>
                      <a:gd name="adj" fmla="val 31917"/>
                    </a:avLst>
                  </a:prstGeom>
                  <a:solidFill>
                    <a:srgbClr val="ddddd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5646240" y="2152440"/>
                    <a:ext cx="114840" cy="16200"/>
                  </a:xfrm>
                  <a:prstGeom prst="roundRect">
                    <a:avLst>
                      <a:gd name="adj" fmla="val 31917"/>
                    </a:avLst>
                  </a:prstGeom>
                  <a:solidFill>
                    <a:srgbClr val="ddddd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03" name=""/>
            <p:cNvGrpSpPr/>
            <p:nvPr/>
          </p:nvGrpSpPr>
          <p:grpSpPr>
            <a:xfrm>
              <a:off x="5495760" y="1249200"/>
              <a:ext cx="877320" cy="721800"/>
              <a:chOff x="5495760" y="1249200"/>
              <a:chExt cx="877320" cy="721800"/>
            </a:xfrm>
          </p:grpSpPr>
          <p:sp>
            <p:nvSpPr>
              <p:cNvPr id="1604" name=""/>
              <p:cNvSpPr/>
              <p:nvPr/>
            </p:nvSpPr>
            <p:spPr>
              <a:xfrm rot="10800000">
                <a:off x="6069600" y="1753560"/>
                <a:ext cx="93240" cy="142920"/>
              </a:xfrm>
              <a:prstGeom prst="flowChartExtra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rot="16200000">
                <a:off x="6255000" y="1566000"/>
                <a:ext cx="93600" cy="142560"/>
              </a:xfrm>
              <a:prstGeom prst="flowChartExtra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6" name=""/>
              <p:cNvGrpSpPr/>
              <p:nvPr/>
            </p:nvGrpSpPr>
            <p:grpSpPr>
              <a:xfrm>
                <a:off x="5495760" y="1636560"/>
                <a:ext cx="189720" cy="334440"/>
                <a:chOff x="5495760" y="1636560"/>
                <a:chExt cx="189720" cy="334440"/>
              </a:xfrm>
            </p:grpSpPr>
            <p:sp>
              <p:nvSpPr>
                <p:cNvPr id="1607" name=""/>
                <p:cNvSpPr/>
                <p:nvPr/>
              </p:nvSpPr>
              <p:spPr>
                <a:xfrm>
                  <a:off x="5495760" y="1636560"/>
                  <a:ext cx="144000" cy="334440"/>
                </a:xfrm>
                <a:custGeom>
                  <a:avLst/>
                  <a:gdLst/>
                  <a:ahLst/>
                  <a:rect l="l" t="t" r="r" b="b"/>
                  <a:pathLst>
                    <a:path w="91" h="182">
                      <a:moveTo>
                        <a:pt x="91" y="182"/>
                      </a:moveTo>
                      <a:lnTo>
                        <a:pt x="91" y="91"/>
                      </a:lnTo>
                      <a:lnTo>
                        <a:pt x="91" y="46"/>
                      </a:lnTo>
                      <a:lnTo>
                        <a:pt x="0" y="4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48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5592240" y="1759680"/>
                  <a:ext cx="93240" cy="164880"/>
                </a:xfrm>
                <a:prstGeom prst="flowChartExtract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9" name=""/>
              <p:cNvGrpSpPr/>
              <p:nvPr/>
            </p:nvGrpSpPr>
            <p:grpSpPr>
              <a:xfrm>
                <a:off x="5547960" y="1487160"/>
                <a:ext cx="790200" cy="285480"/>
                <a:chOff x="5547960" y="1487160"/>
                <a:chExt cx="790200" cy="285480"/>
              </a:xfrm>
            </p:grpSpPr>
            <p:grpSp>
              <p:nvGrpSpPr>
                <p:cNvPr id="1610" name=""/>
                <p:cNvGrpSpPr/>
                <p:nvPr/>
              </p:nvGrpSpPr>
              <p:grpSpPr>
                <a:xfrm>
                  <a:off x="6203160" y="1507320"/>
                  <a:ext cx="80640" cy="235800"/>
                  <a:chOff x="6203160" y="1507320"/>
                  <a:chExt cx="80640" cy="235800"/>
                </a:xfrm>
              </p:grpSpPr>
              <p:sp>
                <p:nvSpPr>
                  <p:cNvPr id="1611" name=""/>
                  <p:cNvSpPr/>
                  <p:nvPr/>
                </p:nvSpPr>
                <p:spPr>
                  <a:xfrm rot="3865800">
                    <a:off x="6166080" y="1572120"/>
                    <a:ext cx="154080" cy="15480"/>
                  </a:xfrm>
                  <a:prstGeom prst="roundRect">
                    <a:avLst>
                      <a:gd name="adj" fmla="val 31917"/>
                    </a:avLst>
                  </a:prstGeom>
                  <a:solidFill>
                    <a:srgbClr val="ddddd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 rot="5400000">
                    <a:off x="6224400" y="1685160"/>
                    <a:ext cx="100440" cy="15480"/>
                  </a:xfrm>
                  <a:prstGeom prst="roundRect">
                    <a:avLst>
                      <a:gd name="adj" fmla="val 31917"/>
                    </a:avLst>
                  </a:prstGeom>
                  <a:solidFill>
                    <a:srgbClr val="ddddd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3" name=""/>
                <p:cNvGrpSpPr/>
                <p:nvPr/>
              </p:nvGrpSpPr>
              <p:grpSpPr>
                <a:xfrm>
                  <a:off x="5547960" y="1487160"/>
                  <a:ext cx="790200" cy="285480"/>
                  <a:chOff x="5547960" y="1487160"/>
                  <a:chExt cx="790200" cy="285480"/>
                </a:xfrm>
              </p:grpSpPr>
              <p:sp>
                <p:nvSpPr>
                  <p:cNvPr id="1614" name=""/>
                  <p:cNvSpPr/>
                  <p:nvPr/>
                </p:nvSpPr>
                <p:spPr>
                  <a:xfrm>
                    <a:off x="6181560" y="1659960"/>
                    <a:ext cx="32400" cy="19440"/>
                  </a:xfrm>
                  <a:prstGeom prst="rect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15" name=""/>
                  <p:cNvGrpSpPr/>
                  <p:nvPr/>
                </p:nvGrpSpPr>
                <p:grpSpPr>
                  <a:xfrm>
                    <a:off x="6164280" y="1600560"/>
                    <a:ext cx="61200" cy="64440"/>
                    <a:chOff x="6164280" y="1600560"/>
                    <a:chExt cx="61200" cy="64440"/>
                  </a:xfrm>
                </p:grpSpPr>
                <p:sp>
                  <p:nvSpPr>
                    <p:cNvPr id="1616" name=""/>
                    <p:cNvSpPr/>
                    <p:nvPr/>
                  </p:nvSpPr>
                  <p:spPr>
                    <a:xfrm>
                      <a:off x="6164280" y="1644480"/>
                      <a:ext cx="61200" cy="20520"/>
                    </a:xfrm>
                    <a:prstGeom prst="rect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7" name=""/>
                    <p:cNvSpPr/>
                    <p:nvPr/>
                  </p:nvSpPr>
                  <p:spPr>
                    <a:xfrm>
                      <a:off x="6164280" y="1600560"/>
                      <a:ext cx="61200" cy="20520"/>
                    </a:xfrm>
                    <a:prstGeom prst="rect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18" name=""/>
                  <p:cNvSpPr/>
                  <p:nvPr/>
                </p:nvSpPr>
                <p:spPr>
                  <a:xfrm>
                    <a:off x="6213240" y="1721880"/>
                    <a:ext cx="124920" cy="507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>
                    <a:off x="5765400" y="1535400"/>
                    <a:ext cx="76680" cy="69840"/>
                  </a:xfrm>
                  <a:prstGeom prst="rect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>
                    <a:off x="6021360" y="1503000"/>
                    <a:ext cx="55440" cy="385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pPr algn="ctr"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6072120" y="1487160"/>
                    <a:ext cx="197640" cy="54720"/>
                  </a:xfrm>
                  <a:prstGeom prst="rect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22" name=""/>
                  <p:cNvGrpSpPr/>
                  <p:nvPr/>
                </p:nvGrpSpPr>
                <p:grpSpPr>
                  <a:xfrm>
                    <a:off x="5808240" y="1542240"/>
                    <a:ext cx="17640" cy="53280"/>
                    <a:chOff x="5808240" y="1542240"/>
                    <a:chExt cx="17640" cy="53280"/>
                  </a:xfrm>
                </p:grpSpPr>
                <p:sp>
                  <p:nvSpPr>
                    <p:cNvPr id="1623" name=""/>
                    <p:cNvSpPr/>
                    <p:nvPr/>
                  </p:nvSpPr>
                  <p:spPr>
                    <a:xfrm rot="5400000">
                      <a:off x="5810040" y="1580040"/>
                      <a:ext cx="194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" h="60">
                          <a:moveTo>
                            <a:pt x="0" y="51"/>
                          </a:moveTo>
                          <a:cubicBezTo>
                            <a:pt x="43" y="55"/>
                            <a:pt x="87" y="60"/>
                            <a:pt x="107" y="51"/>
                          </a:cubicBezTo>
                          <a:cubicBezTo>
                            <a:pt x="127" y="42"/>
                            <a:pt x="118" y="9"/>
                            <a:pt x="120" y="0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24" name=""/>
                    <p:cNvGrpSpPr/>
                    <p:nvPr/>
                  </p:nvGrpSpPr>
                  <p:grpSpPr>
                    <a:xfrm>
                      <a:off x="5808240" y="1542240"/>
                      <a:ext cx="17640" cy="34920"/>
                      <a:chOff x="5808240" y="1542240"/>
                      <a:chExt cx="17640" cy="34920"/>
                    </a:xfrm>
                  </p:grpSpPr>
                  <p:grpSp>
                    <p:nvGrpSpPr>
                      <p:cNvPr id="1625" name=""/>
                      <p:cNvGrpSpPr/>
                      <p:nvPr/>
                    </p:nvGrpSpPr>
                    <p:grpSpPr>
                      <a:xfrm>
                        <a:off x="5808240" y="1542240"/>
                        <a:ext cx="17640" cy="34920"/>
                        <a:chOff x="5808240" y="1542240"/>
                        <a:chExt cx="17640" cy="34920"/>
                      </a:xfrm>
                    </p:grpSpPr>
                    <p:sp>
                      <p:nvSpPr>
                        <p:cNvPr id="1626" name=""/>
                        <p:cNvSpPr/>
                        <p:nvPr/>
                      </p:nvSpPr>
                      <p:spPr>
                        <a:xfrm rot="5400000">
                          <a:off x="5803920" y="1546560"/>
                          <a:ext cx="25920" cy="17280"/>
                        </a:xfrm>
                        <a:prstGeom prst="rect">
                          <a:avLst/>
                        </a:prstGeom>
                        <a:solidFill>
                          <a:srgbClr val="00808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520" bIns="-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27" name=""/>
                        <p:cNvSpPr/>
                        <p:nvPr/>
                      </p:nvSpPr>
                      <p:spPr>
                        <a:xfrm rot="5400000">
                          <a:off x="5812560" y="1563840"/>
                          <a:ext cx="8640" cy="17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9" h="83">
                              <a:moveTo>
                                <a:pt x="1" y="83"/>
                              </a:moveTo>
                              <a:cubicBezTo>
                                <a:pt x="20" y="70"/>
                                <a:pt x="39" y="58"/>
                                <a:pt x="39" y="44"/>
                              </a:cubicBezTo>
                              <a:cubicBezTo>
                                <a:pt x="39" y="30"/>
                                <a:pt x="6" y="7"/>
                                <a:pt x="0" y="0"/>
                              </a:cubicBezTo>
                            </a:path>
                          </a:pathLst>
                        </a:custGeom>
                        <a:solidFill>
                          <a:srgbClr val="00808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tIns="-28080" bIns="-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628" name=""/>
                      <p:cNvSpPr/>
                      <p:nvPr/>
                    </p:nvSpPr>
                    <p:spPr>
                      <a:xfrm>
                        <a:off x="5822280" y="1568520"/>
                        <a:ext cx="0" cy="32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9" name=""/>
                      <p:cNvSpPr/>
                      <p:nvPr/>
                    </p:nvSpPr>
                    <p:spPr>
                      <a:xfrm>
                        <a:off x="5812200" y="1568520"/>
                        <a:ext cx="0" cy="32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0" name=""/>
                      <p:cNvSpPr/>
                      <p:nvPr/>
                    </p:nvSpPr>
                    <p:spPr>
                      <a:xfrm>
                        <a:off x="5819760" y="1568520"/>
                        <a:ext cx="0" cy="32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1" name=""/>
                      <p:cNvSpPr/>
                      <p:nvPr/>
                    </p:nvSpPr>
                    <p:spPr>
                      <a:xfrm>
                        <a:off x="5816880" y="1568520"/>
                        <a:ext cx="0" cy="32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2" name=""/>
                      <p:cNvSpPr/>
                      <p:nvPr/>
                    </p:nvSpPr>
                    <p:spPr>
                      <a:xfrm>
                        <a:off x="5814720" y="1568520"/>
                        <a:ext cx="0" cy="32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3" name=""/>
                      <p:cNvSpPr/>
                      <p:nvPr/>
                    </p:nvSpPr>
                    <p:spPr>
                      <a:xfrm>
                        <a:off x="5811480" y="1572480"/>
                        <a:ext cx="10800" cy="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634" name=""/>
                  <p:cNvSpPr/>
                  <p:nvPr/>
                </p:nvSpPr>
                <p:spPr>
                  <a:xfrm>
                    <a:off x="6259680" y="1723680"/>
                    <a:ext cx="29160" cy="31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35" name=""/>
                  <p:cNvGrpSpPr/>
                  <p:nvPr/>
                </p:nvGrpSpPr>
                <p:grpSpPr>
                  <a:xfrm>
                    <a:off x="5778720" y="1600560"/>
                    <a:ext cx="61200" cy="64440"/>
                    <a:chOff x="5778720" y="1600560"/>
                    <a:chExt cx="61200" cy="64440"/>
                  </a:xfrm>
                </p:grpSpPr>
                <p:sp>
                  <p:nvSpPr>
                    <p:cNvPr id="1636" name=""/>
                    <p:cNvSpPr/>
                    <p:nvPr/>
                  </p:nvSpPr>
                  <p:spPr>
                    <a:xfrm>
                      <a:off x="5778720" y="1644480"/>
                      <a:ext cx="61200" cy="20520"/>
                    </a:xfrm>
                    <a:prstGeom prst="rect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7" name=""/>
                    <p:cNvSpPr/>
                    <p:nvPr/>
                  </p:nvSpPr>
                  <p:spPr>
                    <a:xfrm>
                      <a:off x="5778720" y="1600560"/>
                      <a:ext cx="61200" cy="20520"/>
                    </a:xfrm>
                    <a:prstGeom prst="rect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38" name=""/>
                  <p:cNvGrpSpPr/>
                  <p:nvPr/>
                </p:nvGrpSpPr>
                <p:grpSpPr>
                  <a:xfrm>
                    <a:off x="5829480" y="1541880"/>
                    <a:ext cx="341640" cy="147240"/>
                    <a:chOff x="5829480" y="1541880"/>
                    <a:chExt cx="341640" cy="147240"/>
                  </a:xfrm>
                </p:grpSpPr>
                <p:sp>
                  <p:nvSpPr>
                    <p:cNvPr id="1639" name=""/>
                    <p:cNvSpPr/>
                    <p:nvPr/>
                  </p:nvSpPr>
                  <p:spPr>
                    <a:xfrm>
                      <a:off x="5829480" y="1541880"/>
                      <a:ext cx="341640" cy="147240"/>
                    </a:xfrm>
                    <a:prstGeom prst="rect">
                      <a:avLst/>
                    </a:prstGeom>
                    <a:solidFill>
                      <a:srgbClr val="00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40" name=""/>
                    <p:cNvGrpSpPr/>
                    <p:nvPr/>
                  </p:nvGrpSpPr>
                  <p:grpSpPr>
                    <a:xfrm>
                      <a:off x="5900400" y="1590480"/>
                      <a:ext cx="37080" cy="40680"/>
                      <a:chOff x="5900400" y="1590480"/>
                      <a:chExt cx="37080" cy="40680"/>
                    </a:xfrm>
                  </p:grpSpPr>
                  <p:sp>
                    <p:nvSpPr>
                      <p:cNvPr id="1641" name=""/>
                      <p:cNvSpPr/>
                      <p:nvPr/>
                    </p:nvSpPr>
                    <p:spPr>
                      <a:xfrm>
                        <a:off x="5900400" y="1590480"/>
                        <a:ext cx="37080" cy="40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640" bIns="-17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2" name=""/>
                      <p:cNvSpPr/>
                      <p:nvPr/>
                    </p:nvSpPr>
                    <p:spPr>
                      <a:xfrm>
                        <a:off x="5909040" y="1600200"/>
                        <a:ext cx="19080" cy="2088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643" name=""/>
                  <p:cNvGrpSpPr/>
                  <p:nvPr/>
                </p:nvGrpSpPr>
                <p:grpSpPr>
                  <a:xfrm>
                    <a:off x="5829480" y="1541880"/>
                    <a:ext cx="341640" cy="147240"/>
                    <a:chOff x="5829480" y="1541880"/>
                    <a:chExt cx="341640" cy="147240"/>
                  </a:xfrm>
                </p:grpSpPr>
                <p:sp>
                  <p:nvSpPr>
                    <p:cNvPr id="1644" name=""/>
                    <p:cNvSpPr/>
                    <p:nvPr/>
                  </p:nvSpPr>
                  <p:spPr>
                    <a:xfrm>
                      <a:off x="5829480" y="1541880"/>
                      <a:ext cx="341640" cy="147240"/>
                    </a:xfrm>
                    <a:prstGeom prst="rect">
                      <a:avLst/>
                    </a:prstGeom>
                    <a:solidFill>
                      <a:srgbClr val="00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45" name=""/>
                    <p:cNvGrpSpPr/>
                    <p:nvPr/>
                  </p:nvGrpSpPr>
                  <p:grpSpPr>
                    <a:xfrm>
                      <a:off x="5900400" y="1590480"/>
                      <a:ext cx="37080" cy="40680"/>
                      <a:chOff x="5900400" y="1590480"/>
                      <a:chExt cx="37080" cy="40680"/>
                    </a:xfrm>
                  </p:grpSpPr>
                  <p:sp>
                    <p:nvSpPr>
                      <p:cNvPr id="1646" name=""/>
                      <p:cNvSpPr/>
                      <p:nvPr/>
                    </p:nvSpPr>
                    <p:spPr>
                      <a:xfrm>
                        <a:off x="5900400" y="1590480"/>
                        <a:ext cx="37080" cy="40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640" bIns="-17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7" name=""/>
                      <p:cNvSpPr/>
                      <p:nvPr/>
                    </p:nvSpPr>
                    <p:spPr>
                      <a:xfrm>
                        <a:off x="5909040" y="1600200"/>
                        <a:ext cx="19080" cy="2088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648" name=""/>
                  <p:cNvSpPr/>
                  <p:nvPr/>
                </p:nvSpPr>
                <p:spPr>
                  <a:xfrm>
                    <a:off x="5547960" y="1554840"/>
                    <a:ext cx="140400" cy="150120"/>
                  </a:xfrm>
                  <a:prstGeom prst="rect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49" name=""/>
              <p:cNvSpPr/>
              <p:nvPr/>
            </p:nvSpPr>
            <p:spPr>
              <a:xfrm>
                <a:off x="5529600" y="1249200"/>
                <a:ext cx="603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808080"/>
                    </a:solidFill>
                    <a:latin typeface="Arial"/>
                  </a:rPr>
                  <a:t>Op 1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0" name=""/>
          <p:cNvSpPr/>
          <p:nvPr/>
        </p:nvSpPr>
        <p:spPr>
          <a:xfrm rot="16200000">
            <a:off x="6553080" y="1591920"/>
            <a:ext cx="57240" cy="889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6248520" y="1636560"/>
            <a:ext cx="103824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rot="10800000">
            <a:off x="6767640" y="1988640"/>
            <a:ext cx="56880" cy="889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797520" y="1628640"/>
            <a:ext cx="0" cy="63360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rot="10800000">
            <a:off x="6435360" y="1988640"/>
            <a:ext cx="57240" cy="889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465960" y="1628640"/>
            <a:ext cx="0" cy="63360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6359400" y="2134080"/>
            <a:ext cx="287640" cy="637920"/>
            <a:chOff x="6359400" y="2134080"/>
            <a:chExt cx="287640" cy="637920"/>
          </a:xfrm>
        </p:grpSpPr>
        <p:sp>
          <p:nvSpPr>
            <p:cNvPr id="1657" name=""/>
            <p:cNvSpPr/>
            <p:nvPr/>
          </p:nvSpPr>
          <p:spPr>
            <a:xfrm>
              <a:off x="6527160" y="2446560"/>
              <a:ext cx="61200" cy="45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432120" y="2134080"/>
              <a:ext cx="45360" cy="214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359400" y="2296800"/>
              <a:ext cx="190080" cy="357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rot="5400000">
              <a:off x="6567480" y="2692440"/>
              <a:ext cx="113400" cy="45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rot="1708200">
              <a:off x="6516720" y="2570040"/>
              <a:ext cx="61200" cy="19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562440" y="2576520"/>
              <a:ext cx="61200" cy="45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3" name=""/>
          <p:cNvSpPr/>
          <p:nvPr/>
        </p:nvSpPr>
        <p:spPr>
          <a:xfrm>
            <a:off x="6118920" y="127800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368520" y="5445000"/>
            <a:ext cx="2881440" cy="9817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4 – Máquinas afectadas: 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derrames de aceite en el interior y exterior de la máqui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aceite de lubricación no tiene sistema de recogida, y puede propagar incendios o provocar acciden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bandejas de recogida y barreras absorben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rediseño de las bandejas para que cubran toda la superficie y tengan suficiente caída, y así poder canalizar el aceite hasta un depósito externo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753240" y="5157720"/>
            <a:ext cx="2881440" cy="821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B3 – Máquinas afectadas: 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derrames de aceite de engrase bajo la máqui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la transferencia no tiene sistema de recogida de acei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limpiar el sue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montar bandejas con tramas y conectar la estación de centrifugad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457960" y="31417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güeñ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568520" y="1695600"/>
            <a:ext cx="507960" cy="730080"/>
          </a:xfrm>
          <a:custGeom>
            <a:avLst/>
            <a:gdLst/>
            <a:ahLst/>
            <a:rect l="l" t="t" r="r" b="b"/>
            <a:pathLst>
              <a:path w="320" h="460">
                <a:moveTo>
                  <a:pt x="32" y="20"/>
                </a:moveTo>
                <a:cubicBezTo>
                  <a:pt x="93" y="0"/>
                  <a:pt x="48" y="12"/>
                  <a:pt x="172" y="16"/>
                </a:cubicBezTo>
                <a:cubicBezTo>
                  <a:pt x="190" y="22"/>
                  <a:pt x="210" y="18"/>
                  <a:pt x="228" y="24"/>
                </a:cubicBezTo>
                <a:cubicBezTo>
                  <a:pt x="232" y="25"/>
                  <a:pt x="228" y="35"/>
                  <a:pt x="232" y="36"/>
                </a:cubicBezTo>
                <a:cubicBezTo>
                  <a:pt x="245" y="41"/>
                  <a:pt x="259" y="39"/>
                  <a:pt x="272" y="40"/>
                </a:cubicBezTo>
                <a:cubicBezTo>
                  <a:pt x="320" y="52"/>
                  <a:pt x="275" y="133"/>
                  <a:pt x="292" y="184"/>
                </a:cubicBezTo>
                <a:cubicBezTo>
                  <a:pt x="287" y="199"/>
                  <a:pt x="277" y="203"/>
                  <a:pt x="268" y="216"/>
                </a:cubicBezTo>
                <a:cubicBezTo>
                  <a:pt x="274" y="245"/>
                  <a:pt x="302" y="247"/>
                  <a:pt x="280" y="284"/>
                </a:cubicBezTo>
                <a:cubicBezTo>
                  <a:pt x="276" y="291"/>
                  <a:pt x="256" y="292"/>
                  <a:pt x="256" y="292"/>
                </a:cubicBezTo>
                <a:cubicBezTo>
                  <a:pt x="245" y="325"/>
                  <a:pt x="256" y="362"/>
                  <a:pt x="236" y="392"/>
                </a:cubicBezTo>
                <a:cubicBezTo>
                  <a:pt x="230" y="417"/>
                  <a:pt x="222" y="416"/>
                  <a:pt x="196" y="420"/>
                </a:cubicBezTo>
                <a:cubicBezTo>
                  <a:pt x="190" y="439"/>
                  <a:pt x="182" y="437"/>
                  <a:pt x="164" y="432"/>
                </a:cubicBezTo>
                <a:cubicBezTo>
                  <a:pt x="159" y="433"/>
                  <a:pt x="152" y="432"/>
                  <a:pt x="148" y="436"/>
                </a:cubicBezTo>
                <a:cubicBezTo>
                  <a:pt x="143" y="442"/>
                  <a:pt x="140" y="460"/>
                  <a:pt x="140" y="460"/>
                </a:cubicBezTo>
                <a:cubicBezTo>
                  <a:pt x="94" y="456"/>
                  <a:pt x="69" y="450"/>
                  <a:pt x="28" y="436"/>
                </a:cubicBezTo>
                <a:cubicBezTo>
                  <a:pt x="11" y="386"/>
                  <a:pt x="5" y="336"/>
                  <a:pt x="24" y="280"/>
                </a:cubicBezTo>
                <a:cubicBezTo>
                  <a:pt x="20" y="250"/>
                  <a:pt x="15" y="251"/>
                  <a:pt x="0" y="228"/>
                </a:cubicBezTo>
                <a:cubicBezTo>
                  <a:pt x="27" y="187"/>
                  <a:pt x="15" y="214"/>
                  <a:pt x="20" y="144"/>
                </a:cubicBezTo>
                <a:cubicBezTo>
                  <a:pt x="18" y="121"/>
                  <a:pt x="12" y="99"/>
                  <a:pt x="12" y="76"/>
                </a:cubicBezTo>
                <a:cubicBezTo>
                  <a:pt x="12" y="51"/>
                  <a:pt x="32" y="36"/>
                  <a:pt x="32" y="20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rot="347400">
            <a:off x="2628720" y="1773360"/>
            <a:ext cx="433080" cy="658800"/>
          </a:xfrm>
          <a:custGeom>
            <a:avLst/>
            <a:gdLst/>
            <a:ahLst/>
            <a:rect l="l" t="t" r="r" b="b"/>
            <a:pathLst>
              <a:path w="273" h="415">
                <a:moveTo>
                  <a:pt x="92" y="11"/>
                </a:moveTo>
                <a:cubicBezTo>
                  <a:pt x="59" y="0"/>
                  <a:pt x="102" y="10"/>
                  <a:pt x="72" y="19"/>
                </a:cubicBezTo>
                <a:cubicBezTo>
                  <a:pt x="58" y="23"/>
                  <a:pt x="43" y="22"/>
                  <a:pt x="28" y="23"/>
                </a:cubicBezTo>
                <a:cubicBezTo>
                  <a:pt x="27" y="30"/>
                  <a:pt x="28" y="38"/>
                  <a:pt x="24" y="43"/>
                </a:cubicBezTo>
                <a:cubicBezTo>
                  <a:pt x="20" y="47"/>
                  <a:pt x="12" y="43"/>
                  <a:pt x="8" y="47"/>
                </a:cubicBezTo>
                <a:cubicBezTo>
                  <a:pt x="1" y="55"/>
                  <a:pt x="3" y="69"/>
                  <a:pt x="0" y="79"/>
                </a:cubicBezTo>
                <a:cubicBezTo>
                  <a:pt x="6" y="107"/>
                  <a:pt x="11" y="135"/>
                  <a:pt x="16" y="163"/>
                </a:cubicBezTo>
                <a:cubicBezTo>
                  <a:pt x="17" y="184"/>
                  <a:pt x="15" y="206"/>
                  <a:pt x="20" y="227"/>
                </a:cubicBezTo>
                <a:cubicBezTo>
                  <a:pt x="21" y="231"/>
                  <a:pt x="31" y="227"/>
                  <a:pt x="32" y="231"/>
                </a:cubicBezTo>
                <a:cubicBezTo>
                  <a:pt x="39" y="259"/>
                  <a:pt x="32" y="258"/>
                  <a:pt x="16" y="263"/>
                </a:cubicBezTo>
                <a:cubicBezTo>
                  <a:pt x="19" y="297"/>
                  <a:pt x="17" y="358"/>
                  <a:pt x="48" y="379"/>
                </a:cubicBezTo>
                <a:cubicBezTo>
                  <a:pt x="60" y="415"/>
                  <a:pt x="108" y="371"/>
                  <a:pt x="120" y="407"/>
                </a:cubicBezTo>
                <a:cubicBezTo>
                  <a:pt x="164" y="396"/>
                  <a:pt x="169" y="398"/>
                  <a:pt x="232" y="395"/>
                </a:cubicBezTo>
                <a:cubicBezTo>
                  <a:pt x="249" y="389"/>
                  <a:pt x="258" y="390"/>
                  <a:pt x="268" y="375"/>
                </a:cubicBezTo>
                <a:cubicBezTo>
                  <a:pt x="267" y="340"/>
                  <a:pt x="269" y="305"/>
                  <a:pt x="264" y="271"/>
                </a:cubicBezTo>
                <a:cubicBezTo>
                  <a:pt x="263" y="266"/>
                  <a:pt x="255" y="267"/>
                  <a:pt x="252" y="263"/>
                </a:cubicBezTo>
                <a:cubicBezTo>
                  <a:pt x="249" y="260"/>
                  <a:pt x="249" y="255"/>
                  <a:pt x="248" y="251"/>
                </a:cubicBezTo>
                <a:cubicBezTo>
                  <a:pt x="270" y="244"/>
                  <a:pt x="273" y="231"/>
                  <a:pt x="264" y="207"/>
                </a:cubicBezTo>
                <a:cubicBezTo>
                  <a:pt x="261" y="198"/>
                  <a:pt x="248" y="183"/>
                  <a:pt x="248" y="183"/>
                </a:cubicBezTo>
                <a:cubicBezTo>
                  <a:pt x="253" y="168"/>
                  <a:pt x="263" y="166"/>
                  <a:pt x="268" y="151"/>
                </a:cubicBezTo>
                <a:cubicBezTo>
                  <a:pt x="267" y="124"/>
                  <a:pt x="269" y="97"/>
                  <a:pt x="264" y="71"/>
                </a:cubicBezTo>
                <a:cubicBezTo>
                  <a:pt x="263" y="67"/>
                  <a:pt x="255" y="70"/>
                  <a:pt x="252" y="67"/>
                </a:cubicBezTo>
                <a:cubicBezTo>
                  <a:pt x="249" y="64"/>
                  <a:pt x="249" y="59"/>
                  <a:pt x="248" y="55"/>
                </a:cubicBezTo>
                <a:cubicBezTo>
                  <a:pt x="264" y="6"/>
                  <a:pt x="212" y="17"/>
                  <a:pt x="176" y="15"/>
                </a:cubicBezTo>
                <a:cubicBezTo>
                  <a:pt x="141" y="3"/>
                  <a:pt x="160" y="8"/>
                  <a:pt x="116" y="3"/>
                </a:cubicBezTo>
                <a:cubicBezTo>
                  <a:pt x="97" y="8"/>
                  <a:pt x="105" y="5"/>
                  <a:pt x="92" y="11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103560" y="1773360"/>
            <a:ext cx="433440" cy="671400"/>
          </a:xfrm>
          <a:custGeom>
            <a:avLst/>
            <a:gdLst/>
            <a:ahLst/>
            <a:rect l="l" t="t" r="r" b="b"/>
            <a:pathLst>
              <a:path w="273" h="385">
                <a:moveTo>
                  <a:pt x="77" y="25"/>
                </a:moveTo>
                <a:cubicBezTo>
                  <a:pt x="85" y="0"/>
                  <a:pt x="110" y="5"/>
                  <a:pt x="129" y="17"/>
                </a:cubicBezTo>
                <a:cubicBezTo>
                  <a:pt x="142" y="15"/>
                  <a:pt x="156" y="7"/>
                  <a:pt x="169" y="9"/>
                </a:cubicBezTo>
                <a:cubicBezTo>
                  <a:pt x="174" y="10"/>
                  <a:pt x="176" y="16"/>
                  <a:pt x="181" y="17"/>
                </a:cubicBezTo>
                <a:cubicBezTo>
                  <a:pt x="190" y="20"/>
                  <a:pt x="200" y="20"/>
                  <a:pt x="209" y="21"/>
                </a:cubicBezTo>
                <a:cubicBezTo>
                  <a:pt x="215" y="60"/>
                  <a:pt x="213" y="38"/>
                  <a:pt x="241" y="57"/>
                </a:cubicBezTo>
                <a:cubicBezTo>
                  <a:pt x="239" y="84"/>
                  <a:pt x="223" y="132"/>
                  <a:pt x="257" y="141"/>
                </a:cubicBezTo>
                <a:cubicBezTo>
                  <a:pt x="260" y="149"/>
                  <a:pt x="262" y="157"/>
                  <a:pt x="265" y="165"/>
                </a:cubicBezTo>
                <a:cubicBezTo>
                  <a:pt x="266" y="169"/>
                  <a:pt x="269" y="177"/>
                  <a:pt x="269" y="177"/>
                </a:cubicBezTo>
                <a:cubicBezTo>
                  <a:pt x="268" y="196"/>
                  <a:pt x="270" y="215"/>
                  <a:pt x="265" y="233"/>
                </a:cubicBezTo>
                <a:cubicBezTo>
                  <a:pt x="264" y="237"/>
                  <a:pt x="254" y="233"/>
                  <a:pt x="253" y="237"/>
                </a:cubicBezTo>
                <a:cubicBezTo>
                  <a:pt x="248" y="258"/>
                  <a:pt x="262" y="296"/>
                  <a:pt x="269" y="317"/>
                </a:cubicBezTo>
                <a:cubicBezTo>
                  <a:pt x="254" y="361"/>
                  <a:pt x="273" y="344"/>
                  <a:pt x="197" y="349"/>
                </a:cubicBezTo>
                <a:cubicBezTo>
                  <a:pt x="185" y="385"/>
                  <a:pt x="115" y="366"/>
                  <a:pt x="89" y="349"/>
                </a:cubicBezTo>
                <a:cubicBezTo>
                  <a:pt x="53" y="354"/>
                  <a:pt x="33" y="350"/>
                  <a:pt x="21" y="313"/>
                </a:cubicBezTo>
                <a:cubicBezTo>
                  <a:pt x="24" y="269"/>
                  <a:pt x="28" y="269"/>
                  <a:pt x="21" y="233"/>
                </a:cubicBezTo>
                <a:cubicBezTo>
                  <a:pt x="18" y="220"/>
                  <a:pt x="1" y="197"/>
                  <a:pt x="1" y="197"/>
                </a:cubicBezTo>
                <a:cubicBezTo>
                  <a:pt x="10" y="161"/>
                  <a:pt x="10" y="151"/>
                  <a:pt x="13" y="105"/>
                </a:cubicBezTo>
                <a:cubicBezTo>
                  <a:pt x="10" y="83"/>
                  <a:pt x="0" y="57"/>
                  <a:pt x="25" y="49"/>
                </a:cubicBezTo>
                <a:cubicBezTo>
                  <a:pt x="34" y="36"/>
                  <a:pt x="44" y="32"/>
                  <a:pt x="49" y="17"/>
                </a:cubicBezTo>
                <a:cubicBezTo>
                  <a:pt x="54" y="18"/>
                  <a:pt x="61" y="18"/>
                  <a:pt x="65" y="21"/>
                </a:cubicBezTo>
                <a:cubicBezTo>
                  <a:pt x="68" y="24"/>
                  <a:pt x="65" y="31"/>
                  <a:pt x="69" y="33"/>
                </a:cubicBezTo>
                <a:cubicBezTo>
                  <a:pt x="73" y="35"/>
                  <a:pt x="78" y="32"/>
                  <a:pt x="81" y="29"/>
                </a:cubicBezTo>
                <a:cubicBezTo>
                  <a:pt x="82" y="28"/>
                  <a:pt x="78" y="26"/>
                  <a:pt x="77" y="25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136520" y="5330880"/>
            <a:ext cx="706680" cy="347760"/>
          </a:xfrm>
          <a:custGeom>
            <a:avLst/>
            <a:gdLst/>
            <a:ahLst/>
            <a:rect l="l" t="t" r="r" b="b"/>
            <a:pathLst>
              <a:path w="445" h="219">
                <a:moveTo>
                  <a:pt x="16" y="17"/>
                </a:moveTo>
                <a:cubicBezTo>
                  <a:pt x="50" y="11"/>
                  <a:pt x="65" y="7"/>
                  <a:pt x="103" y="5"/>
                </a:cubicBezTo>
                <a:cubicBezTo>
                  <a:pt x="118" y="0"/>
                  <a:pt x="120" y="9"/>
                  <a:pt x="133" y="11"/>
                </a:cubicBezTo>
                <a:cubicBezTo>
                  <a:pt x="151" y="14"/>
                  <a:pt x="169" y="13"/>
                  <a:pt x="187" y="14"/>
                </a:cubicBezTo>
                <a:cubicBezTo>
                  <a:pt x="202" y="24"/>
                  <a:pt x="213" y="16"/>
                  <a:pt x="229" y="11"/>
                </a:cubicBezTo>
                <a:cubicBezTo>
                  <a:pt x="235" y="9"/>
                  <a:pt x="247" y="5"/>
                  <a:pt x="247" y="5"/>
                </a:cubicBezTo>
                <a:cubicBezTo>
                  <a:pt x="276" y="15"/>
                  <a:pt x="263" y="14"/>
                  <a:pt x="310" y="17"/>
                </a:cubicBezTo>
                <a:cubicBezTo>
                  <a:pt x="323" y="26"/>
                  <a:pt x="334" y="22"/>
                  <a:pt x="349" y="17"/>
                </a:cubicBezTo>
                <a:cubicBezTo>
                  <a:pt x="361" y="18"/>
                  <a:pt x="373" y="17"/>
                  <a:pt x="385" y="20"/>
                </a:cubicBezTo>
                <a:cubicBezTo>
                  <a:pt x="388" y="21"/>
                  <a:pt x="388" y="26"/>
                  <a:pt x="391" y="29"/>
                </a:cubicBezTo>
                <a:cubicBezTo>
                  <a:pt x="394" y="32"/>
                  <a:pt x="397" y="34"/>
                  <a:pt x="400" y="35"/>
                </a:cubicBezTo>
                <a:cubicBezTo>
                  <a:pt x="409" y="37"/>
                  <a:pt x="418" y="37"/>
                  <a:pt x="427" y="38"/>
                </a:cubicBezTo>
                <a:cubicBezTo>
                  <a:pt x="434" y="60"/>
                  <a:pt x="419" y="83"/>
                  <a:pt x="445" y="89"/>
                </a:cubicBezTo>
                <a:cubicBezTo>
                  <a:pt x="441" y="118"/>
                  <a:pt x="444" y="113"/>
                  <a:pt x="421" y="119"/>
                </a:cubicBezTo>
                <a:cubicBezTo>
                  <a:pt x="413" y="143"/>
                  <a:pt x="424" y="145"/>
                  <a:pt x="394" y="149"/>
                </a:cubicBezTo>
                <a:cubicBezTo>
                  <a:pt x="387" y="198"/>
                  <a:pt x="371" y="156"/>
                  <a:pt x="337" y="179"/>
                </a:cubicBezTo>
                <a:cubicBezTo>
                  <a:pt x="315" y="172"/>
                  <a:pt x="280" y="162"/>
                  <a:pt x="271" y="188"/>
                </a:cubicBezTo>
                <a:cubicBezTo>
                  <a:pt x="259" y="184"/>
                  <a:pt x="259" y="177"/>
                  <a:pt x="247" y="173"/>
                </a:cubicBezTo>
                <a:cubicBezTo>
                  <a:pt x="232" y="151"/>
                  <a:pt x="235" y="149"/>
                  <a:pt x="184" y="167"/>
                </a:cubicBezTo>
                <a:cubicBezTo>
                  <a:pt x="178" y="169"/>
                  <a:pt x="186" y="181"/>
                  <a:pt x="181" y="185"/>
                </a:cubicBezTo>
                <a:cubicBezTo>
                  <a:pt x="176" y="190"/>
                  <a:pt x="167" y="187"/>
                  <a:pt x="160" y="188"/>
                </a:cubicBezTo>
                <a:cubicBezTo>
                  <a:pt x="140" y="195"/>
                  <a:pt x="117" y="187"/>
                  <a:pt x="97" y="194"/>
                </a:cubicBezTo>
                <a:cubicBezTo>
                  <a:pt x="91" y="196"/>
                  <a:pt x="97" y="210"/>
                  <a:pt x="91" y="212"/>
                </a:cubicBezTo>
                <a:cubicBezTo>
                  <a:pt x="78" y="216"/>
                  <a:pt x="85" y="214"/>
                  <a:pt x="70" y="218"/>
                </a:cubicBezTo>
                <a:cubicBezTo>
                  <a:pt x="48" y="214"/>
                  <a:pt x="58" y="219"/>
                  <a:pt x="43" y="197"/>
                </a:cubicBezTo>
                <a:cubicBezTo>
                  <a:pt x="39" y="191"/>
                  <a:pt x="31" y="179"/>
                  <a:pt x="31" y="179"/>
                </a:cubicBezTo>
                <a:cubicBezTo>
                  <a:pt x="38" y="157"/>
                  <a:pt x="29" y="129"/>
                  <a:pt x="10" y="116"/>
                </a:cubicBezTo>
                <a:cubicBezTo>
                  <a:pt x="3" y="96"/>
                  <a:pt x="0" y="99"/>
                  <a:pt x="7" y="77"/>
                </a:cubicBezTo>
                <a:cubicBezTo>
                  <a:pt x="8" y="63"/>
                  <a:pt x="6" y="49"/>
                  <a:pt x="10" y="35"/>
                </a:cubicBezTo>
                <a:cubicBezTo>
                  <a:pt x="13" y="25"/>
                  <a:pt x="38" y="31"/>
                  <a:pt x="16" y="17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895400" y="4435560"/>
            <a:ext cx="273240" cy="473040"/>
          </a:xfrm>
          <a:custGeom>
            <a:avLst/>
            <a:gdLst/>
            <a:ahLst/>
            <a:rect l="l" t="t" r="r" b="b"/>
            <a:pathLst>
              <a:path w="172" h="298">
                <a:moveTo>
                  <a:pt x="14" y="54"/>
                </a:moveTo>
                <a:cubicBezTo>
                  <a:pt x="23" y="28"/>
                  <a:pt x="10" y="55"/>
                  <a:pt x="42" y="34"/>
                </a:cubicBezTo>
                <a:cubicBezTo>
                  <a:pt x="50" y="29"/>
                  <a:pt x="58" y="23"/>
                  <a:pt x="66" y="18"/>
                </a:cubicBezTo>
                <a:cubicBezTo>
                  <a:pt x="70" y="15"/>
                  <a:pt x="78" y="10"/>
                  <a:pt x="78" y="10"/>
                </a:cubicBezTo>
                <a:cubicBezTo>
                  <a:pt x="149" y="18"/>
                  <a:pt x="96" y="0"/>
                  <a:pt x="118" y="34"/>
                </a:cubicBezTo>
                <a:cubicBezTo>
                  <a:pt x="123" y="41"/>
                  <a:pt x="135" y="41"/>
                  <a:pt x="142" y="46"/>
                </a:cubicBezTo>
                <a:cubicBezTo>
                  <a:pt x="163" y="78"/>
                  <a:pt x="154" y="119"/>
                  <a:pt x="142" y="154"/>
                </a:cubicBezTo>
                <a:cubicBezTo>
                  <a:pt x="143" y="162"/>
                  <a:pt x="143" y="171"/>
                  <a:pt x="146" y="178"/>
                </a:cubicBezTo>
                <a:cubicBezTo>
                  <a:pt x="150" y="187"/>
                  <a:pt x="162" y="202"/>
                  <a:pt x="162" y="202"/>
                </a:cubicBezTo>
                <a:cubicBezTo>
                  <a:pt x="157" y="240"/>
                  <a:pt x="161" y="245"/>
                  <a:pt x="126" y="254"/>
                </a:cubicBezTo>
                <a:cubicBezTo>
                  <a:pt x="125" y="258"/>
                  <a:pt x="125" y="263"/>
                  <a:pt x="122" y="266"/>
                </a:cubicBezTo>
                <a:cubicBezTo>
                  <a:pt x="119" y="269"/>
                  <a:pt x="112" y="266"/>
                  <a:pt x="110" y="270"/>
                </a:cubicBezTo>
                <a:cubicBezTo>
                  <a:pt x="106" y="278"/>
                  <a:pt x="107" y="289"/>
                  <a:pt x="106" y="298"/>
                </a:cubicBezTo>
                <a:cubicBezTo>
                  <a:pt x="0" y="271"/>
                  <a:pt x="172" y="106"/>
                  <a:pt x="34" y="106"/>
                </a:cubicBezTo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08160" y="4437000"/>
            <a:ext cx="273240" cy="473040"/>
          </a:xfrm>
          <a:custGeom>
            <a:avLst/>
            <a:gdLst/>
            <a:ahLst/>
            <a:rect l="l" t="t" r="r" b="b"/>
            <a:pathLst>
              <a:path w="172" h="298">
                <a:moveTo>
                  <a:pt x="14" y="54"/>
                </a:moveTo>
                <a:cubicBezTo>
                  <a:pt x="23" y="28"/>
                  <a:pt x="10" y="55"/>
                  <a:pt x="42" y="34"/>
                </a:cubicBezTo>
                <a:cubicBezTo>
                  <a:pt x="50" y="29"/>
                  <a:pt x="58" y="23"/>
                  <a:pt x="66" y="18"/>
                </a:cubicBezTo>
                <a:cubicBezTo>
                  <a:pt x="70" y="15"/>
                  <a:pt x="78" y="10"/>
                  <a:pt x="78" y="10"/>
                </a:cubicBezTo>
                <a:cubicBezTo>
                  <a:pt x="149" y="18"/>
                  <a:pt x="96" y="0"/>
                  <a:pt x="118" y="34"/>
                </a:cubicBezTo>
                <a:cubicBezTo>
                  <a:pt x="123" y="41"/>
                  <a:pt x="135" y="41"/>
                  <a:pt x="142" y="46"/>
                </a:cubicBezTo>
                <a:cubicBezTo>
                  <a:pt x="163" y="78"/>
                  <a:pt x="154" y="119"/>
                  <a:pt x="142" y="154"/>
                </a:cubicBezTo>
                <a:cubicBezTo>
                  <a:pt x="143" y="162"/>
                  <a:pt x="143" y="171"/>
                  <a:pt x="146" y="178"/>
                </a:cubicBezTo>
                <a:cubicBezTo>
                  <a:pt x="150" y="187"/>
                  <a:pt x="162" y="202"/>
                  <a:pt x="162" y="202"/>
                </a:cubicBezTo>
                <a:cubicBezTo>
                  <a:pt x="157" y="240"/>
                  <a:pt x="161" y="245"/>
                  <a:pt x="126" y="254"/>
                </a:cubicBezTo>
                <a:cubicBezTo>
                  <a:pt x="125" y="258"/>
                  <a:pt x="125" y="263"/>
                  <a:pt x="122" y="266"/>
                </a:cubicBezTo>
                <a:cubicBezTo>
                  <a:pt x="119" y="269"/>
                  <a:pt x="112" y="266"/>
                  <a:pt x="110" y="270"/>
                </a:cubicBezTo>
                <a:cubicBezTo>
                  <a:pt x="106" y="278"/>
                  <a:pt x="107" y="289"/>
                  <a:pt x="106" y="298"/>
                </a:cubicBezTo>
                <a:cubicBezTo>
                  <a:pt x="0" y="271"/>
                  <a:pt x="172" y="106"/>
                  <a:pt x="34" y="106"/>
                </a:cubicBezTo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513240" y="4437000"/>
            <a:ext cx="344520" cy="473040"/>
          </a:xfrm>
          <a:custGeom>
            <a:avLst/>
            <a:gdLst/>
            <a:ahLst/>
            <a:rect l="l" t="t" r="r" b="b"/>
            <a:pathLst>
              <a:path w="172" h="298">
                <a:moveTo>
                  <a:pt x="14" y="54"/>
                </a:moveTo>
                <a:cubicBezTo>
                  <a:pt x="23" y="28"/>
                  <a:pt x="10" y="55"/>
                  <a:pt x="42" y="34"/>
                </a:cubicBezTo>
                <a:cubicBezTo>
                  <a:pt x="50" y="29"/>
                  <a:pt x="58" y="23"/>
                  <a:pt x="66" y="18"/>
                </a:cubicBezTo>
                <a:cubicBezTo>
                  <a:pt x="70" y="15"/>
                  <a:pt x="78" y="10"/>
                  <a:pt x="78" y="10"/>
                </a:cubicBezTo>
                <a:cubicBezTo>
                  <a:pt x="149" y="18"/>
                  <a:pt x="96" y="0"/>
                  <a:pt x="118" y="34"/>
                </a:cubicBezTo>
                <a:cubicBezTo>
                  <a:pt x="123" y="41"/>
                  <a:pt x="135" y="41"/>
                  <a:pt x="142" y="46"/>
                </a:cubicBezTo>
                <a:cubicBezTo>
                  <a:pt x="163" y="78"/>
                  <a:pt x="154" y="119"/>
                  <a:pt x="142" y="154"/>
                </a:cubicBezTo>
                <a:cubicBezTo>
                  <a:pt x="143" y="162"/>
                  <a:pt x="143" y="171"/>
                  <a:pt x="146" y="178"/>
                </a:cubicBezTo>
                <a:cubicBezTo>
                  <a:pt x="150" y="187"/>
                  <a:pt x="162" y="202"/>
                  <a:pt x="162" y="202"/>
                </a:cubicBezTo>
                <a:cubicBezTo>
                  <a:pt x="157" y="240"/>
                  <a:pt x="161" y="245"/>
                  <a:pt x="126" y="254"/>
                </a:cubicBezTo>
                <a:cubicBezTo>
                  <a:pt x="125" y="258"/>
                  <a:pt x="125" y="263"/>
                  <a:pt x="122" y="266"/>
                </a:cubicBezTo>
                <a:cubicBezTo>
                  <a:pt x="119" y="269"/>
                  <a:pt x="112" y="266"/>
                  <a:pt x="110" y="270"/>
                </a:cubicBezTo>
                <a:cubicBezTo>
                  <a:pt x="106" y="278"/>
                  <a:pt x="107" y="289"/>
                  <a:pt x="106" y="298"/>
                </a:cubicBezTo>
                <a:cubicBezTo>
                  <a:pt x="0" y="271"/>
                  <a:pt x="172" y="106"/>
                  <a:pt x="34" y="106"/>
                </a:cubicBezTo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737240" y="4432320"/>
            <a:ext cx="287280" cy="482760"/>
          </a:xfrm>
          <a:custGeom>
            <a:avLst/>
            <a:gdLst/>
            <a:ahLst/>
            <a:rect l="l" t="t" r="r" b="b"/>
            <a:pathLst>
              <a:path w="95" h="304">
                <a:moveTo>
                  <a:pt x="11" y="84"/>
                </a:moveTo>
                <a:cubicBezTo>
                  <a:pt x="1" y="68"/>
                  <a:pt x="0" y="58"/>
                  <a:pt x="19" y="52"/>
                </a:cubicBezTo>
                <a:cubicBezTo>
                  <a:pt x="14" y="20"/>
                  <a:pt x="16" y="10"/>
                  <a:pt x="47" y="0"/>
                </a:cubicBezTo>
                <a:cubicBezTo>
                  <a:pt x="50" y="11"/>
                  <a:pt x="61" y="30"/>
                  <a:pt x="71" y="36"/>
                </a:cubicBezTo>
                <a:cubicBezTo>
                  <a:pt x="78" y="40"/>
                  <a:pt x="95" y="44"/>
                  <a:pt x="95" y="44"/>
                </a:cubicBezTo>
                <a:cubicBezTo>
                  <a:pt x="92" y="52"/>
                  <a:pt x="84" y="59"/>
                  <a:pt x="83" y="68"/>
                </a:cubicBezTo>
                <a:cubicBezTo>
                  <a:pt x="68" y="196"/>
                  <a:pt x="90" y="127"/>
                  <a:pt x="75" y="172"/>
                </a:cubicBezTo>
                <a:cubicBezTo>
                  <a:pt x="76" y="185"/>
                  <a:pt x="76" y="199"/>
                  <a:pt x="79" y="212"/>
                </a:cubicBezTo>
                <a:cubicBezTo>
                  <a:pt x="80" y="217"/>
                  <a:pt x="87" y="219"/>
                  <a:pt x="87" y="224"/>
                </a:cubicBezTo>
                <a:cubicBezTo>
                  <a:pt x="89" y="258"/>
                  <a:pt x="82" y="275"/>
                  <a:pt x="75" y="304"/>
                </a:cubicBezTo>
                <a:cubicBezTo>
                  <a:pt x="50" y="296"/>
                  <a:pt x="47" y="297"/>
                  <a:pt x="39" y="272"/>
                </a:cubicBezTo>
                <a:cubicBezTo>
                  <a:pt x="41" y="242"/>
                  <a:pt x="36" y="185"/>
                  <a:pt x="55" y="156"/>
                </a:cubicBezTo>
                <a:cubicBezTo>
                  <a:pt x="53" y="130"/>
                  <a:pt x="61" y="101"/>
                  <a:pt x="35" y="92"/>
                </a:cubicBezTo>
                <a:cubicBezTo>
                  <a:pt x="22" y="73"/>
                  <a:pt x="30" y="59"/>
                  <a:pt x="11" y="84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324160" y="4416480"/>
            <a:ext cx="282600" cy="531720"/>
          </a:xfrm>
          <a:custGeom>
            <a:avLst/>
            <a:gdLst/>
            <a:ahLst/>
            <a:rect l="l" t="t" r="r" b="b"/>
            <a:pathLst>
              <a:path w="178" h="335">
                <a:moveTo>
                  <a:pt x="152" y="98"/>
                </a:moveTo>
                <a:cubicBezTo>
                  <a:pt x="155" y="94"/>
                  <a:pt x="157" y="89"/>
                  <a:pt x="160" y="86"/>
                </a:cubicBezTo>
                <a:cubicBezTo>
                  <a:pt x="163" y="83"/>
                  <a:pt x="171" y="83"/>
                  <a:pt x="172" y="78"/>
                </a:cubicBezTo>
                <a:cubicBezTo>
                  <a:pt x="178" y="50"/>
                  <a:pt x="164" y="45"/>
                  <a:pt x="144" y="38"/>
                </a:cubicBezTo>
                <a:cubicBezTo>
                  <a:pt x="131" y="0"/>
                  <a:pt x="94" y="20"/>
                  <a:pt x="56" y="22"/>
                </a:cubicBezTo>
                <a:cubicBezTo>
                  <a:pt x="53" y="26"/>
                  <a:pt x="50" y="29"/>
                  <a:pt x="48" y="34"/>
                </a:cubicBezTo>
                <a:cubicBezTo>
                  <a:pt x="45" y="42"/>
                  <a:pt x="47" y="51"/>
                  <a:pt x="44" y="58"/>
                </a:cubicBezTo>
                <a:cubicBezTo>
                  <a:pt x="38" y="71"/>
                  <a:pt x="8" y="78"/>
                  <a:pt x="8" y="78"/>
                </a:cubicBezTo>
                <a:cubicBezTo>
                  <a:pt x="10" y="90"/>
                  <a:pt x="14" y="102"/>
                  <a:pt x="16" y="114"/>
                </a:cubicBezTo>
                <a:cubicBezTo>
                  <a:pt x="27" y="192"/>
                  <a:pt x="0" y="180"/>
                  <a:pt x="40" y="190"/>
                </a:cubicBezTo>
                <a:cubicBezTo>
                  <a:pt x="11" y="200"/>
                  <a:pt x="21" y="191"/>
                  <a:pt x="8" y="210"/>
                </a:cubicBezTo>
                <a:cubicBezTo>
                  <a:pt x="15" y="244"/>
                  <a:pt x="21" y="248"/>
                  <a:pt x="24" y="290"/>
                </a:cubicBezTo>
                <a:cubicBezTo>
                  <a:pt x="7" y="296"/>
                  <a:pt x="2" y="301"/>
                  <a:pt x="8" y="318"/>
                </a:cubicBezTo>
                <a:cubicBezTo>
                  <a:pt x="36" y="317"/>
                  <a:pt x="74" y="335"/>
                  <a:pt x="92" y="314"/>
                </a:cubicBezTo>
                <a:cubicBezTo>
                  <a:pt x="127" y="274"/>
                  <a:pt x="81" y="216"/>
                  <a:pt x="68" y="178"/>
                </a:cubicBezTo>
                <a:cubicBezTo>
                  <a:pt x="70" y="167"/>
                  <a:pt x="82" y="115"/>
                  <a:pt x="84" y="114"/>
                </a:cubicBezTo>
                <a:cubicBezTo>
                  <a:pt x="97" y="107"/>
                  <a:pt x="114" y="113"/>
                  <a:pt x="128" y="110"/>
                </a:cubicBezTo>
                <a:cubicBezTo>
                  <a:pt x="137" y="108"/>
                  <a:pt x="144" y="102"/>
                  <a:pt x="152" y="98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049640" y="4456080"/>
            <a:ext cx="200160" cy="465120"/>
          </a:xfrm>
          <a:custGeom>
            <a:avLst/>
            <a:gdLst/>
            <a:ahLst/>
            <a:rect l="l" t="t" r="r" b="b"/>
            <a:pathLst>
              <a:path w="126" h="293">
                <a:moveTo>
                  <a:pt x="117" y="61"/>
                </a:moveTo>
                <a:cubicBezTo>
                  <a:pt x="120" y="53"/>
                  <a:pt x="126" y="41"/>
                  <a:pt x="117" y="33"/>
                </a:cubicBezTo>
                <a:cubicBezTo>
                  <a:pt x="111" y="28"/>
                  <a:pt x="93" y="25"/>
                  <a:pt x="93" y="25"/>
                </a:cubicBezTo>
                <a:cubicBezTo>
                  <a:pt x="85" y="0"/>
                  <a:pt x="66" y="10"/>
                  <a:pt x="41" y="13"/>
                </a:cubicBezTo>
                <a:cubicBezTo>
                  <a:pt x="34" y="35"/>
                  <a:pt x="36" y="59"/>
                  <a:pt x="29" y="81"/>
                </a:cubicBezTo>
                <a:cubicBezTo>
                  <a:pt x="30" y="92"/>
                  <a:pt x="31" y="102"/>
                  <a:pt x="33" y="113"/>
                </a:cubicBezTo>
                <a:cubicBezTo>
                  <a:pt x="35" y="121"/>
                  <a:pt x="41" y="137"/>
                  <a:pt x="41" y="137"/>
                </a:cubicBezTo>
                <a:cubicBezTo>
                  <a:pt x="38" y="161"/>
                  <a:pt x="44" y="181"/>
                  <a:pt x="21" y="189"/>
                </a:cubicBezTo>
                <a:cubicBezTo>
                  <a:pt x="9" y="224"/>
                  <a:pt x="0" y="271"/>
                  <a:pt x="33" y="293"/>
                </a:cubicBezTo>
                <a:cubicBezTo>
                  <a:pt x="61" y="287"/>
                  <a:pt x="47" y="291"/>
                  <a:pt x="77" y="281"/>
                </a:cubicBezTo>
                <a:cubicBezTo>
                  <a:pt x="81" y="280"/>
                  <a:pt x="89" y="277"/>
                  <a:pt x="89" y="277"/>
                </a:cubicBezTo>
                <a:cubicBezTo>
                  <a:pt x="86" y="230"/>
                  <a:pt x="98" y="215"/>
                  <a:pt x="65" y="193"/>
                </a:cubicBezTo>
                <a:cubicBezTo>
                  <a:pt x="69" y="155"/>
                  <a:pt x="73" y="117"/>
                  <a:pt x="85" y="81"/>
                </a:cubicBezTo>
                <a:cubicBezTo>
                  <a:pt x="87" y="76"/>
                  <a:pt x="96" y="80"/>
                  <a:pt x="101" y="77"/>
                </a:cubicBezTo>
                <a:cubicBezTo>
                  <a:pt x="107" y="73"/>
                  <a:pt x="112" y="66"/>
                  <a:pt x="117" y="61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216400" y="4448160"/>
            <a:ext cx="185760" cy="473040"/>
          </a:xfrm>
          <a:custGeom>
            <a:avLst/>
            <a:gdLst/>
            <a:ahLst/>
            <a:rect l="l" t="t" r="r" b="b"/>
            <a:pathLst>
              <a:path w="117" h="298">
                <a:moveTo>
                  <a:pt x="66" y="298"/>
                </a:moveTo>
                <a:cubicBezTo>
                  <a:pt x="34" y="290"/>
                  <a:pt x="57" y="275"/>
                  <a:pt x="30" y="266"/>
                </a:cubicBezTo>
                <a:cubicBezTo>
                  <a:pt x="21" y="212"/>
                  <a:pt x="33" y="264"/>
                  <a:pt x="18" y="230"/>
                </a:cubicBezTo>
                <a:cubicBezTo>
                  <a:pt x="15" y="222"/>
                  <a:pt x="10" y="206"/>
                  <a:pt x="10" y="206"/>
                </a:cubicBezTo>
                <a:cubicBezTo>
                  <a:pt x="15" y="190"/>
                  <a:pt x="11" y="181"/>
                  <a:pt x="6" y="166"/>
                </a:cubicBezTo>
                <a:cubicBezTo>
                  <a:pt x="10" y="131"/>
                  <a:pt x="0" y="139"/>
                  <a:pt x="18" y="130"/>
                </a:cubicBezTo>
                <a:lnTo>
                  <a:pt x="15" y="84"/>
                </a:lnTo>
                <a:cubicBezTo>
                  <a:pt x="16" y="77"/>
                  <a:pt x="19" y="69"/>
                  <a:pt x="18" y="62"/>
                </a:cubicBezTo>
                <a:cubicBezTo>
                  <a:pt x="17" y="54"/>
                  <a:pt x="10" y="38"/>
                  <a:pt x="10" y="38"/>
                </a:cubicBezTo>
                <a:cubicBezTo>
                  <a:pt x="47" y="31"/>
                  <a:pt x="19" y="28"/>
                  <a:pt x="46" y="14"/>
                </a:cubicBezTo>
                <a:cubicBezTo>
                  <a:pt x="60" y="7"/>
                  <a:pt x="76" y="7"/>
                  <a:pt x="90" y="2"/>
                </a:cubicBezTo>
                <a:cubicBezTo>
                  <a:pt x="97" y="3"/>
                  <a:pt x="107" y="0"/>
                  <a:pt x="110" y="6"/>
                </a:cubicBezTo>
                <a:cubicBezTo>
                  <a:pt x="114" y="13"/>
                  <a:pt x="117" y="66"/>
                  <a:pt x="110" y="74"/>
                </a:cubicBezTo>
                <a:cubicBezTo>
                  <a:pt x="102" y="85"/>
                  <a:pt x="83" y="79"/>
                  <a:pt x="70" y="82"/>
                </a:cubicBezTo>
                <a:cubicBezTo>
                  <a:pt x="71" y="117"/>
                  <a:pt x="72" y="151"/>
                  <a:pt x="74" y="186"/>
                </a:cubicBezTo>
                <a:cubicBezTo>
                  <a:pt x="76" y="208"/>
                  <a:pt x="86" y="231"/>
                  <a:pt x="86" y="254"/>
                </a:cubicBezTo>
                <a:lnTo>
                  <a:pt x="66" y="298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240160" y="4797360"/>
            <a:ext cx="0" cy="64764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952880" y="4869000"/>
            <a:ext cx="0" cy="5760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089240" y="4869000"/>
            <a:ext cx="0" cy="5760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800520" y="4797360"/>
            <a:ext cx="0" cy="64764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2" name=""/>
          <p:cNvCxnSpPr>
            <a:stCxn id="1672" idx="0"/>
            <a:endCxn id="1664" idx="1"/>
          </p:cNvCxnSpPr>
          <p:nvPr/>
        </p:nvCxnSpPr>
        <p:spPr>
          <a:xfrm>
            <a:off x="3265560" y="4757760"/>
            <a:ext cx="103320" cy="1178280"/>
          </a:xfrm>
          <a:prstGeom prst="bentConnector5">
            <a:avLst>
              <a:gd name="adj1" fmla="val 219930"/>
              <a:gd name="adj2" fmla="val 35635"/>
              <a:gd name="adj3" fmla="val -120629"/>
            </a:avLst>
          </a:prstGeom>
          <a:ln w="25560">
            <a:solidFill>
              <a:srgbClr val="808080"/>
            </a:solidFill>
            <a:miter/>
          </a:ln>
        </p:spPr>
      </p:cxnSp>
      <p:cxnSp>
        <p:nvCxnSpPr>
          <p:cNvPr id="1683" name=""/>
          <p:cNvCxnSpPr>
            <a:stCxn id="1675" idx="0"/>
            <a:endCxn id="1664" idx="1"/>
          </p:cNvCxnSpPr>
          <p:nvPr/>
        </p:nvCxnSpPr>
        <p:spPr>
          <a:xfrm flipH="1" flipV="1" rot="10800000">
            <a:off x="2336760" y="4749840"/>
            <a:ext cx="1032120" cy="1186200"/>
          </a:xfrm>
          <a:prstGeom prst="bentConnector3">
            <a:avLst>
              <a:gd name="adj1" fmla="val -22435"/>
            </a:avLst>
          </a:prstGeom>
          <a:ln w="25560">
            <a:solidFill>
              <a:srgbClr val="808080"/>
            </a:solidFill>
            <a:miter/>
          </a:ln>
        </p:spPr>
      </p:cxnSp>
      <p:cxnSp>
        <p:nvCxnSpPr>
          <p:cNvPr id="1684" name=""/>
          <p:cNvCxnSpPr>
            <a:stCxn id="1671" idx="0"/>
            <a:endCxn id="1664" idx="1"/>
          </p:cNvCxnSpPr>
          <p:nvPr/>
        </p:nvCxnSpPr>
        <p:spPr>
          <a:xfrm>
            <a:off x="2152800" y="4756320"/>
            <a:ext cx="1216080" cy="1179720"/>
          </a:xfrm>
          <a:prstGeom prst="bentConnector3">
            <a:avLst>
              <a:gd name="adj1" fmla="val 49985"/>
            </a:avLst>
          </a:prstGeom>
          <a:ln w="25560">
            <a:solidFill>
              <a:srgbClr val="808080"/>
            </a:solidFill>
            <a:miter/>
          </a:ln>
        </p:spPr>
      </p:cxnSp>
      <p:sp>
        <p:nvSpPr>
          <p:cNvPr id="1685" name=""/>
          <p:cNvSpPr/>
          <p:nvPr/>
        </p:nvSpPr>
        <p:spPr>
          <a:xfrm>
            <a:off x="6883560" y="3703680"/>
            <a:ext cx="293400" cy="317520"/>
          </a:xfrm>
          <a:custGeom>
            <a:avLst/>
            <a:gdLst/>
            <a:ahLst/>
            <a:rect l="l" t="t" r="r" b="b"/>
            <a:pathLst>
              <a:path w="185" h="200">
                <a:moveTo>
                  <a:pt x="95" y="7"/>
                </a:moveTo>
                <a:cubicBezTo>
                  <a:pt x="80" y="8"/>
                  <a:pt x="65" y="6"/>
                  <a:pt x="50" y="10"/>
                </a:cubicBezTo>
                <a:cubicBezTo>
                  <a:pt x="43" y="12"/>
                  <a:pt x="47" y="24"/>
                  <a:pt x="41" y="28"/>
                </a:cubicBezTo>
                <a:cubicBezTo>
                  <a:pt x="36" y="31"/>
                  <a:pt x="23" y="34"/>
                  <a:pt x="23" y="34"/>
                </a:cubicBezTo>
                <a:cubicBezTo>
                  <a:pt x="26" y="57"/>
                  <a:pt x="32" y="65"/>
                  <a:pt x="8" y="70"/>
                </a:cubicBezTo>
                <a:cubicBezTo>
                  <a:pt x="1" y="92"/>
                  <a:pt x="0" y="92"/>
                  <a:pt x="8" y="130"/>
                </a:cubicBezTo>
                <a:cubicBezTo>
                  <a:pt x="9" y="132"/>
                  <a:pt x="32" y="140"/>
                  <a:pt x="35" y="142"/>
                </a:cubicBezTo>
                <a:cubicBezTo>
                  <a:pt x="41" y="146"/>
                  <a:pt x="53" y="154"/>
                  <a:pt x="53" y="154"/>
                </a:cubicBezTo>
                <a:cubicBezTo>
                  <a:pt x="58" y="170"/>
                  <a:pt x="66" y="169"/>
                  <a:pt x="83" y="172"/>
                </a:cubicBezTo>
                <a:cubicBezTo>
                  <a:pt x="87" y="188"/>
                  <a:pt x="91" y="189"/>
                  <a:pt x="107" y="193"/>
                </a:cubicBezTo>
                <a:cubicBezTo>
                  <a:pt x="123" y="192"/>
                  <a:pt x="142" y="200"/>
                  <a:pt x="155" y="190"/>
                </a:cubicBezTo>
                <a:cubicBezTo>
                  <a:pt x="165" y="183"/>
                  <a:pt x="155" y="166"/>
                  <a:pt x="158" y="154"/>
                </a:cubicBezTo>
                <a:cubicBezTo>
                  <a:pt x="159" y="151"/>
                  <a:pt x="164" y="150"/>
                  <a:pt x="167" y="148"/>
                </a:cubicBezTo>
                <a:cubicBezTo>
                  <a:pt x="165" y="78"/>
                  <a:pt x="185" y="52"/>
                  <a:pt x="140" y="22"/>
                </a:cubicBezTo>
                <a:cubicBezTo>
                  <a:pt x="133" y="0"/>
                  <a:pt x="115" y="5"/>
                  <a:pt x="95" y="7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862680" y="4384800"/>
            <a:ext cx="292320" cy="358560"/>
          </a:xfrm>
          <a:custGeom>
            <a:avLst/>
            <a:gdLst/>
            <a:ahLst/>
            <a:rect l="l" t="t" r="r" b="b"/>
            <a:pathLst>
              <a:path w="184" h="226">
                <a:moveTo>
                  <a:pt x="183" y="73"/>
                </a:moveTo>
                <a:cubicBezTo>
                  <a:pt x="182" y="63"/>
                  <a:pt x="183" y="52"/>
                  <a:pt x="180" y="43"/>
                </a:cubicBezTo>
                <a:cubicBezTo>
                  <a:pt x="179" y="40"/>
                  <a:pt x="173" y="42"/>
                  <a:pt x="171" y="40"/>
                </a:cubicBezTo>
                <a:cubicBezTo>
                  <a:pt x="165" y="34"/>
                  <a:pt x="170" y="23"/>
                  <a:pt x="165" y="16"/>
                </a:cubicBezTo>
                <a:cubicBezTo>
                  <a:pt x="154" y="0"/>
                  <a:pt x="127" y="11"/>
                  <a:pt x="108" y="10"/>
                </a:cubicBezTo>
                <a:cubicBezTo>
                  <a:pt x="96" y="2"/>
                  <a:pt x="93" y="0"/>
                  <a:pt x="78" y="4"/>
                </a:cubicBezTo>
                <a:cubicBezTo>
                  <a:pt x="60" y="30"/>
                  <a:pt x="66" y="25"/>
                  <a:pt x="24" y="28"/>
                </a:cubicBezTo>
                <a:cubicBezTo>
                  <a:pt x="12" y="46"/>
                  <a:pt x="14" y="54"/>
                  <a:pt x="12" y="79"/>
                </a:cubicBezTo>
                <a:cubicBezTo>
                  <a:pt x="14" y="86"/>
                  <a:pt x="20" y="92"/>
                  <a:pt x="21" y="100"/>
                </a:cubicBezTo>
                <a:cubicBezTo>
                  <a:pt x="33" y="184"/>
                  <a:pt x="0" y="173"/>
                  <a:pt x="42" y="181"/>
                </a:cubicBezTo>
                <a:cubicBezTo>
                  <a:pt x="51" y="207"/>
                  <a:pt x="53" y="202"/>
                  <a:pt x="78" y="208"/>
                </a:cubicBezTo>
                <a:cubicBezTo>
                  <a:pt x="104" y="225"/>
                  <a:pt x="102" y="226"/>
                  <a:pt x="159" y="211"/>
                </a:cubicBezTo>
                <a:cubicBezTo>
                  <a:pt x="165" y="209"/>
                  <a:pt x="165" y="193"/>
                  <a:pt x="165" y="193"/>
                </a:cubicBezTo>
                <a:cubicBezTo>
                  <a:pt x="170" y="128"/>
                  <a:pt x="168" y="179"/>
                  <a:pt x="180" y="142"/>
                </a:cubicBezTo>
                <a:cubicBezTo>
                  <a:pt x="184" y="91"/>
                  <a:pt x="183" y="114"/>
                  <a:pt x="183" y="73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7" name=""/>
          <p:cNvCxnSpPr>
            <a:stCxn id="1685" idx="0"/>
            <a:endCxn id="1665" idx="1"/>
          </p:cNvCxnSpPr>
          <p:nvPr/>
        </p:nvCxnSpPr>
        <p:spPr>
          <a:xfrm flipV="1" rot="10800000">
            <a:off x="6752880" y="3909600"/>
            <a:ext cx="143280" cy="1658880"/>
          </a:xfrm>
          <a:prstGeom prst="bentConnector3">
            <a:avLst>
              <a:gd name="adj1" fmla="val 258690"/>
            </a:avLst>
          </a:prstGeom>
          <a:ln w="25560">
            <a:solidFill>
              <a:srgbClr val="808080"/>
            </a:solidFill>
            <a:miter/>
          </a:ln>
        </p:spPr>
      </p:cxnSp>
      <p:cxnSp>
        <p:nvCxnSpPr>
          <p:cNvPr id="1688" name=""/>
          <p:cNvCxnSpPr>
            <a:stCxn id="1686" idx="0"/>
            <a:endCxn id="1665" idx="1"/>
          </p:cNvCxnSpPr>
          <p:nvPr/>
        </p:nvCxnSpPr>
        <p:spPr>
          <a:xfrm flipV="1" rot="10800000">
            <a:off x="6752880" y="4510080"/>
            <a:ext cx="128880" cy="1058760"/>
          </a:xfrm>
          <a:prstGeom prst="bentConnector3">
            <a:avLst>
              <a:gd name="adj1" fmla="val 276470"/>
            </a:avLst>
          </a:prstGeom>
          <a:ln w="25560">
            <a:solidFill>
              <a:srgbClr val="808080"/>
            </a:solidFill>
            <a:miter/>
          </a:ln>
        </p:spPr>
      </p:cxnSp>
      <p:sp>
        <p:nvSpPr>
          <p:cNvPr id="1689" name=""/>
          <p:cNvSpPr/>
          <p:nvPr/>
        </p:nvSpPr>
        <p:spPr>
          <a:xfrm>
            <a:off x="2505240" y="3068640"/>
            <a:ext cx="2879640" cy="9018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6 – Máquina afectada: extracción acei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aceite de corte en la tubería formando un derrame en el sue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las juntas están deterioradas y las bridas deformad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limpiez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sustitución de las juntas por otras del material y espesor adecuado y establecer un par de aprie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2479680" y="2165400"/>
            <a:ext cx="216000" cy="366840"/>
          </a:xfrm>
          <a:custGeom>
            <a:avLst/>
            <a:gdLst/>
            <a:ahLst/>
            <a:rect l="l" t="t" r="r" b="b"/>
            <a:pathLst>
              <a:path w="136" h="231">
                <a:moveTo>
                  <a:pt x="70" y="12"/>
                </a:moveTo>
                <a:cubicBezTo>
                  <a:pt x="20" y="16"/>
                  <a:pt x="14" y="3"/>
                  <a:pt x="2" y="40"/>
                </a:cubicBezTo>
                <a:cubicBezTo>
                  <a:pt x="5" y="72"/>
                  <a:pt x="8" y="101"/>
                  <a:pt x="14" y="132"/>
                </a:cubicBezTo>
                <a:cubicBezTo>
                  <a:pt x="19" y="219"/>
                  <a:pt x="0" y="207"/>
                  <a:pt x="90" y="212"/>
                </a:cubicBezTo>
                <a:cubicBezTo>
                  <a:pt x="103" y="231"/>
                  <a:pt x="115" y="222"/>
                  <a:pt x="134" y="216"/>
                </a:cubicBezTo>
                <a:cubicBezTo>
                  <a:pt x="133" y="164"/>
                  <a:pt x="136" y="112"/>
                  <a:pt x="130" y="60"/>
                </a:cubicBezTo>
                <a:cubicBezTo>
                  <a:pt x="127" y="35"/>
                  <a:pt x="96" y="26"/>
                  <a:pt x="78" y="20"/>
                </a:cubicBezTo>
                <a:cubicBezTo>
                  <a:pt x="74" y="19"/>
                  <a:pt x="66" y="16"/>
                  <a:pt x="66" y="16"/>
                </a:cubicBezTo>
                <a:cubicBezTo>
                  <a:pt x="50" y="0"/>
                  <a:pt x="49" y="1"/>
                  <a:pt x="70" y="12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2576520" y="2491920"/>
            <a:ext cx="0" cy="57636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2865600" y="260280"/>
            <a:ext cx="2663640" cy="9018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5 – Máquinas: 2 – Bancadas: 6 cada u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taladrina bajo la banca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salpicaduras y vahos del canal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barreras de tejido absorbente, barreras de arena y limpiar con frecuenc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instalación de cuñas de estanqueidad en la parte inferior de la máqui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72880" y="314280"/>
            <a:ext cx="2505240" cy="9018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7 – Máquinas: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manchas de aceite de c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fugas de aceite de corte por falta de estanqueida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limpieza constan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construcción de bandejas con tramas y conectar la estación de centrifugad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4" name=""/>
          <p:cNvCxnSpPr>
            <a:stCxn id="1667" idx="0"/>
            <a:endCxn id="1693" idx="2"/>
          </p:cNvCxnSpPr>
          <p:nvPr/>
        </p:nvCxnSpPr>
        <p:spPr>
          <a:xfrm flipV="1" rot="16200000">
            <a:off x="1431000" y="1310400"/>
            <a:ext cx="505080" cy="316440"/>
          </a:xfrm>
          <a:prstGeom prst="bentConnector3">
            <a:avLst>
              <a:gd name="adj1" fmla="val 51141"/>
            </a:avLst>
          </a:prstGeom>
          <a:ln w="25560">
            <a:solidFill>
              <a:srgbClr val="808080"/>
            </a:solidFill>
            <a:miter/>
          </a:ln>
        </p:spPr>
      </p:cxnSp>
      <p:sp>
        <p:nvSpPr>
          <p:cNvPr id="1695" name=""/>
          <p:cNvSpPr/>
          <p:nvPr/>
        </p:nvSpPr>
        <p:spPr>
          <a:xfrm>
            <a:off x="5562720" y="196920"/>
            <a:ext cx="1584360" cy="109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imes New Roman"/>
              </a:rPr>
              <a:t>Tipo 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Derrames de taladrina o aceite de lubricación que puedan provocar accidentes o generar vahos nocivos. Generalmente solucionar un problema de este tipo tendrá un coste elevad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imes New Roman"/>
              </a:rPr>
              <a:t>Tipo 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Manchas y salpicaduras que resulten molestas sin llegar a generar un riesgo de accidente o intoxicación. Su corrección no será excesivamente cara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57240" y="5805360"/>
            <a:ext cx="2158920" cy="9817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3 – Máquinas: 1 – Estaciones: 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taladrina bajo la banca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salpicaduras y vahos del canal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barreras de tejido absorbente, barreras de arena y limpiar con frecuenc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instalación de cuñas de estanqueidad en la parte inferior de la máqui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7" name=""/>
          <p:cNvCxnSpPr>
            <a:stCxn id="1670" idx="0"/>
            <a:endCxn id="1696" idx="0"/>
          </p:cNvCxnSpPr>
          <p:nvPr/>
        </p:nvCxnSpPr>
        <p:spPr>
          <a:xfrm rot="5400000">
            <a:off x="1127880" y="5685840"/>
            <a:ext cx="128520" cy="111240"/>
          </a:xfrm>
          <a:prstGeom prst="bentConnector3">
            <a:avLst>
              <a:gd name="adj1" fmla="val 50000"/>
            </a:avLst>
          </a:prstGeom>
          <a:ln w="25560">
            <a:solidFill>
              <a:srgbClr val="808080"/>
            </a:solidFill>
            <a:miter/>
          </a:ln>
        </p:spPr>
      </p:cxnSp>
      <p:cxnSp>
        <p:nvCxnSpPr>
          <p:cNvPr id="1698" name=""/>
          <p:cNvCxnSpPr>
            <a:stCxn id="1669" idx="0"/>
            <a:endCxn id="1692" idx="2"/>
          </p:cNvCxnSpPr>
          <p:nvPr/>
        </p:nvCxnSpPr>
        <p:spPr>
          <a:xfrm flipH="1" flipV="1" rot="5400000">
            <a:off x="3492360" y="1104840"/>
            <a:ext cx="648000" cy="762120"/>
          </a:xfrm>
          <a:prstGeom prst="bentConnector3">
            <a:avLst>
              <a:gd name="adj1" fmla="val 51862"/>
            </a:avLst>
          </a:prstGeom>
          <a:ln w="25560">
            <a:solidFill>
              <a:srgbClr val="808080"/>
            </a:solidFill>
            <a:miter/>
          </a:ln>
        </p:spPr>
      </p:cxnSp>
      <p:cxnSp>
        <p:nvCxnSpPr>
          <p:cNvPr id="1699" name=""/>
          <p:cNvCxnSpPr>
            <a:stCxn id="1668" idx="0"/>
            <a:endCxn id="1692" idx="2"/>
          </p:cNvCxnSpPr>
          <p:nvPr/>
        </p:nvCxnSpPr>
        <p:spPr>
          <a:xfrm flipH="1" flipV="1" rot="5400000">
            <a:off x="3246480" y="854280"/>
            <a:ext cx="643320" cy="1258920"/>
          </a:xfrm>
          <a:prstGeom prst="bentConnector3">
            <a:avLst>
              <a:gd name="adj1" fmla="val 52295"/>
            </a:avLst>
          </a:prstGeom>
          <a:ln w="25560">
            <a:solidFill>
              <a:srgbClr val="808080"/>
            </a:solidFill>
            <a:miter/>
          </a:ln>
        </p:spPr>
      </p:cxnSp>
      <p:sp>
        <p:nvSpPr>
          <p:cNvPr id="1700" name=""/>
          <p:cNvSpPr/>
          <p:nvPr/>
        </p:nvSpPr>
        <p:spPr>
          <a:xfrm>
            <a:off x="2289240" y="6453360"/>
            <a:ext cx="7127640" cy="276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Francisco Burgada Vilaplana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Página 1 de 1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Fecha emisión: 13/02/200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W:\PUBLICO\FBurgada\puntos negros paco\layout lineas\cig-2008-1.ppt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Fecha revisión: 04/03/200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8331120" y="1600200"/>
            <a:ext cx="393840" cy="291960"/>
          </a:xfrm>
          <a:custGeom>
            <a:avLst/>
            <a:gdLst/>
            <a:ahLst/>
            <a:rect l="l" t="t" r="r" b="b"/>
            <a:pathLst>
              <a:path w="248" h="184">
                <a:moveTo>
                  <a:pt x="0" y="160"/>
                </a:moveTo>
                <a:cubicBezTo>
                  <a:pt x="23" y="162"/>
                  <a:pt x="48" y="157"/>
                  <a:pt x="68" y="168"/>
                </a:cubicBezTo>
                <a:cubicBezTo>
                  <a:pt x="76" y="173"/>
                  <a:pt x="92" y="184"/>
                  <a:pt x="92" y="184"/>
                </a:cubicBezTo>
                <a:cubicBezTo>
                  <a:pt x="111" y="179"/>
                  <a:pt x="117" y="175"/>
                  <a:pt x="136" y="180"/>
                </a:cubicBezTo>
                <a:cubicBezTo>
                  <a:pt x="168" y="169"/>
                  <a:pt x="152" y="173"/>
                  <a:pt x="184" y="168"/>
                </a:cubicBezTo>
                <a:cubicBezTo>
                  <a:pt x="185" y="163"/>
                  <a:pt x="184" y="156"/>
                  <a:pt x="188" y="152"/>
                </a:cubicBezTo>
                <a:cubicBezTo>
                  <a:pt x="194" y="147"/>
                  <a:pt x="212" y="144"/>
                  <a:pt x="212" y="144"/>
                </a:cubicBezTo>
                <a:cubicBezTo>
                  <a:pt x="219" y="123"/>
                  <a:pt x="205" y="111"/>
                  <a:pt x="228" y="96"/>
                </a:cubicBezTo>
                <a:cubicBezTo>
                  <a:pt x="239" y="79"/>
                  <a:pt x="248" y="71"/>
                  <a:pt x="232" y="44"/>
                </a:cubicBezTo>
                <a:cubicBezTo>
                  <a:pt x="228" y="37"/>
                  <a:pt x="208" y="36"/>
                  <a:pt x="208" y="36"/>
                </a:cubicBezTo>
                <a:cubicBezTo>
                  <a:pt x="195" y="16"/>
                  <a:pt x="156" y="5"/>
                  <a:pt x="132" y="0"/>
                </a:cubicBezTo>
                <a:cubicBezTo>
                  <a:pt x="65" y="7"/>
                  <a:pt x="95" y="3"/>
                  <a:pt x="76" y="48"/>
                </a:cubicBezTo>
                <a:cubicBezTo>
                  <a:pt x="72" y="57"/>
                  <a:pt x="63" y="63"/>
                  <a:pt x="60" y="72"/>
                </a:cubicBezTo>
                <a:cubicBezTo>
                  <a:pt x="59" y="76"/>
                  <a:pt x="57" y="80"/>
                  <a:pt x="56" y="84"/>
                </a:cubicBezTo>
                <a:cubicBezTo>
                  <a:pt x="45" y="68"/>
                  <a:pt x="41" y="65"/>
                  <a:pt x="24" y="76"/>
                </a:cubicBezTo>
                <a:cubicBezTo>
                  <a:pt x="16" y="101"/>
                  <a:pt x="23" y="149"/>
                  <a:pt x="0" y="160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8801280" y="1536840"/>
            <a:ext cx="328320" cy="330120"/>
          </a:xfrm>
          <a:custGeom>
            <a:avLst/>
            <a:gdLst/>
            <a:ahLst/>
            <a:rect l="l" t="t" r="r" b="b"/>
            <a:pathLst>
              <a:path w="207" h="208">
                <a:moveTo>
                  <a:pt x="0" y="124"/>
                </a:moveTo>
                <a:cubicBezTo>
                  <a:pt x="3" y="132"/>
                  <a:pt x="5" y="140"/>
                  <a:pt x="8" y="148"/>
                </a:cubicBezTo>
                <a:cubicBezTo>
                  <a:pt x="13" y="163"/>
                  <a:pt x="1" y="184"/>
                  <a:pt x="12" y="196"/>
                </a:cubicBezTo>
                <a:cubicBezTo>
                  <a:pt x="22" y="207"/>
                  <a:pt x="41" y="199"/>
                  <a:pt x="56" y="200"/>
                </a:cubicBezTo>
                <a:cubicBezTo>
                  <a:pt x="93" y="194"/>
                  <a:pt x="134" y="208"/>
                  <a:pt x="168" y="192"/>
                </a:cubicBezTo>
                <a:cubicBezTo>
                  <a:pt x="180" y="186"/>
                  <a:pt x="167" y="165"/>
                  <a:pt x="172" y="152"/>
                </a:cubicBezTo>
                <a:cubicBezTo>
                  <a:pt x="173" y="148"/>
                  <a:pt x="180" y="149"/>
                  <a:pt x="184" y="148"/>
                </a:cubicBezTo>
                <a:cubicBezTo>
                  <a:pt x="207" y="113"/>
                  <a:pt x="193" y="75"/>
                  <a:pt x="172" y="44"/>
                </a:cubicBezTo>
                <a:cubicBezTo>
                  <a:pt x="165" y="34"/>
                  <a:pt x="176" y="12"/>
                  <a:pt x="164" y="8"/>
                </a:cubicBezTo>
                <a:cubicBezTo>
                  <a:pt x="137" y="0"/>
                  <a:pt x="108" y="5"/>
                  <a:pt x="80" y="4"/>
                </a:cubicBezTo>
                <a:cubicBezTo>
                  <a:pt x="55" y="9"/>
                  <a:pt x="48" y="21"/>
                  <a:pt x="40" y="44"/>
                </a:cubicBezTo>
                <a:cubicBezTo>
                  <a:pt x="35" y="86"/>
                  <a:pt x="41" y="80"/>
                  <a:pt x="8" y="88"/>
                </a:cubicBezTo>
                <a:cubicBezTo>
                  <a:pt x="1" y="108"/>
                  <a:pt x="5" y="96"/>
                  <a:pt x="0" y="124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9302760" y="1557360"/>
            <a:ext cx="312840" cy="358920"/>
          </a:xfrm>
          <a:custGeom>
            <a:avLst/>
            <a:gdLst/>
            <a:ahLst/>
            <a:rect l="l" t="t" r="r" b="b"/>
            <a:pathLst>
              <a:path w="197" h="181">
                <a:moveTo>
                  <a:pt x="148" y="75"/>
                </a:moveTo>
                <a:cubicBezTo>
                  <a:pt x="147" y="64"/>
                  <a:pt x="150" y="52"/>
                  <a:pt x="144" y="43"/>
                </a:cubicBezTo>
                <a:cubicBezTo>
                  <a:pt x="140" y="37"/>
                  <a:pt x="78" y="20"/>
                  <a:pt x="72" y="19"/>
                </a:cubicBezTo>
                <a:cubicBezTo>
                  <a:pt x="59" y="0"/>
                  <a:pt x="54" y="3"/>
                  <a:pt x="32" y="7"/>
                </a:cubicBezTo>
                <a:cubicBezTo>
                  <a:pt x="10" y="22"/>
                  <a:pt x="27" y="6"/>
                  <a:pt x="16" y="39"/>
                </a:cubicBezTo>
                <a:cubicBezTo>
                  <a:pt x="13" y="47"/>
                  <a:pt x="7" y="55"/>
                  <a:pt x="4" y="63"/>
                </a:cubicBezTo>
                <a:cubicBezTo>
                  <a:pt x="5" y="74"/>
                  <a:pt x="9" y="84"/>
                  <a:pt x="8" y="95"/>
                </a:cubicBezTo>
                <a:cubicBezTo>
                  <a:pt x="7" y="103"/>
                  <a:pt x="0" y="119"/>
                  <a:pt x="0" y="119"/>
                </a:cubicBezTo>
                <a:cubicBezTo>
                  <a:pt x="9" y="165"/>
                  <a:pt x="50" y="134"/>
                  <a:pt x="88" y="147"/>
                </a:cubicBezTo>
                <a:cubicBezTo>
                  <a:pt x="99" y="181"/>
                  <a:pt x="133" y="169"/>
                  <a:pt x="168" y="171"/>
                </a:cubicBezTo>
                <a:cubicBezTo>
                  <a:pt x="172" y="167"/>
                  <a:pt x="177" y="164"/>
                  <a:pt x="180" y="159"/>
                </a:cubicBezTo>
                <a:cubicBezTo>
                  <a:pt x="184" y="152"/>
                  <a:pt x="188" y="135"/>
                  <a:pt x="188" y="135"/>
                </a:cubicBezTo>
                <a:cubicBezTo>
                  <a:pt x="186" y="99"/>
                  <a:pt x="197" y="47"/>
                  <a:pt x="148" y="47"/>
                </a:cubicBezTo>
                <a:lnTo>
                  <a:pt x="148" y="75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849240" y="4365720"/>
            <a:ext cx="328680" cy="330120"/>
          </a:xfrm>
          <a:custGeom>
            <a:avLst/>
            <a:gdLst/>
            <a:ahLst/>
            <a:rect l="l" t="t" r="r" b="b"/>
            <a:pathLst>
              <a:path w="207" h="208">
                <a:moveTo>
                  <a:pt x="0" y="124"/>
                </a:moveTo>
                <a:cubicBezTo>
                  <a:pt x="3" y="132"/>
                  <a:pt x="5" y="140"/>
                  <a:pt x="8" y="148"/>
                </a:cubicBezTo>
                <a:cubicBezTo>
                  <a:pt x="13" y="163"/>
                  <a:pt x="1" y="184"/>
                  <a:pt x="12" y="196"/>
                </a:cubicBezTo>
                <a:cubicBezTo>
                  <a:pt x="22" y="207"/>
                  <a:pt x="41" y="199"/>
                  <a:pt x="56" y="200"/>
                </a:cubicBezTo>
                <a:cubicBezTo>
                  <a:pt x="93" y="194"/>
                  <a:pt x="134" y="208"/>
                  <a:pt x="168" y="192"/>
                </a:cubicBezTo>
                <a:cubicBezTo>
                  <a:pt x="180" y="186"/>
                  <a:pt x="167" y="165"/>
                  <a:pt x="172" y="152"/>
                </a:cubicBezTo>
                <a:cubicBezTo>
                  <a:pt x="173" y="148"/>
                  <a:pt x="180" y="149"/>
                  <a:pt x="184" y="148"/>
                </a:cubicBezTo>
                <a:cubicBezTo>
                  <a:pt x="207" y="113"/>
                  <a:pt x="193" y="75"/>
                  <a:pt x="172" y="44"/>
                </a:cubicBezTo>
                <a:cubicBezTo>
                  <a:pt x="165" y="34"/>
                  <a:pt x="176" y="12"/>
                  <a:pt x="164" y="8"/>
                </a:cubicBezTo>
                <a:cubicBezTo>
                  <a:pt x="137" y="0"/>
                  <a:pt x="108" y="5"/>
                  <a:pt x="80" y="4"/>
                </a:cubicBezTo>
                <a:cubicBezTo>
                  <a:pt x="55" y="9"/>
                  <a:pt x="48" y="21"/>
                  <a:pt x="40" y="44"/>
                </a:cubicBezTo>
                <a:cubicBezTo>
                  <a:pt x="35" y="86"/>
                  <a:pt x="41" y="80"/>
                  <a:pt x="8" y="88"/>
                </a:cubicBezTo>
                <a:cubicBezTo>
                  <a:pt x="1" y="108"/>
                  <a:pt x="5" y="96"/>
                  <a:pt x="0" y="124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278000" y="4365720"/>
            <a:ext cx="312840" cy="358560"/>
          </a:xfrm>
          <a:custGeom>
            <a:avLst/>
            <a:gdLst/>
            <a:ahLst/>
            <a:rect l="l" t="t" r="r" b="b"/>
            <a:pathLst>
              <a:path w="197" h="181">
                <a:moveTo>
                  <a:pt x="148" y="75"/>
                </a:moveTo>
                <a:cubicBezTo>
                  <a:pt x="147" y="64"/>
                  <a:pt x="150" y="52"/>
                  <a:pt x="144" y="43"/>
                </a:cubicBezTo>
                <a:cubicBezTo>
                  <a:pt x="140" y="37"/>
                  <a:pt x="78" y="20"/>
                  <a:pt x="72" y="19"/>
                </a:cubicBezTo>
                <a:cubicBezTo>
                  <a:pt x="59" y="0"/>
                  <a:pt x="54" y="3"/>
                  <a:pt x="32" y="7"/>
                </a:cubicBezTo>
                <a:cubicBezTo>
                  <a:pt x="10" y="22"/>
                  <a:pt x="27" y="6"/>
                  <a:pt x="16" y="39"/>
                </a:cubicBezTo>
                <a:cubicBezTo>
                  <a:pt x="13" y="47"/>
                  <a:pt x="7" y="55"/>
                  <a:pt x="4" y="63"/>
                </a:cubicBezTo>
                <a:cubicBezTo>
                  <a:pt x="5" y="74"/>
                  <a:pt x="9" y="84"/>
                  <a:pt x="8" y="95"/>
                </a:cubicBezTo>
                <a:cubicBezTo>
                  <a:pt x="7" y="103"/>
                  <a:pt x="0" y="119"/>
                  <a:pt x="0" y="119"/>
                </a:cubicBezTo>
                <a:cubicBezTo>
                  <a:pt x="9" y="165"/>
                  <a:pt x="50" y="134"/>
                  <a:pt x="88" y="147"/>
                </a:cubicBezTo>
                <a:cubicBezTo>
                  <a:pt x="99" y="181"/>
                  <a:pt x="133" y="169"/>
                  <a:pt x="168" y="171"/>
                </a:cubicBezTo>
                <a:cubicBezTo>
                  <a:pt x="172" y="167"/>
                  <a:pt x="177" y="164"/>
                  <a:pt x="180" y="159"/>
                </a:cubicBezTo>
                <a:cubicBezTo>
                  <a:pt x="184" y="152"/>
                  <a:pt x="188" y="135"/>
                  <a:pt x="188" y="135"/>
                </a:cubicBezTo>
                <a:cubicBezTo>
                  <a:pt x="186" y="99"/>
                  <a:pt x="197" y="47"/>
                  <a:pt x="148" y="47"/>
                </a:cubicBezTo>
                <a:lnTo>
                  <a:pt x="148" y="75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184880" y="333360"/>
            <a:ext cx="2665440" cy="9018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26 – Máquinas afectadas: 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la viruta sale al exterior por unas abertur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la viruta se acumula en los perfiles de la estructura. Cuando cae delante de la barredera se obstruy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limpiar regularmen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protecciones interiores que tapen los perfiles y las aberturas para evitar la acumulación y escape de viru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7" name=""/>
          <p:cNvCxnSpPr>
            <a:stCxn id="1706" idx="2"/>
            <a:endCxn id="727" idx="3"/>
          </p:cNvCxnSpPr>
          <p:nvPr/>
        </p:nvCxnSpPr>
        <p:spPr>
          <a:xfrm flipH="1" rot="16200000">
            <a:off x="8325000" y="1427400"/>
            <a:ext cx="397800" cy="12960"/>
          </a:xfrm>
          <a:prstGeom prst="bentConnector3">
            <a:avLst>
              <a:gd name="adj1" fmla="val 49275"/>
            </a:avLst>
          </a:prstGeom>
          <a:ln w="25560">
            <a:solidFill>
              <a:srgbClr val="808080"/>
            </a:solidFill>
            <a:miter/>
          </a:ln>
        </p:spPr>
      </p:cxnSp>
      <p:cxnSp>
        <p:nvCxnSpPr>
          <p:cNvPr id="1708" name=""/>
          <p:cNvCxnSpPr>
            <a:stCxn id="1706" idx="2"/>
            <a:endCxn id="1702" idx="0"/>
          </p:cNvCxnSpPr>
          <p:nvPr/>
        </p:nvCxnSpPr>
        <p:spPr>
          <a:xfrm flipH="1" rot="16200000">
            <a:off x="8569080" y="1183680"/>
            <a:ext cx="308160" cy="410760"/>
          </a:xfrm>
          <a:prstGeom prst="bentConnector3">
            <a:avLst>
              <a:gd name="adj1" fmla="val 49824"/>
            </a:avLst>
          </a:prstGeom>
          <a:ln w="25560">
            <a:solidFill>
              <a:srgbClr val="808080"/>
            </a:solidFill>
            <a:miter/>
          </a:ln>
        </p:spPr>
      </p:cxnSp>
      <p:cxnSp>
        <p:nvCxnSpPr>
          <p:cNvPr id="1709" name=""/>
          <p:cNvCxnSpPr>
            <a:stCxn id="1706" idx="2"/>
            <a:endCxn id="1703" idx="0"/>
          </p:cNvCxnSpPr>
          <p:nvPr/>
        </p:nvCxnSpPr>
        <p:spPr>
          <a:xfrm flipH="1" rot="16200000">
            <a:off x="8767800" y="984960"/>
            <a:ext cx="336240" cy="836280"/>
          </a:xfrm>
          <a:prstGeom prst="bentConnector3">
            <a:avLst>
              <a:gd name="adj1" fmla="val 49088"/>
            </a:avLst>
          </a:prstGeom>
          <a:ln w="25560">
            <a:solidFill>
              <a:srgbClr val="808080"/>
            </a:solidFill>
            <a:miter/>
          </a:ln>
        </p:spPr>
      </p:cxnSp>
      <p:sp>
        <p:nvSpPr>
          <p:cNvPr id="1710" name=""/>
          <p:cNvSpPr/>
          <p:nvPr/>
        </p:nvSpPr>
        <p:spPr>
          <a:xfrm>
            <a:off x="128520" y="3141720"/>
            <a:ext cx="2160720" cy="10616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26 – Máquinas afectadas: 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la viruta sale al exterior por unas abertur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la viruta se acumula en los perfiles de la estructura. Cuando cae delante de la barredera se obstruy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limpiar regularmen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protecciones interiores que tapen los perfiles y las aberturas para evitar la acumulación y escape de viru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1" name=""/>
          <p:cNvCxnSpPr>
            <a:stCxn id="1704" idx="0"/>
            <a:endCxn id="1710" idx="2"/>
          </p:cNvCxnSpPr>
          <p:nvPr/>
        </p:nvCxnSpPr>
        <p:spPr>
          <a:xfrm flipH="1" flipV="1" rot="5400000">
            <a:off x="1008360" y="4171320"/>
            <a:ext cx="168840" cy="232920"/>
          </a:xfrm>
          <a:prstGeom prst="bentConnector3">
            <a:avLst>
              <a:gd name="adj1" fmla="val 50427"/>
            </a:avLst>
          </a:prstGeom>
          <a:ln w="25560">
            <a:solidFill>
              <a:srgbClr val="808080"/>
            </a:solidFill>
            <a:miter/>
          </a:ln>
        </p:spPr>
      </p:cxnSp>
      <p:cxnSp>
        <p:nvCxnSpPr>
          <p:cNvPr id="1712" name=""/>
          <p:cNvCxnSpPr>
            <a:stCxn id="1710" idx="2"/>
            <a:endCxn id="1705" idx="0"/>
          </p:cNvCxnSpPr>
          <p:nvPr/>
        </p:nvCxnSpPr>
        <p:spPr>
          <a:xfrm flipH="1" rot="16200000">
            <a:off x="1200600" y="4211280"/>
            <a:ext cx="200160" cy="183600"/>
          </a:xfrm>
          <a:prstGeom prst="bentConnector3">
            <a:avLst>
              <a:gd name="adj1" fmla="val 42522"/>
            </a:avLst>
          </a:prstGeom>
          <a:ln w="25560">
            <a:solidFill>
              <a:srgbClr val="80808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9:40:57Z</dcterms:created>
  <dc:creator>jgasco</dc:creator>
  <dc:description/>
  <dc:language>en-US</dc:language>
  <cp:lastModifiedBy>fburgada</cp:lastModifiedBy>
  <dcterms:modified xsi:type="dcterms:W3CDTF">2008-06-27T07:22:05Z</dcterms:modified>
  <cp:revision>61</cp:revision>
  <dc:subject/>
  <dc:title>Presentación de PowerPoint</dc:title>
</cp:coreProperties>
</file>