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9791700" cy="1418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79EB-47CB-4FBF-908A-5B9CE30A4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C4CA-4F1F-4A9D-A219-B40296AF6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F8AF-7015-44F6-93EA-DFBB59137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DCEA-4BA5-4699-A1CA-7A37A3DA6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1964-1E99-4425-A19E-D2D301420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6780-53D9-47BA-A31A-FCC20FC52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C297-C4BC-401A-AABD-9D32A42C1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64DE-78C2-4020-A3FC-561C93F7D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3326-500A-4DF5-A6F9-26BD35CE8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89CC-58B7-48B1-A08F-13AFB144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FE45-C273-4B8E-8935-341F5A66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FCDE-2389-4958-BC80-BEB8DB5E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EA9AB-EFDB-494A-8E72-999035D789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4852800" y="5114880"/>
            <a:ext cx="633240" cy="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00600" y="4940280"/>
            <a:ext cx="56880" cy="16524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067680" y="5310360"/>
            <a:ext cx="53028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Op 15 s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761240" y="4508640"/>
            <a:ext cx="53028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       </a:t>
            </a: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Op 20 s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7117920" y="5205240"/>
            <a:ext cx="351000" cy="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437160" y="5407200"/>
            <a:ext cx="53028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Op 30 s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04920" y="5486400"/>
            <a:ext cx="53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Op 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980800" y="5143680"/>
            <a:ext cx="584280" cy="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470400" y="5356080"/>
            <a:ext cx="268200" cy="5112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46440" y="4940280"/>
            <a:ext cx="55440" cy="16344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63800" y="4940280"/>
            <a:ext cx="57240" cy="16344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7920" y="4940280"/>
            <a:ext cx="57240" cy="16344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005360" y="4940280"/>
            <a:ext cx="58680" cy="16344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135320" y="4940280"/>
            <a:ext cx="57240" cy="16344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43360" y="5330880"/>
            <a:ext cx="57240" cy="1332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17920" y="5118120"/>
            <a:ext cx="92160" cy="522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54520" y="5113440"/>
            <a:ext cx="119160" cy="5076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89320" y="5140440"/>
            <a:ext cx="13032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81440" y="4979880"/>
            <a:ext cx="82800" cy="3996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86160" y="4940280"/>
            <a:ext cx="57240" cy="16344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14680" y="5181480"/>
            <a:ext cx="57240" cy="16524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43560" y="5181480"/>
            <a:ext cx="56880" cy="1638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73520" y="5181480"/>
            <a:ext cx="55800" cy="1638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82920" y="5181480"/>
            <a:ext cx="57240" cy="16524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52960" y="5181480"/>
            <a:ext cx="57240" cy="16524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022640" y="5181480"/>
            <a:ext cx="58680" cy="16524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94120" y="5181480"/>
            <a:ext cx="55440" cy="16524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4568760" y="4822920"/>
            <a:ext cx="184320" cy="244440"/>
            <a:chOff x="4568760" y="4822920"/>
            <a:chExt cx="184320" cy="244440"/>
          </a:xfrm>
        </p:grpSpPr>
        <p:sp>
          <p:nvSpPr>
            <p:cNvPr id="69" name=""/>
            <p:cNvSpPr/>
            <p:nvPr/>
          </p:nvSpPr>
          <p:spPr>
            <a:xfrm>
              <a:off x="4586040" y="4846680"/>
              <a:ext cx="121320" cy="669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68760" y="4822920"/>
              <a:ext cx="1843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3468600" y="5289480"/>
            <a:ext cx="71640" cy="396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606840" y="5100480"/>
            <a:ext cx="1157400" cy="7956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03000" y="5300640"/>
            <a:ext cx="53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3333cc"/>
                </a:solidFill>
                <a:latin typeface="Arial"/>
              </a:rPr>
              <a:t>Op 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985680" y="5140440"/>
            <a:ext cx="633600" cy="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701720" y="4854240"/>
            <a:ext cx="270000" cy="52200"/>
          </a:xfrm>
          <a:prstGeom prst="rect">
            <a:avLst/>
          </a:prstGeom>
          <a:solidFill>
            <a:srgbClr val="00cc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1723680" y="5103720"/>
            <a:ext cx="1158840" cy="77760"/>
          </a:xfrm>
          <a:prstGeom prst="rect">
            <a:avLst/>
          </a:prstGeom>
          <a:solidFill>
            <a:srgbClr val="00cc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10800000">
            <a:off x="2790360" y="5181480"/>
            <a:ext cx="57240" cy="162000"/>
          </a:xfrm>
          <a:prstGeom prst="rect">
            <a:avLst/>
          </a:prstGeom>
          <a:solidFill>
            <a:srgbClr val="00cc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10800000">
            <a:off x="2190240" y="5181480"/>
            <a:ext cx="57240" cy="162000"/>
          </a:xfrm>
          <a:prstGeom prst="rect">
            <a:avLst/>
          </a:prstGeom>
          <a:solidFill>
            <a:srgbClr val="00cc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10800000">
            <a:off x="2023560" y="5181480"/>
            <a:ext cx="57240" cy="162000"/>
          </a:xfrm>
          <a:prstGeom prst="rect">
            <a:avLst/>
          </a:prstGeom>
          <a:solidFill>
            <a:srgbClr val="00cc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1860120" y="5181480"/>
            <a:ext cx="57240" cy="162000"/>
          </a:xfrm>
          <a:prstGeom prst="rect">
            <a:avLst/>
          </a:prstGeom>
          <a:solidFill>
            <a:srgbClr val="00cc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2922120" y="4884480"/>
            <a:ext cx="55800" cy="129960"/>
          </a:xfrm>
          <a:prstGeom prst="rect">
            <a:avLst/>
          </a:prstGeom>
          <a:solidFill>
            <a:srgbClr val="00cc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0800000">
            <a:off x="2882880" y="5116320"/>
            <a:ext cx="93600" cy="50760"/>
          </a:xfrm>
          <a:prstGeom prst="rect">
            <a:avLst/>
          </a:prstGeom>
          <a:solidFill>
            <a:srgbClr val="99cc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1603080" y="5117760"/>
            <a:ext cx="120600" cy="50760"/>
          </a:xfrm>
          <a:prstGeom prst="rect">
            <a:avLst/>
          </a:prstGeom>
          <a:solidFill>
            <a:srgbClr val="99cc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10800000">
            <a:off x="1580760" y="5172120"/>
            <a:ext cx="71640" cy="25200"/>
          </a:xfrm>
          <a:prstGeom prst="rect">
            <a:avLst/>
          </a:prstGeom>
          <a:solidFill>
            <a:srgbClr val="00cc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10800000">
            <a:off x="2329920" y="5181480"/>
            <a:ext cx="57240" cy="162000"/>
          </a:xfrm>
          <a:prstGeom prst="rect">
            <a:avLst/>
          </a:prstGeom>
          <a:solidFill>
            <a:srgbClr val="00cc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0800000">
            <a:off x="2188800" y="4943520"/>
            <a:ext cx="58680" cy="162000"/>
          </a:xfrm>
          <a:prstGeom prst="rect">
            <a:avLst/>
          </a:prstGeom>
          <a:solidFill>
            <a:srgbClr val="00cc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0800000">
            <a:off x="2026800" y="4943160"/>
            <a:ext cx="57240" cy="160200"/>
          </a:xfrm>
          <a:prstGeom prst="rect">
            <a:avLst/>
          </a:prstGeom>
          <a:solidFill>
            <a:srgbClr val="00cc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0800000">
            <a:off x="1860120" y="4943160"/>
            <a:ext cx="57240" cy="160200"/>
          </a:xfrm>
          <a:prstGeom prst="rect">
            <a:avLst/>
          </a:prstGeom>
          <a:solidFill>
            <a:srgbClr val="00cc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2331720" y="4943520"/>
            <a:ext cx="57240" cy="162000"/>
          </a:xfrm>
          <a:prstGeom prst="rect">
            <a:avLst/>
          </a:prstGeom>
          <a:solidFill>
            <a:srgbClr val="00cc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2480760" y="4943520"/>
            <a:ext cx="57240" cy="162000"/>
          </a:xfrm>
          <a:prstGeom prst="rect">
            <a:avLst/>
          </a:prstGeom>
          <a:solidFill>
            <a:srgbClr val="00cc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10800000">
            <a:off x="2623680" y="4943520"/>
            <a:ext cx="57240" cy="162000"/>
          </a:xfrm>
          <a:prstGeom prst="rect">
            <a:avLst/>
          </a:prstGeom>
          <a:solidFill>
            <a:srgbClr val="00cc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10800000">
            <a:off x="2788920" y="4943520"/>
            <a:ext cx="57240" cy="162000"/>
          </a:xfrm>
          <a:prstGeom prst="rect">
            <a:avLst/>
          </a:prstGeom>
          <a:solidFill>
            <a:srgbClr val="00cc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0800000">
            <a:off x="2895120" y="5196960"/>
            <a:ext cx="71640" cy="27000"/>
          </a:xfrm>
          <a:prstGeom prst="rect">
            <a:avLst/>
          </a:prstGeom>
          <a:solidFill>
            <a:srgbClr val="00cc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993600" y="4352760"/>
            <a:ext cx="0" cy="77976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993600" y="3703680"/>
            <a:ext cx="0" cy="68112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85680" y="3703680"/>
            <a:ext cx="438480" cy="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13960" y="4075200"/>
            <a:ext cx="53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3333cc"/>
                </a:solidFill>
                <a:latin typeface="Arial"/>
              </a:rPr>
              <a:t>Op 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38520" y="3691080"/>
            <a:ext cx="534960" cy="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0800000">
            <a:off x="2393640" y="3430080"/>
            <a:ext cx="82440" cy="211320"/>
          </a:xfrm>
          <a:prstGeom prst="rect">
            <a:avLst/>
          </a:prstGeom>
          <a:solidFill>
            <a:srgbClr val="00cc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10800000">
            <a:off x="1420560" y="3661920"/>
            <a:ext cx="137880" cy="66600"/>
          </a:xfrm>
          <a:prstGeom prst="rect">
            <a:avLst/>
          </a:prstGeom>
          <a:solidFill>
            <a:srgbClr val="00cc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77800" y="3429000"/>
            <a:ext cx="285840" cy="49320"/>
          </a:xfrm>
          <a:prstGeom prst="rect">
            <a:avLst/>
          </a:prstGeom>
          <a:solidFill>
            <a:srgbClr val="00cc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0800000">
            <a:off x="1542600" y="3639600"/>
            <a:ext cx="1040040" cy="101880"/>
          </a:xfrm>
          <a:prstGeom prst="rect">
            <a:avLst/>
          </a:prstGeom>
          <a:solidFill>
            <a:srgbClr val="00cc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0800000">
            <a:off x="2396880" y="3741840"/>
            <a:ext cx="83880" cy="210960"/>
          </a:xfrm>
          <a:prstGeom prst="rect">
            <a:avLst/>
          </a:prstGeom>
          <a:solidFill>
            <a:srgbClr val="00cc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0800000">
            <a:off x="2583000" y="3657240"/>
            <a:ext cx="134640" cy="65160"/>
          </a:xfrm>
          <a:prstGeom prst="rect">
            <a:avLst/>
          </a:prstGeom>
          <a:solidFill>
            <a:srgbClr val="00cc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574720" y="3770280"/>
            <a:ext cx="104760" cy="349200"/>
            <a:chOff x="2574720" y="3770280"/>
            <a:chExt cx="104760" cy="349200"/>
          </a:xfrm>
        </p:grpSpPr>
        <p:sp>
          <p:nvSpPr>
            <p:cNvPr id="106" name=""/>
            <p:cNvSpPr/>
            <p:nvPr/>
          </p:nvSpPr>
          <p:spPr>
            <a:xfrm rot="10800000">
              <a:off x="2583000" y="3831840"/>
              <a:ext cx="66960" cy="1533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5400000">
              <a:off x="2452320" y="3892320"/>
              <a:ext cx="349200" cy="1047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 vert="eaVert" rot="10800000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475000" y="3370320"/>
            <a:ext cx="276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43040" y="3413160"/>
            <a:ext cx="196920" cy="104760"/>
          </a:xfrm>
          <a:prstGeom prst="rect">
            <a:avLst/>
          </a:prstGeom>
          <a:solidFill>
            <a:srgbClr val="00cc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41440" y="3603600"/>
            <a:ext cx="69840" cy="52560"/>
          </a:xfrm>
          <a:prstGeom prst="rect">
            <a:avLst/>
          </a:prstGeom>
          <a:solidFill>
            <a:srgbClr val="00cc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63280" y="4075200"/>
            <a:ext cx="53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Op 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92720" y="3691080"/>
            <a:ext cx="438120" cy="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57120" y="4083120"/>
            <a:ext cx="53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Op 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22800" y="3902040"/>
            <a:ext cx="276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560920" y="3683160"/>
            <a:ext cx="584280" cy="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080" y="4075200"/>
            <a:ext cx="53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Op 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895880" y="4025880"/>
            <a:ext cx="53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Op 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4852800" y="3798720"/>
            <a:ext cx="631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57040" y="3676680"/>
            <a:ext cx="90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10800000">
            <a:off x="5176440" y="3681360"/>
            <a:ext cx="204840" cy="90720"/>
          </a:xfrm>
          <a:prstGeom prst="rect">
            <a:avLst/>
          </a:prstGeom>
          <a:noFill/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4734000" y="3544920"/>
            <a:ext cx="882720" cy="272880"/>
          </a:xfrm>
          <a:custGeom>
            <a:avLst/>
            <a:gdLst/>
            <a:ahLst/>
            <a:rect l="l" t="t" r="r" b="b"/>
            <a:pathLst>
              <a:path w="3213" h="992">
                <a:moveTo>
                  <a:pt x="1" y="613"/>
                </a:moveTo>
                <a:lnTo>
                  <a:pt x="0" y="370"/>
                </a:lnTo>
                <a:lnTo>
                  <a:pt x="472" y="368"/>
                </a:lnTo>
                <a:lnTo>
                  <a:pt x="472" y="0"/>
                </a:lnTo>
                <a:lnTo>
                  <a:pt x="2768" y="0"/>
                </a:lnTo>
                <a:lnTo>
                  <a:pt x="2768" y="378"/>
                </a:lnTo>
                <a:lnTo>
                  <a:pt x="3212" y="378"/>
                </a:lnTo>
                <a:lnTo>
                  <a:pt x="3212" y="620"/>
                </a:lnTo>
                <a:lnTo>
                  <a:pt x="2746" y="620"/>
                </a:lnTo>
                <a:lnTo>
                  <a:pt x="2746" y="991"/>
                </a:lnTo>
                <a:lnTo>
                  <a:pt x="468" y="991"/>
                </a:lnTo>
                <a:lnTo>
                  <a:pt x="468" y="613"/>
                </a:lnTo>
                <a:lnTo>
                  <a:pt x="10" y="615"/>
                </a:lnTo>
              </a:path>
            </a:pathLst>
          </a:custGeom>
          <a:solidFill>
            <a:srgbClr val="0099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0800000">
            <a:off x="5086080" y="3320640"/>
            <a:ext cx="252360" cy="58680"/>
          </a:xfrm>
          <a:prstGeom prst="rect">
            <a:avLst/>
          </a:prstGeom>
          <a:solidFill>
            <a:srgbClr val="00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10800000">
            <a:off x="5432040" y="3836880"/>
            <a:ext cx="57240" cy="22320"/>
          </a:xfrm>
          <a:prstGeom prst="rect">
            <a:avLst/>
          </a:prstGeom>
          <a:solidFill>
            <a:srgbClr val="00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0800000">
            <a:off x="5064120" y="3852720"/>
            <a:ext cx="55440" cy="22320"/>
          </a:xfrm>
          <a:prstGeom prst="rect">
            <a:avLst/>
          </a:prstGeom>
          <a:solidFill>
            <a:srgbClr val="00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5189040" y="3511440"/>
            <a:ext cx="57240" cy="22320"/>
          </a:xfrm>
          <a:prstGeom prst="rect">
            <a:avLst/>
          </a:prstGeom>
          <a:solidFill>
            <a:srgbClr val="00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0800000">
            <a:off x="4804920" y="3979800"/>
            <a:ext cx="55800" cy="22320"/>
          </a:xfrm>
          <a:prstGeom prst="rect">
            <a:avLst/>
          </a:prstGeom>
          <a:solidFill>
            <a:srgbClr val="00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0800000">
            <a:off x="5514480" y="3382560"/>
            <a:ext cx="149400" cy="81000"/>
          </a:xfrm>
          <a:prstGeom prst="rect">
            <a:avLst/>
          </a:prstGeom>
          <a:solidFill>
            <a:srgbClr val="00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6095520" y="5213520"/>
            <a:ext cx="195480" cy="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95880" y="4384800"/>
            <a:ext cx="0" cy="82872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4384800"/>
            <a:ext cx="828720" cy="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924600" y="3946320"/>
            <a:ext cx="0" cy="43812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6781680" y="3946680"/>
            <a:ext cx="146160" cy="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6271920" y="5070240"/>
            <a:ext cx="949320" cy="291960"/>
          </a:xfrm>
          <a:custGeom>
            <a:avLst/>
            <a:gdLst/>
            <a:ahLst/>
            <a:rect l="l" t="t" r="r" b="b"/>
            <a:pathLst>
              <a:path w="3213" h="992">
                <a:moveTo>
                  <a:pt x="1" y="613"/>
                </a:moveTo>
                <a:lnTo>
                  <a:pt x="0" y="370"/>
                </a:lnTo>
                <a:lnTo>
                  <a:pt x="472" y="368"/>
                </a:lnTo>
                <a:lnTo>
                  <a:pt x="472" y="0"/>
                </a:lnTo>
                <a:lnTo>
                  <a:pt x="2768" y="0"/>
                </a:lnTo>
                <a:lnTo>
                  <a:pt x="2768" y="378"/>
                </a:lnTo>
                <a:lnTo>
                  <a:pt x="3212" y="378"/>
                </a:lnTo>
                <a:lnTo>
                  <a:pt x="3212" y="620"/>
                </a:lnTo>
                <a:lnTo>
                  <a:pt x="2746" y="620"/>
                </a:lnTo>
                <a:lnTo>
                  <a:pt x="2746" y="991"/>
                </a:lnTo>
                <a:lnTo>
                  <a:pt x="468" y="991"/>
                </a:lnTo>
                <a:lnTo>
                  <a:pt x="468" y="613"/>
                </a:lnTo>
                <a:lnTo>
                  <a:pt x="10" y="615"/>
                </a:lnTo>
              </a:path>
            </a:pathLst>
          </a:custGeom>
          <a:solidFill>
            <a:srgbClr val="0099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6402240" y="5342040"/>
            <a:ext cx="679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0800000">
            <a:off x="6549840" y="4830480"/>
            <a:ext cx="268200" cy="82440"/>
          </a:xfrm>
          <a:prstGeom prst="rect">
            <a:avLst/>
          </a:prstGeom>
          <a:solidFill>
            <a:srgbClr val="00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0800000">
            <a:off x="7086240" y="5000400"/>
            <a:ext cx="28440" cy="60120"/>
          </a:xfrm>
          <a:prstGeom prst="rect">
            <a:avLst/>
          </a:prstGeom>
          <a:solidFill>
            <a:srgbClr val="00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0800000">
            <a:off x="6388200" y="4851000"/>
            <a:ext cx="39600" cy="50760"/>
          </a:xfrm>
          <a:prstGeom prst="rect">
            <a:avLst/>
          </a:prstGeom>
          <a:solidFill>
            <a:srgbClr val="00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10800000">
            <a:off x="7086600" y="5286240"/>
            <a:ext cx="60480" cy="28800"/>
          </a:xfrm>
          <a:prstGeom prst="rect">
            <a:avLst/>
          </a:prstGeom>
          <a:solidFill>
            <a:srgbClr val="00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10800000">
            <a:off x="6229080" y="47858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rot="10800000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10800000">
            <a:off x="6583320" y="47620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rot="10800000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10800000">
            <a:off x="6764040" y="5206680"/>
            <a:ext cx="222120" cy="119160"/>
          </a:xfrm>
          <a:prstGeom prst="rect">
            <a:avLst/>
          </a:prstGeom>
          <a:noFill/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10800000">
            <a:off x="7605720" y="3621240"/>
            <a:ext cx="79200" cy="6192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8740800" y="3621240"/>
            <a:ext cx="77760" cy="6192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10800000">
            <a:off x="7638840" y="3392280"/>
            <a:ext cx="1137960" cy="525240"/>
          </a:xfrm>
          <a:custGeom>
            <a:avLst/>
            <a:gdLst/>
            <a:ahLst/>
            <a:rect l="l" t="t" r="r" b="b"/>
            <a:pathLst>
              <a:path w="3469" h="1605">
                <a:moveTo>
                  <a:pt x="3460" y="621"/>
                </a:moveTo>
                <a:lnTo>
                  <a:pt x="3460" y="946"/>
                </a:lnTo>
                <a:lnTo>
                  <a:pt x="2798" y="946"/>
                </a:lnTo>
                <a:lnTo>
                  <a:pt x="2798" y="910"/>
                </a:lnTo>
                <a:lnTo>
                  <a:pt x="2247" y="910"/>
                </a:lnTo>
                <a:lnTo>
                  <a:pt x="2247" y="1595"/>
                </a:lnTo>
                <a:lnTo>
                  <a:pt x="1976" y="1595"/>
                </a:lnTo>
                <a:lnTo>
                  <a:pt x="1976" y="907"/>
                </a:lnTo>
                <a:lnTo>
                  <a:pt x="1548" y="907"/>
                </a:lnTo>
                <a:lnTo>
                  <a:pt x="1548" y="1604"/>
                </a:lnTo>
                <a:lnTo>
                  <a:pt x="1273" y="1604"/>
                </a:lnTo>
                <a:lnTo>
                  <a:pt x="1273" y="916"/>
                </a:lnTo>
                <a:lnTo>
                  <a:pt x="867" y="916"/>
                </a:lnTo>
                <a:lnTo>
                  <a:pt x="867" y="949"/>
                </a:lnTo>
                <a:lnTo>
                  <a:pt x="0" y="948"/>
                </a:lnTo>
                <a:lnTo>
                  <a:pt x="0" y="625"/>
                </a:lnTo>
                <a:lnTo>
                  <a:pt x="855" y="625"/>
                </a:lnTo>
                <a:lnTo>
                  <a:pt x="855" y="660"/>
                </a:lnTo>
                <a:lnTo>
                  <a:pt x="1282" y="660"/>
                </a:lnTo>
                <a:lnTo>
                  <a:pt x="1282" y="0"/>
                </a:lnTo>
                <a:lnTo>
                  <a:pt x="1553" y="0"/>
                </a:lnTo>
                <a:lnTo>
                  <a:pt x="1553" y="656"/>
                </a:lnTo>
                <a:lnTo>
                  <a:pt x="2803" y="655"/>
                </a:lnTo>
                <a:lnTo>
                  <a:pt x="2803" y="623"/>
                </a:lnTo>
                <a:lnTo>
                  <a:pt x="3468" y="621"/>
                </a:lnTo>
                <a:lnTo>
                  <a:pt x="3446" y="618"/>
                </a:lnTo>
                <a:lnTo>
                  <a:pt x="3460" y="621"/>
                </a:lnTo>
              </a:path>
            </a:pathLst>
          </a:custGeom>
          <a:solidFill>
            <a:srgbClr val="0099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10800000">
            <a:off x="7728120" y="3314880"/>
            <a:ext cx="80640" cy="117360"/>
          </a:xfrm>
          <a:prstGeom prst="rect">
            <a:avLst/>
          </a:prstGeom>
          <a:solidFill>
            <a:srgbClr val="00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0800000">
            <a:off x="7894800" y="3836880"/>
            <a:ext cx="149040" cy="76320"/>
          </a:xfrm>
          <a:prstGeom prst="rect">
            <a:avLst/>
          </a:prstGeom>
          <a:solidFill>
            <a:srgbClr val="00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0800000">
            <a:off x="8442000" y="3354120"/>
            <a:ext cx="268200" cy="50760"/>
          </a:xfrm>
          <a:prstGeom prst="rect">
            <a:avLst/>
          </a:prstGeom>
          <a:solidFill>
            <a:srgbClr val="00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10800000">
            <a:off x="7851600" y="3384360"/>
            <a:ext cx="131760" cy="104760"/>
          </a:xfrm>
          <a:prstGeom prst="rect">
            <a:avLst/>
          </a:prstGeom>
          <a:solidFill>
            <a:srgbClr val="00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6200000">
            <a:off x="8034120" y="3501360"/>
            <a:ext cx="3366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972480" y="3654360"/>
            <a:ext cx="633240" cy="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350040" y="3865680"/>
            <a:ext cx="54000" cy="95040"/>
          </a:xfrm>
          <a:prstGeom prst="rect">
            <a:avLst/>
          </a:prstGeom>
          <a:solidFill>
            <a:srgbClr val="00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5880" y="3608280"/>
            <a:ext cx="119160" cy="9216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210360" y="3406680"/>
            <a:ext cx="716040" cy="596880"/>
          </a:xfrm>
          <a:custGeom>
            <a:avLst/>
            <a:gdLst/>
            <a:ahLst/>
            <a:rect l="l" t="t" r="r" b="b"/>
            <a:pathLst>
              <a:path w="2611" h="2174">
                <a:moveTo>
                  <a:pt x="0" y="1225"/>
                </a:moveTo>
                <a:lnTo>
                  <a:pt x="0" y="549"/>
                </a:lnTo>
                <a:lnTo>
                  <a:pt x="2288" y="549"/>
                </a:lnTo>
                <a:lnTo>
                  <a:pt x="2288" y="0"/>
                </a:lnTo>
                <a:lnTo>
                  <a:pt x="2539" y="0"/>
                </a:lnTo>
                <a:lnTo>
                  <a:pt x="2539" y="560"/>
                </a:lnTo>
                <a:lnTo>
                  <a:pt x="2610" y="562"/>
                </a:lnTo>
                <a:lnTo>
                  <a:pt x="2610" y="1178"/>
                </a:lnTo>
                <a:lnTo>
                  <a:pt x="2145" y="1178"/>
                </a:lnTo>
                <a:lnTo>
                  <a:pt x="2145" y="2173"/>
                </a:lnTo>
                <a:lnTo>
                  <a:pt x="1653" y="2173"/>
                </a:lnTo>
                <a:lnTo>
                  <a:pt x="1653" y="1223"/>
                </a:lnTo>
                <a:lnTo>
                  <a:pt x="0" y="1225"/>
                </a:lnTo>
              </a:path>
            </a:pathLst>
          </a:custGeom>
          <a:solidFill>
            <a:srgbClr val="0099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270480" y="3367080"/>
            <a:ext cx="311400" cy="34920"/>
          </a:xfrm>
          <a:prstGeom prst="rect">
            <a:avLst/>
          </a:prstGeom>
          <a:solidFill>
            <a:srgbClr val="00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594480" y="3362400"/>
            <a:ext cx="44280" cy="36360"/>
          </a:xfrm>
          <a:prstGeom prst="rect">
            <a:avLst/>
          </a:prstGeom>
          <a:solidFill>
            <a:srgbClr val="00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680160" y="3740040"/>
            <a:ext cx="106560" cy="23832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202440" y="3489480"/>
            <a:ext cx="79200" cy="396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926400" y="3608280"/>
            <a:ext cx="79200" cy="9216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939000" y="3436920"/>
            <a:ext cx="119160" cy="396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913440" y="3832200"/>
            <a:ext cx="131760" cy="7956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821800" y="3654360"/>
            <a:ext cx="584280" cy="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9406080" y="1674720"/>
            <a:ext cx="0" cy="199224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522440" y="1708200"/>
            <a:ext cx="388800" cy="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58880" y="1685880"/>
            <a:ext cx="695160" cy="396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58880" y="1766880"/>
            <a:ext cx="696960" cy="396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8880" y="1851120"/>
            <a:ext cx="696960" cy="396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69960" y="1679400"/>
            <a:ext cx="61920" cy="2178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490760" y="1679400"/>
            <a:ext cx="61920" cy="2178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0840" y="2039760"/>
            <a:ext cx="363240" cy="702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25440" y="2131920"/>
            <a:ext cx="235080" cy="10332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44520" y="20224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68560" y="2117880"/>
            <a:ext cx="183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52680" y="1689120"/>
            <a:ext cx="141120" cy="3348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7040" y="1689120"/>
            <a:ext cx="139680" cy="3348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8320" y="1457280"/>
            <a:ext cx="60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Op 16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7303320" y="3604680"/>
            <a:ext cx="123840" cy="10296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5400000">
            <a:off x="2873520" y="3640680"/>
            <a:ext cx="123840" cy="10332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5400000">
            <a:off x="4528440" y="3638520"/>
            <a:ext cx="123840" cy="10476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5400000">
            <a:off x="5800320" y="3633480"/>
            <a:ext cx="123840" cy="10476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65920" y="4103640"/>
            <a:ext cx="123840" cy="10332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5400000">
            <a:off x="6426360" y="4334400"/>
            <a:ext cx="123840" cy="10332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37200" y="4687920"/>
            <a:ext cx="123840" cy="10332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6200000">
            <a:off x="9055800" y="4785120"/>
            <a:ext cx="123840" cy="10332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16200000">
            <a:off x="3166200" y="5087160"/>
            <a:ext cx="123840" cy="10296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rot="16200000">
            <a:off x="1220760" y="5083200"/>
            <a:ext cx="122400" cy="10296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27000" y="4384800"/>
            <a:ext cx="123840" cy="10476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5400000">
            <a:off x="9055440" y="3604320"/>
            <a:ext cx="123840" cy="10332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345600" y="3216240"/>
            <a:ext cx="123840" cy="10476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358200" y="2292480"/>
            <a:ext cx="123840" cy="10296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16200000">
            <a:off x="8012880" y="1627560"/>
            <a:ext cx="123480" cy="10296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16200000">
            <a:off x="6572880" y="1626120"/>
            <a:ext cx="123840" cy="10332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rot="16200000">
            <a:off x="4232160" y="1644840"/>
            <a:ext cx="122400" cy="10296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16200000">
            <a:off x="5357520" y="1644480"/>
            <a:ext cx="122400" cy="10332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rot="16200000">
            <a:off x="3020760" y="1644480"/>
            <a:ext cx="122400" cy="10332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16200000">
            <a:off x="1755720" y="1650600"/>
            <a:ext cx="122040" cy="10296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675640" y="4830840"/>
            <a:ext cx="730440" cy="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7446960" y="4756320"/>
            <a:ext cx="1278000" cy="7412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8623440" y="5407200"/>
            <a:ext cx="52200" cy="26028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672400" y="4826160"/>
            <a:ext cx="57240" cy="15840"/>
          </a:xfrm>
          <a:prstGeom prst="rect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7437240" y="5222880"/>
            <a:ext cx="244440" cy="192240"/>
          </a:xfrm>
          <a:custGeom>
            <a:avLst/>
            <a:gdLst/>
            <a:ahLst/>
            <a:rect l="l" t="t" r="r" b="b"/>
            <a:pathLst>
              <a:path w="688" h="537">
                <a:moveTo>
                  <a:pt x="0" y="536"/>
                </a:moveTo>
                <a:lnTo>
                  <a:pt x="0" y="0"/>
                </a:lnTo>
                <a:lnTo>
                  <a:pt x="687" y="0"/>
                </a:lnTo>
                <a:lnTo>
                  <a:pt x="687" y="119"/>
                </a:lnTo>
                <a:lnTo>
                  <a:pt x="94" y="119"/>
                </a:lnTo>
                <a:lnTo>
                  <a:pt x="94" y="536"/>
                </a:lnTo>
                <a:lnTo>
                  <a:pt x="0" y="536"/>
                </a:lnTo>
              </a:path>
            </a:pathLst>
          </a:custGeom>
          <a:solidFill>
            <a:srgbClr val="00cc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623440" y="4654440"/>
            <a:ext cx="34920" cy="6192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435880" y="4705200"/>
            <a:ext cx="60480" cy="288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377200" y="5481720"/>
            <a:ext cx="63360" cy="3492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545680" y="5160960"/>
            <a:ext cx="45720" cy="8892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504280" y="4978440"/>
            <a:ext cx="69840" cy="15084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83600" y="4687920"/>
            <a:ext cx="98280" cy="4608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462800" y="4773600"/>
            <a:ext cx="76320" cy="1332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497720" y="5286240"/>
            <a:ext cx="61920" cy="3492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770960" y="4927680"/>
            <a:ext cx="91800" cy="666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446960" y="5181480"/>
            <a:ext cx="34920" cy="6192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34160" y="5440320"/>
            <a:ext cx="61920" cy="2376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016920" y="4506840"/>
            <a:ext cx="263520" cy="38160"/>
          </a:xfrm>
          <a:prstGeom prst="rect">
            <a:avLst/>
          </a:prstGeom>
          <a:solidFill>
            <a:srgbClr val="00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7920" bIns="-792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9304560" y="4971960"/>
            <a:ext cx="53640" cy="25560"/>
            <a:chOff x="9304560" y="4971960"/>
            <a:chExt cx="53640" cy="25560"/>
          </a:xfrm>
        </p:grpSpPr>
        <p:sp>
          <p:nvSpPr>
            <p:cNvPr id="214" name=""/>
            <p:cNvSpPr/>
            <p:nvPr/>
          </p:nvSpPr>
          <p:spPr>
            <a:xfrm flipH="1">
              <a:off x="9304920" y="4971960"/>
              <a:ext cx="53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9304920" y="4997520"/>
              <a:ext cx="52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9304560" y="4984560"/>
              <a:ext cx="47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 rot="5400000">
            <a:off x="9019440" y="4809240"/>
            <a:ext cx="658800" cy="222480"/>
          </a:xfrm>
          <a:custGeom>
            <a:avLst/>
            <a:gdLst/>
            <a:ahLst/>
            <a:rect l="l" t="t" r="r" b="b"/>
            <a:pathLst>
              <a:path w="2731" h="920">
                <a:moveTo>
                  <a:pt x="0" y="712"/>
                </a:moveTo>
                <a:lnTo>
                  <a:pt x="432" y="712"/>
                </a:lnTo>
                <a:lnTo>
                  <a:pt x="432" y="918"/>
                </a:lnTo>
                <a:lnTo>
                  <a:pt x="2353" y="919"/>
                </a:lnTo>
                <a:lnTo>
                  <a:pt x="2353" y="830"/>
                </a:lnTo>
                <a:lnTo>
                  <a:pt x="2730" y="830"/>
                </a:lnTo>
                <a:lnTo>
                  <a:pt x="2730" y="13"/>
                </a:lnTo>
                <a:lnTo>
                  <a:pt x="2586" y="13"/>
                </a:lnTo>
                <a:lnTo>
                  <a:pt x="2586" y="216"/>
                </a:lnTo>
                <a:lnTo>
                  <a:pt x="2353" y="216"/>
                </a:lnTo>
                <a:lnTo>
                  <a:pt x="2353" y="13"/>
                </a:lnTo>
                <a:lnTo>
                  <a:pt x="434" y="16"/>
                </a:lnTo>
                <a:lnTo>
                  <a:pt x="434" y="214"/>
                </a:lnTo>
                <a:lnTo>
                  <a:pt x="200" y="212"/>
                </a:lnTo>
                <a:lnTo>
                  <a:pt x="200" y="0"/>
                </a:lnTo>
                <a:lnTo>
                  <a:pt x="0" y="0"/>
                </a:lnTo>
                <a:lnTo>
                  <a:pt x="0" y="712"/>
                </a:lnTo>
              </a:path>
            </a:pathLst>
          </a:custGeom>
          <a:solidFill>
            <a:srgbClr val="0099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8918280" y="4605120"/>
            <a:ext cx="3366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 rot="10800000">
            <a:spAutoFit/>
          </a:bodyPr>
          <a:p>
            <a:pPr marL="343080" indent="-34308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455680" y="1917720"/>
            <a:ext cx="60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3333cc"/>
                </a:solidFill>
                <a:latin typeface="Arial"/>
              </a:rPr>
              <a:t>Op 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9259560" y="1674720"/>
            <a:ext cx="150840" cy="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7800480" y="1681200"/>
            <a:ext cx="398520" cy="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211960" y="1654200"/>
            <a:ext cx="101880" cy="60480"/>
          </a:xfrm>
          <a:prstGeom prst="rect">
            <a:avLst/>
          </a:prstGeom>
          <a:solidFill>
            <a:srgbClr val="00cc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129600" y="1652760"/>
            <a:ext cx="104760" cy="61920"/>
          </a:xfrm>
          <a:prstGeom prst="rect">
            <a:avLst/>
          </a:prstGeom>
          <a:solidFill>
            <a:srgbClr val="00cc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261280" y="1636560"/>
            <a:ext cx="946080" cy="93960"/>
          </a:xfrm>
          <a:prstGeom prst="rect">
            <a:avLst/>
          </a:prstGeom>
          <a:solidFill>
            <a:srgbClr val="00cc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88280" y="1440000"/>
            <a:ext cx="61920" cy="195120"/>
          </a:xfrm>
          <a:prstGeom prst="rect">
            <a:avLst/>
          </a:prstGeom>
          <a:solidFill>
            <a:srgbClr val="00cc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880480" y="1440000"/>
            <a:ext cx="61920" cy="196560"/>
          </a:xfrm>
          <a:prstGeom prst="rect">
            <a:avLst/>
          </a:prstGeom>
          <a:solidFill>
            <a:srgbClr val="00cc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078840" y="1440000"/>
            <a:ext cx="63720" cy="195120"/>
          </a:xfrm>
          <a:prstGeom prst="rect">
            <a:avLst/>
          </a:prstGeom>
          <a:solidFill>
            <a:srgbClr val="00cc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197920" y="1798560"/>
            <a:ext cx="189000" cy="58680"/>
          </a:xfrm>
          <a:prstGeom prst="rect">
            <a:avLst/>
          </a:prstGeom>
          <a:solidFill>
            <a:srgbClr val="00cc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726400" y="1440000"/>
            <a:ext cx="61920" cy="196560"/>
          </a:xfrm>
          <a:prstGeom prst="rect">
            <a:avLst/>
          </a:prstGeom>
          <a:solidFill>
            <a:srgbClr val="00cc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885160" y="1727280"/>
            <a:ext cx="63720" cy="196920"/>
          </a:xfrm>
          <a:prstGeom prst="rect">
            <a:avLst/>
          </a:prstGeom>
          <a:solidFill>
            <a:srgbClr val="00cc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082080" y="1727280"/>
            <a:ext cx="61920" cy="196920"/>
          </a:xfrm>
          <a:prstGeom prst="rect">
            <a:avLst/>
          </a:prstGeom>
          <a:solidFill>
            <a:srgbClr val="00cc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729640" y="1727280"/>
            <a:ext cx="63360" cy="196920"/>
          </a:xfrm>
          <a:prstGeom prst="rect">
            <a:avLst/>
          </a:prstGeom>
          <a:solidFill>
            <a:srgbClr val="00cc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582040" y="1727280"/>
            <a:ext cx="63360" cy="196920"/>
          </a:xfrm>
          <a:prstGeom prst="rect">
            <a:avLst/>
          </a:prstGeom>
          <a:solidFill>
            <a:srgbClr val="00cc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585280" y="1440000"/>
            <a:ext cx="63360" cy="196560"/>
          </a:xfrm>
          <a:prstGeom prst="rect">
            <a:avLst/>
          </a:prstGeom>
          <a:solidFill>
            <a:srgbClr val="00cc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445600" y="1440000"/>
            <a:ext cx="63360" cy="196560"/>
          </a:xfrm>
          <a:prstGeom prst="rect">
            <a:avLst/>
          </a:prstGeom>
          <a:solidFill>
            <a:srgbClr val="00cc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090560" y="1917720"/>
            <a:ext cx="60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Op 1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6432480" y="1685880"/>
            <a:ext cx="480960" cy="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861880" y="1168560"/>
            <a:ext cx="60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Op 1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5268960" y="1697040"/>
            <a:ext cx="419040" cy="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58320" y="1917720"/>
            <a:ext cx="60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3333cc"/>
                </a:solidFill>
                <a:latin typeface="Arial"/>
              </a:rPr>
              <a:t>Op 1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4113360" y="1697040"/>
            <a:ext cx="328320" cy="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602240" y="191772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075280" y="13287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784920" y="1658880"/>
            <a:ext cx="111240" cy="558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777080" y="1657440"/>
            <a:ext cx="144720" cy="5724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510320" y="1374840"/>
            <a:ext cx="206640" cy="522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38920" y="1643040"/>
            <a:ext cx="1023840" cy="8424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535880" y="1469880"/>
            <a:ext cx="98280" cy="2700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716960" y="1469880"/>
            <a:ext cx="91800" cy="2700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7702560" y="1847520"/>
            <a:ext cx="92160" cy="336600"/>
            <a:chOff x="7702560" y="1847520"/>
            <a:chExt cx="92160" cy="336600"/>
          </a:xfrm>
        </p:grpSpPr>
        <p:sp>
          <p:nvSpPr>
            <p:cNvPr id="251" name=""/>
            <p:cNvSpPr/>
            <p:nvPr/>
          </p:nvSpPr>
          <p:spPr>
            <a:xfrm>
              <a:off x="7724160" y="1871640"/>
              <a:ext cx="69480" cy="1396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16200000">
              <a:off x="7580160" y="1969560"/>
              <a:ext cx="33660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 vert="eaVer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7315200" y="1787400"/>
            <a:ext cx="184320" cy="244440"/>
            <a:chOff x="7315200" y="1787400"/>
            <a:chExt cx="184320" cy="244440"/>
          </a:xfrm>
        </p:grpSpPr>
        <p:sp>
          <p:nvSpPr>
            <p:cNvPr id="254" name=""/>
            <p:cNvSpPr/>
            <p:nvPr/>
          </p:nvSpPr>
          <p:spPr>
            <a:xfrm>
              <a:off x="7336440" y="1796760"/>
              <a:ext cx="136800" cy="712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315200" y="1787400"/>
              <a:ext cx="1843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7192800" y="1469880"/>
            <a:ext cx="68400" cy="2700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081920" y="1469880"/>
            <a:ext cx="68040" cy="2700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40440" y="1568520"/>
            <a:ext cx="68400" cy="7452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48640" y="1346040"/>
            <a:ext cx="160200" cy="8604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240" bIns="39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781680" y="1595520"/>
            <a:ext cx="68400" cy="3168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420360" y="1917720"/>
            <a:ext cx="60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Op 1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798280" y="1697040"/>
            <a:ext cx="474840" cy="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179800" y="1735200"/>
            <a:ext cx="144360" cy="1602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179800" y="1500120"/>
            <a:ext cx="144360" cy="16056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352600" y="2041560"/>
            <a:ext cx="208080" cy="6012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08000" y="1674720"/>
            <a:ext cx="101880" cy="4932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17720" y="1673280"/>
            <a:ext cx="131760" cy="4932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957320" y="1660680"/>
            <a:ext cx="939960" cy="7596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467080" y="1735200"/>
            <a:ext cx="90360" cy="522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630520" y="1643040"/>
            <a:ext cx="84240" cy="11916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571840" y="1486080"/>
            <a:ext cx="142920" cy="792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468520" y="146700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819520" y="1852560"/>
            <a:ext cx="104760" cy="396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015280" y="1270080"/>
            <a:ext cx="60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Op 1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5557680" y="1287360"/>
            <a:ext cx="958680" cy="712440"/>
            <a:chOff x="5557680" y="1287360"/>
            <a:chExt cx="958680" cy="712440"/>
          </a:xfrm>
        </p:grpSpPr>
        <p:sp>
          <p:nvSpPr>
            <p:cNvPr id="276" name=""/>
            <p:cNvSpPr/>
            <p:nvPr/>
          </p:nvSpPr>
          <p:spPr>
            <a:xfrm>
              <a:off x="5640840" y="1406160"/>
              <a:ext cx="141840" cy="1544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640840" y="1560600"/>
              <a:ext cx="794520" cy="2556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20120" y="1584720"/>
              <a:ext cx="487440" cy="163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587920" y="1287360"/>
              <a:ext cx="360720" cy="478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054480" y="1965600"/>
              <a:ext cx="203400" cy="342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571720" y="1631520"/>
              <a:ext cx="68760" cy="1076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569560" y="1845720"/>
              <a:ext cx="23400" cy="709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447600" y="1797840"/>
              <a:ext cx="68760" cy="241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557680" y="1454040"/>
              <a:ext cx="68760" cy="230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435360" y="1631520"/>
              <a:ext cx="68760" cy="1076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 rot="10800000">
            <a:off x="5851440" y="1366920"/>
            <a:ext cx="147600" cy="792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10800000">
            <a:off x="6192720" y="1366920"/>
            <a:ext cx="147600" cy="792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rot="10800000">
            <a:off x="4255560" y="3727080"/>
            <a:ext cx="63720" cy="1602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308480" y="3666960"/>
            <a:ext cx="103320" cy="511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rot="10800000">
            <a:off x="3503160" y="3490560"/>
            <a:ext cx="63720" cy="1602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rot="10800000">
            <a:off x="3359160" y="3490560"/>
            <a:ext cx="63360" cy="1602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rot="10800000">
            <a:off x="3200040" y="3490560"/>
            <a:ext cx="65160" cy="1602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095720" y="3471840"/>
            <a:ext cx="262080" cy="47520"/>
          </a:xfrm>
          <a:prstGeom prst="rect">
            <a:avLst/>
          </a:prstGeom>
          <a:solidFill>
            <a:srgbClr val="00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rot="10800000">
            <a:off x="3989520" y="3490560"/>
            <a:ext cx="63360" cy="1602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10800000">
            <a:off x="3082680" y="3666960"/>
            <a:ext cx="104760" cy="511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10800000">
            <a:off x="4121280" y="3727080"/>
            <a:ext cx="63360" cy="1602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10800000">
            <a:off x="3505320" y="3727080"/>
            <a:ext cx="63360" cy="1602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rot="10800000">
            <a:off x="3359160" y="3727080"/>
            <a:ext cx="63360" cy="1602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rot="10800000">
            <a:off x="3200040" y="3727080"/>
            <a:ext cx="65160" cy="1602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203640" y="3938760"/>
            <a:ext cx="63360" cy="8064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rot="10800000">
            <a:off x="3992040" y="3727080"/>
            <a:ext cx="63720" cy="1602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rot="10800000">
            <a:off x="3843360" y="3727080"/>
            <a:ext cx="63360" cy="1602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rot="10800000">
            <a:off x="3688920" y="3727080"/>
            <a:ext cx="63720" cy="1602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3581280" y="3481560"/>
            <a:ext cx="184320" cy="244440"/>
            <a:chOff x="3581280" y="3481560"/>
            <a:chExt cx="184320" cy="244440"/>
          </a:xfrm>
        </p:grpSpPr>
        <p:sp>
          <p:nvSpPr>
            <p:cNvPr id="305" name=""/>
            <p:cNvSpPr/>
            <p:nvPr/>
          </p:nvSpPr>
          <p:spPr>
            <a:xfrm>
              <a:off x="3609360" y="3494160"/>
              <a:ext cx="124920" cy="658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581280" y="3481560"/>
              <a:ext cx="1843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079800" y="3625920"/>
            <a:ext cx="55440" cy="34920"/>
          </a:xfrm>
          <a:prstGeom prst="rect">
            <a:avLst/>
          </a:prstGeom>
          <a:solidFill>
            <a:srgbClr val="00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92640" y="3941640"/>
            <a:ext cx="147600" cy="7776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rot="10800000">
            <a:off x="3843360" y="3493800"/>
            <a:ext cx="61920" cy="1602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rot="10800000">
            <a:off x="3147840" y="3651120"/>
            <a:ext cx="1224000" cy="7632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438360" y="194004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578400" y="1609560"/>
            <a:ext cx="169560" cy="90720"/>
          </a:xfrm>
          <a:prstGeom prst="rect">
            <a:avLst/>
          </a:prstGeom>
          <a:noFill/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4441680" y="1270080"/>
            <a:ext cx="834840" cy="699480"/>
            <a:chOff x="4441680" y="1270080"/>
            <a:chExt cx="834840" cy="699480"/>
          </a:xfrm>
        </p:grpSpPr>
        <p:sp>
          <p:nvSpPr>
            <p:cNvPr id="314" name=""/>
            <p:cNvSpPr/>
            <p:nvPr/>
          </p:nvSpPr>
          <p:spPr>
            <a:xfrm>
              <a:off x="4445280" y="1558080"/>
              <a:ext cx="831240" cy="247320"/>
            </a:xfrm>
            <a:custGeom>
              <a:avLst/>
              <a:gdLst/>
              <a:ahLst/>
              <a:rect l="l" t="t" r="r" b="b"/>
              <a:pathLst>
                <a:path w="3073" h="919">
                  <a:moveTo>
                    <a:pt x="3072" y="608"/>
                  </a:moveTo>
                  <a:lnTo>
                    <a:pt x="3072" y="405"/>
                  </a:lnTo>
                  <a:lnTo>
                    <a:pt x="2683" y="405"/>
                  </a:lnTo>
                  <a:lnTo>
                    <a:pt x="2683" y="0"/>
                  </a:lnTo>
                  <a:lnTo>
                    <a:pt x="383" y="0"/>
                  </a:lnTo>
                  <a:lnTo>
                    <a:pt x="383" y="405"/>
                  </a:lnTo>
                  <a:lnTo>
                    <a:pt x="0" y="405"/>
                  </a:lnTo>
                  <a:lnTo>
                    <a:pt x="0" y="608"/>
                  </a:lnTo>
                  <a:lnTo>
                    <a:pt x="383" y="608"/>
                  </a:lnTo>
                  <a:lnTo>
                    <a:pt x="383" y="918"/>
                  </a:lnTo>
                  <a:lnTo>
                    <a:pt x="2683" y="918"/>
                  </a:lnTo>
                  <a:lnTo>
                    <a:pt x="2683" y="608"/>
                  </a:lnTo>
                  <a:lnTo>
                    <a:pt x="3072" y="608"/>
                  </a:lnTo>
                </a:path>
              </a:pathLst>
            </a:custGeom>
            <a:solidFill>
              <a:srgbClr val="00cc99">
                <a:alpha val="50000"/>
              </a:srgbClr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947840" y="1902960"/>
              <a:ext cx="224280" cy="6660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740840" y="1587600"/>
              <a:ext cx="170280" cy="9108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457520" y="1873440"/>
              <a:ext cx="129960" cy="7812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441680" y="1270080"/>
              <a:ext cx="243360" cy="14580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928400" y="1278720"/>
              <a:ext cx="194760" cy="11772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3282840" y="1562040"/>
            <a:ext cx="866880" cy="258840"/>
          </a:xfrm>
          <a:custGeom>
            <a:avLst/>
            <a:gdLst/>
            <a:ahLst/>
            <a:rect l="l" t="t" r="r" b="b"/>
            <a:pathLst>
              <a:path w="3073" h="919">
                <a:moveTo>
                  <a:pt x="3072" y="608"/>
                </a:moveTo>
                <a:lnTo>
                  <a:pt x="3072" y="405"/>
                </a:lnTo>
                <a:lnTo>
                  <a:pt x="2683" y="405"/>
                </a:lnTo>
                <a:lnTo>
                  <a:pt x="2683" y="0"/>
                </a:lnTo>
                <a:lnTo>
                  <a:pt x="383" y="0"/>
                </a:lnTo>
                <a:lnTo>
                  <a:pt x="383" y="405"/>
                </a:lnTo>
                <a:lnTo>
                  <a:pt x="0" y="405"/>
                </a:lnTo>
                <a:lnTo>
                  <a:pt x="0" y="608"/>
                </a:lnTo>
                <a:lnTo>
                  <a:pt x="383" y="608"/>
                </a:lnTo>
                <a:lnTo>
                  <a:pt x="383" y="918"/>
                </a:lnTo>
                <a:lnTo>
                  <a:pt x="2683" y="918"/>
                </a:lnTo>
                <a:lnTo>
                  <a:pt x="2683" y="608"/>
                </a:lnTo>
                <a:lnTo>
                  <a:pt x="3072" y="608"/>
                </a:lnTo>
              </a:path>
            </a:pathLst>
          </a:custGeom>
          <a:solidFill>
            <a:srgbClr val="0099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371760" y="1901880"/>
            <a:ext cx="223920" cy="6804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57760" y="1873080"/>
            <a:ext cx="129960" cy="7812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419640" y="1270080"/>
            <a:ext cx="244440" cy="1458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rot="5400000">
            <a:off x="1656360" y="5321880"/>
            <a:ext cx="55800" cy="1303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rot="5400000">
            <a:off x="2486520" y="5274360"/>
            <a:ext cx="56880" cy="128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rot="5400000">
            <a:off x="8124120" y="1768320"/>
            <a:ext cx="84240" cy="49320"/>
          </a:xfrm>
          <a:prstGeom prst="rect">
            <a:avLst/>
          </a:prstGeom>
          <a:solidFill>
            <a:srgbClr val="00cc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091360" y="1463760"/>
            <a:ext cx="119160" cy="117360"/>
          </a:xfrm>
          <a:prstGeom prst="rect">
            <a:avLst/>
          </a:prstGeom>
          <a:solidFill>
            <a:srgbClr val="00cc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383680" y="1755720"/>
            <a:ext cx="145800" cy="98640"/>
          </a:xfrm>
          <a:prstGeom prst="rect">
            <a:avLst/>
          </a:prstGeom>
          <a:solidFill>
            <a:srgbClr val="00cc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rot="16200000">
            <a:off x="5415120" y="4805280"/>
            <a:ext cx="218880" cy="53352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16200000">
            <a:off x="5019840" y="5057280"/>
            <a:ext cx="122040" cy="10332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241240" y="5446800"/>
            <a:ext cx="53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Op 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-950760" y="40644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lo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49240" y="3502080"/>
            <a:ext cx="797040" cy="358560"/>
          </a:xfrm>
          <a:custGeom>
            <a:avLst/>
            <a:gdLst/>
            <a:ahLst/>
            <a:rect l="l" t="t" r="r" b="b"/>
            <a:pathLst>
              <a:path w="211" h="258">
                <a:moveTo>
                  <a:pt x="118" y="0"/>
                </a:moveTo>
                <a:cubicBezTo>
                  <a:pt x="102" y="2"/>
                  <a:pt x="84" y="0"/>
                  <a:pt x="70" y="8"/>
                </a:cubicBezTo>
                <a:cubicBezTo>
                  <a:pt x="59" y="15"/>
                  <a:pt x="54" y="44"/>
                  <a:pt x="54" y="44"/>
                </a:cubicBezTo>
                <a:cubicBezTo>
                  <a:pt x="53" y="63"/>
                  <a:pt x="60" y="84"/>
                  <a:pt x="50" y="100"/>
                </a:cubicBezTo>
                <a:cubicBezTo>
                  <a:pt x="44" y="109"/>
                  <a:pt x="20" y="93"/>
                  <a:pt x="18" y="104"/>
                </a:cubicBezTo>
                <a:cubicBezTo>
                  <a:pt x="9" y="146"/>
                  <a:pt x="0" y="195"/>
                  <a:pt x="22" y="232"/>
                </a:cubicBezTo>
                <a:cubicBezTo>
                  <a:pt x="35" y="254"/>
                  <a:pt x="73" y="235"/>
                  <a:pt x="98" y="236"/>
                </a:cubicBezTo>
                <a:cubicBezTo>
                  <a:pt x="113" y="258"/>
                  <a:pt x="122" y="252"/>
                  <a:pt x="150" y="248"/>
                </a:cubicBezTo>
                <a:cubicBezTo>
                  <a:pt x="160" y="245"/>
                  <a:pt x="180" y="251"/>
                  <a:pt x="182" y="240"/>
                </a:cubicBezTo>
                <a:cubicBezTo>
                  <a:pt x="211" y="82"/>
                  <a:pt x="153" y="145"/>
                  <a:pt x="198" y="100"/>
                </a:cubicBezTo>
                <a:cubicBezTo>
                  <a:pt x="195" y="69"/>
                  <a:pt x="201" y="44"/>
                  <a:pt x="166" y="32"/>
                </a:cubicBezTo>
                <a:cubicBezTo>
                  <a:pt x="147" y="26"/>
                  <a:pt x="135" y="20"/>
                  <a:pt x="118" y="12"/>
                </a:cubicBezTo>
                <a:cubicBezTo>
                  <a:pt x="114" y="10"/>
                  <a:pt x="106" y="12"/>
                  <a:pt x="106" y="8"/>
                </a:cubicBezTo>
                <a:cubicBezTo>
                  <a:pt x="106" y="3"/>
                  <a:pt x="114" y="3"/>
                  <a:pt x="118" y="0"/>
                </a:cubicBezTo>
                <a:close/>
              </a:path>
            </a:pathLst>
          </a:custGeom>
          <a:solidFill>
            <a:srgbClr val="3333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4280" y="2276640"/>
            <a:ext cx="2521080" cy="106164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imes New Roman"/>
              </a:rPr>
              <a:t>A11 – Máquinas: 1 – Estaciones: carga y transportado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Problema: salpicaduras de taladrina durante el transporte y derrames en la estación de carg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Análisis causa raíz: golpes entre piezas impregnadas de taladrina y aberturas en la máquina en la parte superior e inferio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Acción correctiva: barreras de material absorbente, anular taladrina al final de Op.30 y colocar cinta para alertar al person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Recomendación: construir protecciones en transportador y cerramientos en estación de carg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016520" y="1701720"/>
            <a:ext cx="272880" cy="192240"/>
          </a:xfrm>
          <a:custGeom>
            <a:avLst/>
            <a:gdLst/>
            <a:ahLst/>
            <a:rect l="l" t="t" r="r" b="b"/>
            <a:pathLst>
              <a:path w="69" h="62">
                <a:moveTo>
                  <a:pt x="13" y="56"/>
                </a:moveTo>
                <a:cubicBezTo>
                  <a:pt x="0" y="37"/>
                  <a:pt x="3" y="49"/>
                  <a:pt x="13" y="20"/>
                </a:cubicBezTo>
                <a:cubicBezTo>
                  <a:pt x="14" y="16"/>
                  <a:pt x="13" y="9"/>
                  <a:pt x="17" y="8"/>
                </a:cubicBezTo>
                <a:cubicBezTo>
                  <a:pt x="25" y="5"/>
                  <a:pt x="41" y="0"/>
                  <a:pt x="41" y="0"/>
                </a:cubicBezTo>
                <a:cubicBezTo>
                  <a:pt x="69" y="7"/>
                  <a:pt x="66" y="24"/>
                  <a:pt x="41" y="32"/>
                </a:cubicBezTo>
                <a:cubicBezTo>
                  <a:pt x="40" y="36"/>
                  <a:pt x="40" y="42"/>
                  <a:pt x="37" y="44"/>
                </a:cubicBezTo>
                <a:cubicBezTo>
                  <a:pt x="12" y="62"/>
                  <a:pt x="13" y="42"/>
                  <a:pt x="13" y="56"/>
                </a:cubicBezTo>
                <a:close/>
              </a:path>
            </a:pathLst>
          </a:custGeom>
          <a:solidFill>
            <a:srgbClr val="3333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238640" y="1647720"/>
            <a:ext cx="341280" cy="287280"/>
          </a:xfrm>
          <a:custGeom>
            <a:avLst/>
            <a:gdLst/>
            <a:ahLst/>
            <a:rect l="l" t="t" r="r" b="b"/>
            <a:pathLst>
              <a:path w="215" h="181">
                <a:moveTo>
                  <a:pt x="194" y="12"/>
                </a:moveTo>
                <a:cubicBezTo>
                  <a:pt x="162" y="1"/>
                  <a:pt x="164" y="0"/>
                  <a:pt x="106" y="12"/>
                </a:cubicBezTo>
                <a:cubicBezTo>
                  <a:pt x="102" y="13"/>
                  <a:pt x="106" y="23"/>
                  <a:pt x="102" y="24"/>
                </a:cubicBezTo>
                <a:cubicBezTo>
                  <a:pt x="70" y="29"/>
                  <a:pt x="38" y="27"/>
                  <a:pt x="6" y="28"/>
                </a:cubicBezTo>
                <a:cubicBezTo>
                  <a:pt x="0" y="46"/>
                  <a:pt x="4" y="57"/>
                  <a:pt x="14" y="72"/>
                </a:cubicBezTo>
                <a:cubicBezTo>
                  <a:pt x="15" y="87"/>
                  <a:pt x="12" y="102"/>
                  <a:pt x="18" y="116"/>
                </a:cubicBezTo>
                <a:cubicBezTo>
                  <a:pt x="20" y="121"/>
                  <a:pt x="31" y="115"/>
                  <a:pt x="34" y="120"/>
                </a:cubicBezTo>
                <a:cubicBezTo>
                  <a:pt x="38" y="126"/>
                  <a:pt x="44" y="170"/>
                  <a:pt x="46" y="180"/>
                </a:cubicBezTo>
                <a:cubicBezTo>
                  <a:pt x="54" y="179"/>
                  <a:pt x="63" y="181"/>
                  <a:pt x="70" y="176"/>
                </a:cubicBezTo>
                <a:cubicBezTo>
                  <a:pt x="74" y="173"/>
                  <a:pt x="69" y="162"/>
                  <a:pt x="74" y="160"/>
                </a:cubicBezTo>
                <a:cubicBezTo>
                  <a:pt x="85" y="155"/>
                  <a:pt x="98" y="157"/>
                  <a:pt x="110" y="156"/>
                </a:cubicBezTo>
                <a:cubicBezTo>
                  <a:pt x="134" y="148"/>
                  <a:pt x="147" y="140"/>
                  <a:pt x="174" y="136"/>
                </a:cubicBezTo>
                <a:cubicBezTo>
                  <a:pt x="207" y="125"/>
                  <a:pt x="158" y="145"/>
                  <a:pt x="190" y="104"/>
                </a:cubicBezTo>
                <a:cubicBezTo>
                  <a:pt x="195" y="97"/>
                  <a:pt x="214" y="96"/>
                  <a:pt x="214" y="96"/>
                </a:cubicBezTo>
                <a:cubicBezTo>
                  <a:pt x="213" y="75"/>
                  <a:pt x="215" y="53"/>
                  <a:pt x="210" y="32"/>
                </a:cubicBezTo>
                <a:cubicBezTo>
                  <a:pt x="209" y="28"/>
                  <a:pt x="201" y="31"/>
                  <a:pt x="198" y="28"/>
                </a:cubicBezTo>
                <a:cubicBezTo>
                  <a:pt x="195" y="24"/>
                  <a:pt x="195" y="17"/>
                  <a:pt x="194" y="12"/>
                </a:cubicBezTo>
                <a:close/>
              </a:path>
            </a:pathLst>
          </a:custGeom>
          <a:solidFill>
            <a:srgbClr val="3333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792520" y="345960"/>
            <a:ext cx="3168720" cy="79524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imes New Roman"/>
              </a:rPr>
              <a:t>B8 – Máquinas afectadas: 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Problema: fuga de taladrin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Análisis causa raíz: las curvas de la tubería se obstruyen de virut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Acción correctiva: barreras de material absorbente y bandejas de recogid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Recomendación: cambiar la tubería. Construirla en un tramo sin codos e inclinado hacia el canal veloz. Incluir acción de preventivo para revisiones periódic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4232160" y="1125360"/>
            <a:ext cx="0" cy="64800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705720" y="1414440"/>
            <a:ext cx="349200" cy="488880"/>
          </a:xfrm>
          <a:custGeom>
            <a:avLst/>
            <a:gdLst/>
            <a:ahLst/>
            <a:rect l="l" t="t" r="r" b="b"/>
            <a:pathLst>
              <a:path w="220" h="308">
                <a:moveTo>
                  <a:pt x="136" y="7"/>
                </a:moveTo>
                <a:cubicBezTo>
                  <a:pt x="109" y="9"/>
                  <a:pt x="78" y="0"/>
                  <a:pt x="56" y="15"/>
                </a:cubicBezTo>
                <a:cubicBezTo>
                  <a:pt x="26" y="35"/>
                  <a:pt x="61" y="21"/>
                  <a:pt x="32" y="31"/>
                </a:cubicBezTo>
                <a:cubicBezTo>
                  <a:pt x="14" y="58"/>
                  <a:pt x="6" y="87"/>
                  <a:pt x="0" y="119"/>
                </a:cubicBezTo>
                <a:cubicBezTo>
                  <a:pt x="3" y="136"/>
                  <a:pt x="2" y="155"/>
                  <a:pt x="8" y="171"/>
                </a:cubicBezTo>
                <a:cubicBezTo>
                  <a:pt x="11" y="180"/>
                  <a:pt x="24" y="195"/>
                  <a:pt x="24" y="195"/>
                </a:cubicBezTo>
                <a:cubicBezTo>
                  <a:pt x="25" y="224"/>
                  <a:pt x="5" y="265"/>
                  <a:pt x="28" y="283"/>
                </a:cubicBezTo>
                <a:cubicBezTo>
                  <a:pt x="60" y="308"/>
                  <a:pt x="144" y="279"/>
                  <a:pt x="180" y="255"/>
                </a:cubicBezTo>
                <a:cubicBezTo>
                  <a:pt x="193" y="235"/>
                  <a:pt x="212" y="223"/>
                  <a:pt x="220" y="199"/>
                </a:cubicBezTo>
                <a:cubicBezTo>
                  <a:pt x="219" y="151"/>
                  <a:pt x="220" y="103"/>
                  <a:pt x="216" y="55"/>
                </a:cubicBezTo>
                <a:cubicBezTo>
                  <a:pt x="215" y="41"/>
                  <a:pt x="154" y="19"/>
                  <a:pt x="136" y="7"/>
                </a:cubicBezTo>
                <a:close/>
              </a:path>
            </a:pathLst>
          </a:custGeom>
          <a:solidFill>
            <a:srgbClr val="3333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0" name=""/>
          <p:cNvCxnSpPr>
            <a:stCxn id="334" idx="2"/>
            <a:endCxn id="333" idx="0"/>
          </p:cNvCxnSpPr>
          <p:nvPr/>
        </p:nvCxnSpPr>
        <p:spPr>
          <a:xfrm rot="5400000">
            <a:off x="1209240" y="3423600"/>
            <a:ext cx="180720" cy="10080"/>
          </a:xfrm>
          <a:prstGeom prst="bentConnector3">
            <a:avLst>
              <a:gd name="adj1" fmla="val 45508"/>
            </a:avLst>
          </a:prstGeom>
          <a:ln w="25560">
            <a:solidFill>
              <a:srgbClr val="808080"/>
            </a:solidFill>
            <a:miter/>
          </a:ln>
        </p:spPr>
      </p:cxnSp>
      <p:sp>
        <p:nvSpPr>
          <p:cNvPr id="341" name=""/>
          <p:cNvSpPr/>
          <p:nvPr/>
        </p:nvSpPr>
        <p:spPr>
          <a:xfrm>
            <a:off x="3016080" y="3462480"/>
            <a:ext cx="187560" cy="347400"/>
          </a:xfrm>
          <a:custGeom>
            <a:avLst/>
            <a:gdLst/>
            <a:ahLst/>
            <a:rect l="l" t="t" r="r" b="b"/>
            <a:pathLst>
              <a:path w="118" h="219">
                <a:moveTo>
                  <a:pt x="32" y="21"/>
                </a:moveTo>
                <a:cubicBezTo>
                  <a:pt x="26" y="40"/>
                  <a:pt x="15" y="48"/>
                  <a:pt x="8" y="69"/>
                </a:cubicBezTo>
                <a:cubicBezTo>
                  <a:pt x="5" y="77"/>
                  <a:pt x="0" y="93"/>
                  <a:pt x="0" y="93"/>
                </a:cubicBezTo>
                <a:cubicBezTo>
                  <a:pt x="6" y="143"/>
                  <a:pt x="9" y="112"/>
                  <a:pt x="20" y="145"/>
                </a:cubicBezTo>
                <a:cubicBezTo>
                  <a:pt x="21" y="161"/>
                  <a:pt x="17" y="179"/>
                  <a:pt x="24" y="193"/>
                </a:cubicBezTo>
                <a:cubicBezTo>
                  <a:pt x="24" y="193"/>
                  <a:pt x="54" y="203"/>
                  <a:pt x="60" y="205"/>
                </a:cubicBezTo>
                <a:cubicBezTo>
                  <a:pt x="64" y="206"/>
                  <a:pt x="72" y="209"/>
                  <a:pt x="72" y="209"/>
                </a:cubicBezTo>
                <a:cubicBezTo>
                  <a:pt x="118" y="197"/>
                  <a:pt x="54" y="219"/>
                  <a:pt x="92" y="181"/>
                </a:cubicBezTo>
                <a:cubicBezTo>
                  <a:pt x="98" y="175"/>
                  <a:pt x="108" y="178"/>
                  <a:pt x="116" y="177"/>
                </a:cubicBezTo>
                <a:cubicBezTo>
                  <a:pt x="113" y="140"/>
                  <a:pt x="111" y="76"/>
                  <a:pt x="104" y="41"/>
                </a:cubicBezTo>
                <a:cubicBezTo>
                  <a:pt x="103" y="35"/>
                  <a:pt x="85" y="24"/>
                  <a:pt x="80" y="21"/>
                </a:cubicBezTo>
                <a:cubicBezTo>
                  <a:pt x="77" y="17"/>
                  <a:pt x="77" y="10"/>
                  <a:pt x="72" y="9"/>
                </a:cubicBezTo>
                <a:cubicBezTo>
                  <a:pt x="26" y="0"/>
                  <a:pt x="44" y="33"/>
                  <a:pt x="32" y="21"/>
                </a:cubicBezTo>
                <a:close/>
              </a:path>
            </a:pathLst>
          </a:custGeom>
          <a:solidFill>
            <a:srgbClr val="3333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305240" y="5373720"/>
            <a:ext cx="142920" cy="14436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rot="20914800">
            <a:off x="4202280" y="5262120"/>
            <a:ext cx="330120" cy="336600"/>
          </a:xfrm>
          <a:custGeom>
            <a:avLst/>
            <a:gdLst/>
            <a:ahLst/>
            <a:rect l="l" t="t" r="r" b="b"/>
            <a:pathLst>
              <a:path w="208" h="212">
                <a:moveTo>
                  <a:pt x="57" y="3"/>
                </a:moveTo>
                <a:cubicBezTo>
                  <a:pt x="41" y="4"/>
                  <a:pt x="23" y="0"/>
                  <a:pt x="9" y="7"/>
                </a:cubicBezTo>
                <a:cubicBezTo>
                  <a:pt x="1" y="11"/>
                  <a:pt x="1" y="31"/>
                  <a:pt x="1" y="31"/>
                </a:cubicBezTo>
                <a:cubicBezTo>
                  <a:pt x="2" y="60"/>
                  <a:pt x="0" y="90"/>
                  <a:pt x="5" y="119"/>
                </a:cubicBezTo>
                <a:cubicBezTo>
                  <a:pt x="7" y="128"/>
                  <a:pt x="21" y="143"/>
                  <a:pt x="21" y="143"/>
                </a:cubicBezTo>
                <a:cubicBezTo>
                  <a:pt x="28" y="172"/>
                  <a:pt x="45" y="164"/>
                  <a:pt x="77" y="167"/>
                </a:cubicBezTo>
                <a:cubicBezTo>
                  <a:pt x="82" y="182"/>
                  <a:pt x="84" y="196"/>
                  <a:pt x="89" y="211"/>
                </a:cubicBezTo>
                <a:cubicBezTo>
                  <a:pt x="117" y="210"/>
                  <a:pt x="145" y="212"/>
                  <a:pt x="173" y="207"/>
                </a:cubicBezTo>
                <a:cubicBezTo>
                  <a:pt x="194" y="203"/>
                  <a:pt x="138" y="145"/>
                  <a:pt x="193" y="127"/>
                </a:cubicBezTo>
                <a:cubicBezTo>
                  <a:pt x="203" y="98"/>
                  <a:pt x="208" y="86"/>
                  <a:pt x="193" y="43"/>
                </a:cubicBezTo>
                <a:cubicBezTo>
                  <a:pt x="189" y="31"/>
                  <a:pt x="169" y="35"/>
                  <a:pt x="157" y="31"/>
                </a:cubicBezTo>
                <a:cubicBezTo>
                  <a:pt x="124" y="20"/>
                  <a:pt x="91" y="10"/>
                  <a:pt x="57" y="3"/>
                </a:cubicBezTo>
                <a:close/>
              </a:path>
            </a:pathLst>
          </a:custGeom>
          <a:solidFill>
            <a:srgbClr val="3333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720880" y="5721480"/>
            <a:ext cx="3311640" cy="82188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imes New Roman"/>
              </a:rPr>
              <a:t>A10 – Máquinas afectadas: 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Problema: fuga de taladrina en el tanq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Análisis causa raíz: al arrancar entra aire al depósito. Esto genera una turbulencia que provoca que la taladrina salga por las trampillas superiores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Acción correctiva: sistema de desahogo en la parte superio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Recomendación: construir deflector para llevar la turbulencia a otra parte del tanq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1" idx="0"/>
            <a:endCxn id="346" idx="2"/>
          </p:cNvCxnSpPr>
          <p:nvPr/>
        </p:nvCxnSpPr>
        <p:spPr>
          <a:xfrm flipH="1" flipV="1" rot="5400000">
            <a:off x="3344040" y="2966400"/>
            <a:ext cx="297000" cy="724320"/>
          </a:xfrm>
          <a:prstGeom prst="bentConnector3">
            <a:avLst>
              <a:gd name="adj1" fmla="val 50485"/>
            </a:avLst>
          </a:prstGeom>
          <a:ln w="25560">
            <a:solidFill>
              <a:srgbClr val="808080"/>
            </a:solidFill>
            <a:miter/>
          </a:ln>
        </p:spPr>
      </p:cxnSp>
      <p:cxnSp>
        <p:nvCxnSpPr>
          <p:cNvPr id="347" name=""/>
          <p:cNvCxnSpPr>
            <a:stCxn id="348" idx="2"/>
            <a:endCxn id="339" idx="0"/>
          </p:cNvCxnSpPr>
          <p:nvPr/>
        </p:nvCxnSpPr>
        <p:spPr>
          <a:xfrm rot="5400000">
            <a:off x="6906600" y="915840"/>
            <a:ext cx="410760" cy="635040"/>
          </a:xfrm>
          <a:prstGeom prst="bentConnector3">
            <a:avLst>
              <a:gd name="adj1" fmla="val 48245"/>
            </a:avLst>
          </a:prstGeom>
          <a:ln w="25560">
            <a:solidFill>
              <a:srgbClr val="808080"/>
            </a:solidFill>
            <a:miter/>
          </a:ln>
        </p:spPr>
      </p:cxnSp>
      <p:cxnSp>
        <p:nvCxnSpPr>
          <p:cNvPr id="349" name=""/>
          <p:cNvCxnSpPr>
            <a:stCxn id="344" idx="0"/>
            <a:endCxn id="343" idx="0"/>
          </p:cNvCxnSpPr>
          <p:nvPr/>
        </p:nvCxnSpPr>
        <p:spPr>
          <a:xfrm flipH="1" flipV="1" rot="5400000">
            <a:off x="4315320" y="5660280"/>
            <a:ext cx="122760" cy="720"/>
          </a:xfrm>
          <a:prstGeom prst="bentConnector3">
            <a:avLst>
              <a:gd name="adj1" fmla="val 50000"/>
            </a:avLst>
          </a:prstGeom>
          <a:ln w="25560">
            <a:solidFill>
              <a:srgbClr val="808080"/>
            </a:solidFill>
            <a:miter/>
          </a:ln>
        </p:spPr>
      </p:cxnSp>
      <p:sp>
        <p:nvSpPr>
          <p:cNvPr id="350" name=""/>
          <p:cNvSpPr/>
          <p:nvPr/>
        </p:nvSpPr>
        <p:spPr>
          <a:xfrm>
            <a:off x="6176880" y="5715000"/>
            <a:ext cx="3097440" cy="82188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imes New Roman"/>
              </a:rPr>
              <a:t>B9 – Máquinas afectadas: automoc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Problema: derrames de taladrina en el transportado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Análisis causa raíz: transporte de piezas impregnadas de taladrin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Acción correctiva: bandejas alrededo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Recomendación: unir las bandejas entre ellas y diseñar sistema de unión entre las bandejas y las puert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00160" y="5516640"/>
            <a:ext cx="2016000" cy="91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" spc="-1" strike="noStrike">
                <a:solidFill>
                  <a:srgbClr val="000000"/>
                </a:solidFill>
                <a:latin typeface="Times New Roman"/>
              </a:rPr>
              <a:t>Tipo 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Times New Roman"/>
              </a:rPr>
              <a:t>Derrames de taladrina o aceite de lubricación que puedan provocar accidentes o generar vahos nocivos. Generalmente solucionar un problema de este tipo tendrá un coste elevado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" spc="-1" strike="noStrike">
                <a:solidFill>
                  <a:srgbClr val="000000"/>
                </a:solidFill>
                <a:latin typeface="Times New Roman"/>
              </a:rPr>
              <a:t>Tipo B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Times New Roman"/>
              </a:rPr>
              <a:t>Manchas y salpicaduras que resulten molestas sin llegar a generar un riesgo de accidente o intoxicación. Su corrección no será excesivamente cara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305400" y="46080"/>
            <a:ext cx="2248200" cy="98172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imes New Roman"/>
              </a:rPr>
              <a:t>A13 – Máquinas: 1 – Estaciones: 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Problema: fuga de taladrina bajo la bancad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Análisis causa raíz: falta estanqueidad en unión zona de carga con estación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Acción correctiva: barreras de material absorbente y limpieza frecuen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Recomendación:  construir cerramientos en la estación de descarg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622600" y="2278080"/>
            <a:ext cx="2463840" cy="90180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imes New Roman"/>
              </a:rPr>
              <a:t>A12 – Máquinas: 1 – Estaciones: carg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Problema: fuga de taladrina bajo la bancad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Análisis causa raíz: falta estanqueidad en unión zona de carga con estación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Acción correctiva: barreras de material absorbente y limpieza frecuen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Recomendación:  Construir cerramientos en estación de carg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353960" y="6537240"/>
            <a:ext cx="7054920" cy="2768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Francisco Burgada Vilaplana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Página 1 de 1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Fecha emisión: 13/02/200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W:\PUBLICO\FBurgada\puntos negros paco\layout lineas\blo-2008-1.ppt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Fecha revisión: 13/03/200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rot="16200000">
            <a:off x="55440" y="4220640"/>
            <a:ext cx="1800360" cy="358920"/>
          </a:xfrm>
          <a:custGeom>
            <a:avLst/>
            <a:gdLst/>
            <a:ahLst/>
            <a:rect l="l" t="t" r="r" b="b"/>
            <a:pathLst>
              <a:path w="211" h="258">
                <a:moveTo>
                  <a:pt x="118" y="0"/>
                </a:moveTo>
                <a:cubicBezTo>
                  <a:pt x="102" y="2"/>
                  <a:pt x="84" y="0"/>
                  <a:pt x="70" y="8"/>
                </a:cubicBezTo>
                <a:cubicBezTo>
                  <a:pt x="59" y="15"/>
                  <a:pt x="54" y="44"/>
                  <a:pt x="54" y="44"/>
                </a:cubicBezTo>
                <a:cubicBezTo>
                  <a:pt x="53" y="63"/>
                  <a:pt x="60" y="84"/>
                  <a:pt x="50" y="100"/>
                </a:cubicBezTo>
                <a:cubicBezTo>
                  <a:pt x="44" y="109"/>
                  <a:pt x="20" y="93"/>
                  <a:pt x="18" y="104"/>
                </a:cubicBezTo>
                <a:cubicBezTo>
                  <a:pt x="9" y="146"/>
                  <a:pt x="0" y="195"/>
                  <a:pt x="22" y="232"/>
                </a:cubicBezTo>
                <a:cubicBezTo>
                  <a:pt x="35" y="254"/>
                  <a:pt x="73" y="235"/>
                  <a:pt x="98" y="236"/>
                </a:cubicBezTo>
                <a:cubicBezTo>
                  <a:pt x="113" y="258"/>
                  <a:pt x="122" y="252"/>
                  <a:pt x="150" y="248"/>
                </a:cubicBezTo>
                <a:cubicBezTo>
                  <a:pt x="160" y="245"/>
                  <a:pt x="180" y="251"/>
                  <a:pt x="182" y="240"/>
                </a:cubicBezTo>
                <a:cubicBezTo>
                  <a:pt x="211" y="82"/>
                  <a:pt x="153" y="145"/>
                  <a:pt x="198" y="100"/>
                </a:cubicBezTo>
                <a:cubicBezTo>
                  <a:pt x="195" y="69"/>
                  <a:pt x="201" y="44"/>
                  <a:pt x="166" y="32"/>
                </a:cubicBezTo>
                <a:cubicBezTo>
                  <a:pt x="147" y="26"/>
                  <a:pt x="135" y="20"/>
                  <a:pt x="118" y="12"/>
                </a:cubicBezTo>
                <a:cubicBezTo>
                  <a:pt x="114" y="10"/>
                  <a:pt x="106" y="12"/>
                  <a:pt x="106" y="8"/>
                </a:cubicBezTo>
                <a:cubicBezTo>
                  <a:pt x="106" y="3"/>
                  <a:pt x="114" y="3"/>
                  <a:pt x="118" y="0"/>
                </a:cubicBezTo>
                <a:close/>
              </a:path>
            </a:pathLst>
          </a:custGeom>
          <a:solidFill>
            <a:srgbClr val="3333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326280" y="1389240"/>
            <a:ext cx="214200" cy="463320"/>
          </a:xfrm>
          <a:custGeom>
            <a:avLst/>
            <a:gdLst/>
            <a:ahLst/>
            <a:rect l="l" t="t" r="r" b="b"/>
            <a:pathLst>
              <a:path w="135" h="292">
                <a:moveTo>
                  <a:pt x="7" y="109"/>
                </a:moveTo>
                <a:cubicBezTo>
                  <a:pt x="0" y="87"/>
                  <a:pt x="5" y="85"/>
                  <a:pt x="27" y="81"/>
                </a:cubicBezTo>
                <a:cubicBezTo>
                  <a:pt x="28" y="57"/>
                  <a:pt x="20" y="30"/>
                  <a:pt x="31" y="9"/>
                </a:cubicBezTo>
                <a:cubicBezTo>
                  <a:pt x="35" y="0"/>
                  <a:pt x="47" y="20"/>
                  <a:pt x="55" y="25"/>
                </a:cubicBezTo>
                <a:cubicBezTo>
                  <a:pt x="65" y="32"/>
                  <a:pt x="79" y="28"/>
                  <a:pt x="91" y="29"/>
                </a:cubicBezTo>
                <a:cubicBezTo>
                  <a:pt x="101" y="44"/>
                  <a:pt x="97" y="55"/>
                  <a:pt x="115" y="61"/>
                </a:cubicBezTo>
                <a:cubicBezTo>
                  <a:pt x="116" y="93"/>
                  <a:pt x="116" y="125"/>
                  <a:pt x="119" y="157"/>
                </a:cubicBezTo>
                <a:cubicBezTo>
                  <a:pt x="121" y="171"/>
                  <a:pt x="135" y="197"/>
                  <a:pt x="135" y="197"/>
                </a:cubicBezTo>
                <a:cubicBezTo>
                  <a:pt x="132" y="224"/>
                  <a:pt x="131" y="257"/>
                  <a:pt x="107" y="273"/>
                </a:cubicBezTo>
                <a:cubicBezTo>
                  <a:pt x="94" y="292"/>
                  <a:pt x="84" y="284"/>
                  <a:pt x="67" y="273"/>
                </a:cubicBezTo>
                <a:cubicBezTo>
                  <a:pt x="53" y="253"/>
                  <a:pt x="58" y="233"/>
                  <a:pt x="71" y="213"/>
                </a:cubicBezTo>
                <a:cubicBezTo>
                  <a:pt x="76" y="145"/>
                  <a:pt x="82" y="109"/>
                  <a:pt x="7" y="109"/>
                </a:cubicBezTo>
                <a:close/>
              </a:path>
            </a:pathLst>
          </a:custGeom>
          <a:solidFill>
            <a:srgbClr val="3333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467480" y="5251320"/>
            <a:ext cx="341280" cy="324000"/>
          </a:xfrm>
          <a:custGeom>
            <a:avLst/>
            <a:gdLst/>
            <a:ahLst/>
            <a:rect l="l" t="t" r="r" b="b"/>
            <a:pathLst>
              <a:path w="215" h="204">
                <a:moveTo>
                  <a:pt x="172" y="12"/>
                </a:moveTo>
                <a:cubicBezTo>
                  <a:pt x="136" y="0"/>
                  <a:pt x="97" y="15"/>
                  <a:pt x="60" y="20"/>
                </a:cubicBezTo>
                <a:cubicBezTo>
                  <a:pt x="32" y="29"/>
                  <a:pt x="39" y="20"/>
                  <a:pt x="32" y="40"/>
                </a:cubicBezTo>
                <a:cubicBezTo>
                  <a:pt x="26" y="123"/>
                  <a:pt x="0" y="174"/>
                  <a:pt x="92" y="184"/>
                </a:cubicBezTo>
                <a:cubicBezTo>
                  <a:pt x="105" y="193"/>
                  <a:pt x="119" y="195"/>
                  <a:pt x="132" y="204"/>
                </a:cubicBezTo>
                <a:cubicBezTo>
                  <a:pt x="153" y="199"/>
                  <a:pt x="175" y="202"/>
                  <a:pt x="196" y="196"/>
                </a:cubicBezTo>
                <a:cubicBezTo>
                  <a:pt x="205" y="193"/>
                  <a:pt x="203" y="179"/>
                  <a:pt x="208" y="172"/>
                </a:cubicBezTo>
                <a:cubicBezTo>
                  <a:pt x="203" y="116"/>
                  <a:pt x="215" y="55"/>
                  <a:pt x="172" y="12"/>
                </a:cubicBezTo>
                <a:close/>
              </a:path>
            </a:pathLst>
          </a:custGeom>
          <a:solidFill>
            <a:srgbClr val="3333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6" name=""/>
          <p:cNvCxnSpPr>
            <a:stCxn id="355" idx="0"/>
            <a:endCxn id="350" idx="0"/>
          </p:cNvCxnSpPr>
          <p:nvPr/>
        </p:nvCxnSpPr>
        <p:spPr>
          <a:xfrm flipH="1" flipV="1" rot="10800000">
            <a:off x="7518240" y="5314680"/>
            <a:ext cx="207720" cy="400680"/>
          </a:xfrm>
          <a:prstGeom prst="bentConnector4">
            <a:avLst>
              <a:gd name="adj1" fmla="val -756250"/>
              <a:gd name="adj2" fmla="val -69604"/>
            </a:avLst>
          </a:prstGeom>
          <a:ln w="25560">
            <a:solidFill>
              <a:srgbClr val="808080"/>
            </a:solidFill>
            <a:miter/>
          </a:ln>
        </p:spPr>
      </p:cxnSp>
      <p:sp>
        <p:nvSpPr>
          <p:cNvPr id="357" name=""/>
          <p:cNvSpPr/>
          <p:nvPr/>
        </p:nvSpPr>
        <p:spPr>
          <a:xfrm>
            <a:off x="5164200" y="2205000"/>
            <a:ext cx="2103480" cy="90180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imes New Roman"/>
              </a:rPr>
              <a:t>A28 – Máquinas: 1 – Estaciones: carga y descarg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Problema: fuga de taladrina bajo la bancad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Análisis causa raíz: vahos y salpicaduras del canal veloz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Acción correctiva: barreras de material absorbente y limpieza frecuen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Recomendación: Cuñas de estanqueida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329600" y="2205000"/>
            <a:ext cx="2016000" cy="98172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imes New Roman"/>
              </a:rPr>
              <a:t>A27 – Máquinas: 1 – Estaciones: carg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Problema: fuga de taladrina bajo la bancad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Análisis causa raíz: falta estanqueidad en unión zona de carga con estación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Acción correctiva: barreras de material absorbente y limpieza frecuen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Recomendación:  construir cerramientos en la estación de descarg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9" name=""/>
          <p:cNvCxnSpPr>
            <a:stCxn id="354" idx="0"/>
            <a:endCxn id="357" idx="0"/>
          </p:cNvCxnSpPr>
          <p:nvPr/>
        </p:nvCxnSpPr>
        <p:spPr>
          <a:xfrm rot="5400000">
            <a:off x="6164640" y="1873800"/>
            <a:ext cx="382680" cy="280800"/>
          </a:xfrm>
          <a:prstGeom prst="bentConnector3">
            <a:avLst>
              <a:gd name="adj1" fmla="val 52354"/>
            </a:avLst>
          </a:prstGeom>
          <a:ln w="25560">
            <a:solidFill>
              <a:srgbClr val="808080"/>
            </a:solidFill>
            <a:miter/>
          </a:ln>
        </p:spPr>
      </p:cxnSp>
      <p:cxnSp>
        <p:nvCxnSpPr>
          <p:cNvPr id="360" name=""/>
          <p:cNvCxnSpPr>
            <a:stCxn id="361" idx="0"/>
            <a:endCxn id="358" idx="0"/>
          </p:cNvCxnSpPr>
          <p:nvPr/>
        </p:nvCxnSpPr>
        <p:spPr>
          <a:xfrm flipH="1" rot="16200000">
            <a:off x="8006760" y="1873800"/>
            <a:ext cx="439920" cy="222840"/>
          </a:xfrm>
          <a:prstGeom prst="bentConnector3">
            <a:avLst>
              <a:gd name="adj1" fmla="val 52825"/>
            </a:avLst>
          </a:prstGeom>
          <a:ln w="25560">
            <a:solidFill>
              <a:srgbClr val="808080"/>
            </a:solidFill>
            <a:miter/>
          </a:ln>
        </p:spPr>
      </p:cxnSp>
      <p:sp>
        <p:nvSpPr>
          <p:cNvPr id="361" name=""/>
          <p:cNvSpPr/>
          <p:nvPr/>
        </p:nvSpPr>
        <p:spPr>
          <a:xfrm>
            <a:off x="8074080" y="1506600"/>
            <a:ext cx="355680" cy="284040"/>
          </a:xfrm>
          <a:custGeom>
            <a:avLst/>
            <a:gdLst/>
            <a:ahLst/>
            <a:rect l="l" t="t" r="r" b="b"/>
            <a:pathLst>
              <a:path w="224" h="179">
                <a:moveTo>
                  <a:pt x="214" y="31"/>
                </a:moveTo>
                <a:cubicBezTo>
                  <a:pt x="173" y="17"/>
                  <a:pt x="169" y="11"/>
                  <a:pt x="118" y="7"/>
                </a:cubicBezTo>
                <a:cubicBezTo>
                  <a:pt x="98" y="0"/>
                  <a:pt x="104" y="1"/>
                  <a:pt x="74" y="7"/>
                </a:cubicBezTo>
                <a:cubicBezTo>
                  <a:pt x="66" y="9"/>
                  <a:pt x="50" y="15"/>
                  <a:pt x="50" y="15"/>
                </a:cubicBezTo>
                <a:cubicBezTo>
                  <a:pt x="26" y="51"/>
                  <a:pt x="62" y="79"/>
                  <a:pt x="14" y="95"/>
                </a:cubicBezTo>
                <a:cubicBezTo>
                  <a:pt x="2" y="113"/>
                  <a:pt x="0" y="141"/>
                  <a:pt x="14" y="159"/>
                </a:cubicBezTo>
                <a:cubicBezTo>
                  <a:pt x="17" y="162"/>
                  <a:pt x="22" y="163"/>
                  <a:pt x="26" y="163"/>
                </a:cubicBezTo>
                <a:cubicBezTo>
                  <a:pt x="66" y="165"/>
                  <a:pt x="106" y="166"/>
                  <a:pt x="146" y="167"/>
                </a:cubicBezTo>
                <a:cubicBezTo>
                  <a:pt x="154" y="170"/>
                  <a:pt x="162" y="172"/>
                  <a:pt x="170" y="175"/>
                </a:cubicBezTo>
                <a:cubicBezTo>
                  <a:pt x="174" y="176"/>
                  <a:pt x="182" y="179"/>
                  <a:pt x="182" y="179"/>
                </a:cubicBezTo>
                <a:cubicBezTo>
                  <a:pt x="224" y="172"/>
                  <a:pt x="206" y="161"/>
                  <a:pt x="214" y="115"/>
                </a:cubicBezTo>
                <a:cubicBezTo>
                  <a:pt x="215" y="107"/>
                  <a:pt x="222" y="91"/>
                  <a:pt x="222" y="91"/>
                </a:cubicBezTo>
                <a:cubicBezTo>
                  <a:pt x="217" y="44"/>
                  <a:pt x="221" y="64"/>
                  <a:pt x="214" y="31"/>
                </a:cubicBezTo>
                <a:close/>
              </a:path>
            </a:pathLst>
          </a:custGeom>
          <a:solidFill>
            <a:srgbClr val="3333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529240" y="1384200"/>
            <a:ext cx="860400" cy="282600"/>
          </a:xfrm>
          <a:custGeom>
            <a:avLst/>
            <a:gdLst/>
            <a:ahLst/>
            <a:rect l="l" t="t" r="r" b="b"/>
            <a:pathLst>
              <a:path w="596" h="178">
                <a:moveTo>
                  <a:pt x="47" y="168"/>
                </a:moveTo>
                <a:cubicBezTo>
                  <a:pt x="85" y="165"/>
                  <a:pt x="116" y="178"/>
                  <a:pt x="103" y="140"/>
                </a:cubicBezTo>
                <a:cubicBezTo>
                  <a:pt x="109" y="96"/>
                  <a:pt x="112" y="115"/>
                  <a:pt x="159" y="120"/>
                </a:cubicBezTo>
                <a:cubicBezTo>
                  <a:pt x="240" y="147"/>
                  <a:pt x="175" y="128"/>
                  <a:pt x="363" y="132"/>
                </a:cubicBezTo>
                <a:cubicBezTo>
                  <a:pt x="396" y="131"/>
                  <a:pt x="522" y="140"/>
                  <a:pt x="583" y="120"/>
                </a:cubicBezTo>
                <a:cubicBezTo>
                  <a:pt x="590" y="72"/>
                  <a:pt x="596" y="18"/>
                  <a:pt x="543" y="0"/>
                </a:cubicBezTo>
                <a:cubicBezTo>
                  <a:pt x="507" y="6"/>
                  <a:pt x="481" y="20"/>
                  <a:pt x="443" y="24"/>
                </a:cubicBezTo>
                <a:cubicBezTo>
                  <a:pt x="424" y="29"/>
                  <a:pt x="406" y="35"/>
                  <a:pt x="387" y="40"/>
                </a:cubicBezTo>
                <a:cubicBezTo>
                  <a:pt x="316" y="39"/>
                  <a:pt x="246" y="38"/>
                  <a:pt x="175" y="36"/>
                </a:cubicBezTo>
                <a:cubicBezTo>
                  <a:pt x="145" y="35"/>
                  <a:pt x="87" y="24"/>
                  <a:pt x="87" y="24"/>
                </a:cubicBezTo>
                <a:cubicBezTo>
                  <a:pt x="32" y="27"/>
                  <a:pt x="24" y="12"/>
                  <a:pt x="11" y="52"/>
                </a:cubicBezTo>
                <a:cubicBezTo>
                  <a:pt x="15" y="128"/>
                  <a:pt x="0" y="120"/>
                  <a:pt x="43" y="148"/>
                </a:cubicBezTo>
                <a:cubicBezTo>
                  <a:pt x="48" y="163"/>
                  <a:pt x="47" y="156"/>
                  <a:pt x="47" y="168"/>
                </a:cubicBezTo>
                <a:close/>
              </a:path>
            </a:pathLst>
          </a:custGeom>
          <a:solidFill>
            <a:srgbClr val="3333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1T09:39:35Z</dcterms:created>
  <dc:creator>jgasco</dc:creator>
  <dc:description/>
  <dc:language>en-US</dc:language>
  <cp:lastModifiedBy>fburgada</cp:lastModifiedBy>
  <dcterms:modified xsi:type="dcterms:W3CDTF">2008-06-27T07:18:07Z</dcterms:modified>
  <cp:revision>42</cp:revision>
  <dc:subject/>
  <dc:title>Presentación de PowerPoint</dc:title>
</cp:coreProperties>
</file>