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4C9-964C-4522-B2BF-9C73FACE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5B0-CBC5-465B-9EAA-8DCC3E2C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D4C-FB1C-4903-97A5-468CE602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58E-6373-4255-85BD-E9B10A64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605-27C2-4314-8015-4E74C4A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A98-20D9-442E-B340-A0FE9826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7BD-BC0C-4860-A8BD-DC2D519E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EF5-E6C9-4787-B0C9-5281A68F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667-DB01-4C81-B271-583819B0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FE8-8942-47D8-BE07-CF45C32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348-82B4-4497-BA87-E758020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F37-F533-4859-9FF8-B020971C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0D6A-8699-44DB-B3F4-FDAB0424D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43600" y="5962680"/>
            <a:ext cx="485640" cy="0"/>
          </a:xfrm>
          <a:prstGeom prst="line">
            <a:avLst/>
          </a:prstGeom>
          <a:ln w="248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 rot="16200000">
            <a:off x="5191920" y="5891760"/>
            <a:ext cx="9180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360600" y="5962680"/>
            <a:ext cx="7430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4803840" y="5850000"/>
            <a:ext cx="93600" cy="255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4247280" y="6039360"/>
            <a:ext cx="54000" cy="376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4506840" y="5965560"/>
            <a:ext cx="39960" cy="122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4211280" y="5716080"/>
            <a:ext cx="219240" cy="533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723560" y="6078960"/>
            <a:ext cx="107640" cy="1346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4602240" y="5916600"/>
            <a:ext cx="93600" cy="122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587480" y="6075360"/>
            <a:ext cx="1350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4976640" y="5943600"/>
            <a:ext cx="93600" cy="68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rot="16200000">
            <a:off x="3728520" y="5888880"/>
            <a:ext cx="92160" cy="1378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769080" y="1544760"/>
            <a:ext cx="2527200" cy="28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18288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8646840" y="17712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7808760" y="1525320"/>
            <a:ext cx="936720" cy="68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7627680" y="1793520"/>
            <a:ext cx="336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rot="16200000">
            <a:off x="7238160" y="1470600"/>
            <a:ext cx="9180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82760" y="17524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93920" y="1509840"/>
            <a:ext cx="1485720" cy="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rot="16200000">
            <a:off x="4871160" y="1450080"/>
            <a:ext cx="9216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25240" y="15908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766520" y="1523880"/>
            <a:ext cx="15858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814920" y="1514160"/>
            <a:ext cx="55440" cy="135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3209400" y="1514160"/>
            <a:ext cx="57240" cy="135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3603600" y="1514160"/>
            <a:ext cx="55440" cy="135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3401640" y="1514160"/>
            <a:ext cx="57240" cy="135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3411000" y="1335240"/>
            <a:ext cx="55800" cy="1346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3025440" y="1423800"/>
            <a:ext cx="609480" cy="98280"/>
          </a:xfrm>
          <a:custGeom>
            <a:avLst/>
            <a:gdLst/>
            <a:ahLst/>
            <a:rect l="l" t="t" r="r" b="b"/>
            <a:pathLst>
              <a:path w="4569" h="457">
                <a:moveTo>
                  <a:pt x="3955" y="273"/>
                </a:moveTo>
                <a:lnTo>
                  <a:pt x="3955" y="456"/>
                </a:lnTo>
                <a:lnTo>
                  <a:pt x="4426" y="456"/>
                </a:lnTo>
                <a:lnTo>
                  <a:pt x="4426" y="273"/>
                </a:lnTo>
                <a:lnTo>
                  <a:pt x="4568" y="273"/>
                </a:lnTo>
                <a:lnTo>
                  <a:pt x="4568" y="0"/>
                </a:lnTo>
                <a:lnTo>
                  <a:pt x="0" y="0"/>
                </a:lnTo>
                <a:lnTo>
                  <a:pt x="0" y="273"/>
                </a:lnTo>
                <a:lnTo>
                  <a:pt x="3955" y="273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3812760" y="1328400"/>
            <a:ext cx="57240" cy="135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3603600" y="1328400"/>
            <a:ext cx="55440" cy="135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3177720" y="1317600"/>
            <a:ext cx="112680" cy="93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3984480" y="1473120"/>
            <a:ext cx="74880" cy="38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2906640" y="1472760"/>
            <a:ext cx="76320" cy="41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3088800" y="1666440"/>
            <a:ext cx="57240" cy="119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3935160" y="1722240"/>
            <a:ext cx="120600" cy="37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3881160" y="16887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923920" y="1757160"/>
            <a:ext cx="336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2955600" y="1442880"/>
            <a:ext cx="57240" cy="208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3914640" y="14410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rot="16200000">
            <a:off x="2531520" y="1450080"/>
            <a:ext cx="92160" cy="1378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9560" y="2448000"/>
            <a:ext cx="149400" cy="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1017720" y="1555560"/>
            <a:ext cx="54000" cy="145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801360" y="12060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533240" y="1260360"/>
            <a:ext cx="336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78920" y="17524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4640" y="1557360"/>
            <a:ext cx="38160" cy="23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88840" y="1557360"/>
            <a:ext cx="36720" cy="23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019160" y="1341000"/>
            <a:ext cx="52560" cy="149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861840" y="1487520"/>
            <a:ext cx="858960" cy="712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1240920" y="1655280"/>
            <a:ext cx="150840" cy="81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742680" y="1330200"/>
            <a:ext cx="129960" cy="84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767960" y="1630440"/>
            <a:ext cx="55800" cy="117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810720" y="1676160"/>
            <a:ext cx="179640" cy="838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720800" y="1503000"/>
            <a:ext cx="108000" cy="4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693360" y="1496880"/>
            <a:ext cx="166680" cy="3240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1296"/>
                </a:moveTo>
                <a:lnTo>
                  <a:pt x="864" y="1296"/>
                </a:lnTo>
                <a:lnTo>
                  <a:pt x="864" y="0"/>
                </a:lnTo>
                <a:lnTo>
                  <a:pt x="672" y="0"/>
                </a:lnTo>
                <a:lnTo>
                  <a:pt x="672" y="1104"/>
                </a:lnTo>
                <a:lnTo>
                  <a:pt x="0" y="1104"/>
                </a:lnTo>
                <a:lnTo>
                  <a:pt x="0" y="129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0320" y="1461960"/>
            <a:ext cx="34920" cy="24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1147680" y="1339920"/>
            <a:ext cx="52560" cy="147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1277640" y="1339920"/>
            <a:ext cx="52200" cy="147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1528560" y="1339920"/>
            <a:ext cx="53640" cy="147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1406520" y="1339920"/>
            <a:ext cx="52560" cy="147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649160" y="1339920"/>
            <a:ext cx="52200" cy="147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5240" y="26370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rot="10800000">
            <a:off x="660240" y="2155680"/>
            <a:ext cx="92160" cy="1396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2443320"/>
            <a:ext cx="990720" cy="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421000"/>
            <a:ext cx="54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5400000">
            <a:off x="4615560" y="2370960"/>
            <a:ext cx="9216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14320" y="19890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15880" y="19890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316280" y="2443320"/>
            <a:ext cx="1089000" cy="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5400000">
            <a:off x="6300720" y="2374200"/>
            <a:ext cx="9036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567480" y="2238480"/>
            <a:ext cx="1179000" cy="664560"/>
            <a:chOff x="6567480" y="2238480"/>
            <a:chExt cx="1179000" cy="664560"/>
          </a:xfrm>
        </p:grpSpPr>
        <p:sp>
          <p:nvSpPr>
            <p:cNvPr id="113" name=""/>
            <p:cNvSpPr/>
            <p:nvPr/>
          </p:nvSpPr>
          <p:spPr>
            <a:xfrm>
              <a:off x="6728040" y="2250360"/>
              <a:ext cx="51840" cy="159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31200" y="2559600"/>
              <a:ext cx="44280" cy="12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6464520" y="2674080"/>
              <a:ext cx="365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eaVer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78200" y="2631240"/>
              <a:ext cx="280800" cy="75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12040" y="2608560"/>
              <a:ext cx="1947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69520" y="2238480"/>
              <a:ext cx="70920" cy="148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64560" y="2250360"/>
              <a:ext cx="108360" cy="95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90600" y="2360520"/>
              <a:ext cx="917640" cy="135000"/>
            </a:xfrm>
            <a:custGeom>
              <a:avLst/>
              <a:gdLst/>
              <a:ahLst/>
              <a:rect l="l" t="t" r="r" b="b"/>
              <a:pathLst>
                <a:path w="5424" h="528">
                  <a:moveTo>
                    <a:pt x="4752" y="480"/>
                  </a:moveTo>
                  <a:lnTo>
                    <a:pt x="4752" y="528"/>
                  </a:lnTo>
                  <a:lnTo>
                    <a:pt x="5232" y="528"/>
                  </a:lnTo>
                  <a:lnTo>
                    <a:pt x="5232" y="480"/>
                  </a:lnTo>
                  <a:lnTo>
                    <a:pt x="5424" y="480"/>
                  </a:lnTo>
                  <a:lnTo>
                    <a:pt x="5424" y="192"/>
                  </a:lnTo>
                  <a:lnTo>
                    <a:pt x="5232" y="192"/>
                  </a:lnTo>
                  <a:lnTo>
                    <a:pt x="5232" y="0"/>
                  </a:lnTo>
                  <a:lnTo>
                    <a:pt x="4752" y="0"/>
                  </a:lnTo>
                  <a:lnTo>
                    <a:pt x="4752" y="192"/>
                  </a:lnTo>
                  <a:lnTo>
                    <a:pt x="0" y="192"/>
                  </a:lnTo>
                  <a:lnTo>
                    <a:pt x="0" y="480"/>
                  </a:lnTo>
                  <a:lnTo>
                    <a:pt x="4752" y="48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28040" y="2483640"/>
              <a:ext cx="51840" cy="135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1520" y="2483640"/>
              <a:ext cx="50400" cy="135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73200" y="2483640"/>
              <a:ext cx="78840" cy="135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2680" y="2483640"/>
              <a:ext cx="51840" cy="135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3360" y="2483640"/>
              <a:ext cx="53280" cy="135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2560" y="2422800"/>
              <a:ext cx="68040" cy="48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8240" y="2425680"/>
              <a:ext cx="96480" cy="46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2560" y="2472120"/>
              <a:ext cx="3528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35240" y="2472120"/>
              <a:ext cx="3384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67480" y="2400480"/>
              <a:ext cx="1828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62160" y="2399040"/>
              <a:ext cx="18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rot="5400000">
            <a:off x="7993800" y="2370960"/>
            <a:ext cx="9216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00320" y="26906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532120" y="2443320"/>
            <a:ext cx="1090440" cy="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030640" y="2154240"/>
            <a:ext cx="998280" cy="596520"/>
            <a:chOff x="5030640" y="2154240"/>
            <a:chExt cx="998280" cy="596520"/>
          </a:xfrm>
        </p:grpSpPr>
        <p:sp>
          <p:nvSpPr>
            <p:cNvPr id="136" name=""/>
            <p:cNvSpPr/>
            <p:nvPr/>
          </p:nvSpPr>
          <p:spPr>
            <a:xfrm>
              <a:off x="5052240" y="2181600"/>
              <a:ext cx="154800" cy="78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30640" y="2159640"/>
              <a:ext cx="1846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15320" y="2383560"/>
              <a:ext cx="755280" cy="124200"/>
            </a:xfrm>
            <a:custGeom>
              <a:avLst/>
              <a:gdLst/>
              <a:ahLst/>
              <a:rect l="l" t="t" r="r" b="b"/>
              <a:pathLst>
                <a:path w="5280" h="768">
                  <a:moveTo>
                    <a:pt x="4704" y="528"/>
                  </a:moveTo>
                  <a:lnTo>
                    <a:pt x="4704" y="768"/>
                  </a:lnTo>
                  <a:lnTo>
                    <a:pt x="5040" y="768"/>
                  </a:lnTo>
                  <a:lnTo>
                    <a:pt x="5040" y="528"/>
                  </a:lnTo>
                  <a:lnTo>
                    <a:pt x="5280" y="528"/>
                  </a:lnTo>
                  <a:lnTo>
                    <a:pt x="5280" y="192"/>
                  </a:lnTo>
                  <a:lnTo>
                    <a:pt x="4992" y="192"/>
                  </a:lnTo>
                  <a:lnTo>
                    <a:pt x="4992" y="0"/>
                  </a:lnTo>
                  <a:lnTo>
                    <a:pt x="4512" y="0"/>
                  </a:lnTo>
                  <a:lnTo>
                    <a:pt x="4512" y="192"/>
                  </a:lnTo>
                  <a:lnTo>
                    <a:pt x="0" y="192"/>
                  </a:lnTo>
                  <a:lnTo>
                    <a:pt x="0" y="528"/>
                  </a:lnTo>
                  <a:lnTo>
                    <a:pt x="4704" y="528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60320" y="2280600"/>
              <a:ext cx="54000" cy="132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5880" y="2280600"/>
              <a:ext cx="66240" cy="132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96480" y="2280600"/>
              <a:ext cx="54000" cy="135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5200" y="2280600"/>
              <a:ext cx="55440" cy="132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90080" y="2467440"/>
              <a:ext cx="47520" cy="115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26160" y="2468520"/>
              <a:ext cx="40680" cy="113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27600" y="2280600"/>
              <a:ext cx="40320" cy="132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18840" y="2418480"/>
              <a:ext cx="97920" cy="42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71680" y="2418480"/>
              <a:ext cx="57240" cy="42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13720" y="2185560"/>
              <a:ext cx="48960" cy="10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5767920" y="2277000"/>
              <a:ext cx="3362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7760" y="2467440"/>
              <a:ext cx="32400" cy="20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97160" y="2520360"/>
              <a:ext cx="120600" cy="82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08960" y="2280600"/>
              <a:ext cx="40680" cy="135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52240" y="2467440"/>
              <a:ext cx="32400" cy="20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84880" y="2529720"/>
              <a:ext cx="89640" cy="62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7720" y="2506680"/>
              <a:ext cx="1846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2960" y="24638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909520" y="2440080"/>
            <a:ext cx="544680" cy="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97200" y="2573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02000" y="2208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2459160"/>
            <a:ext cx="31680" cy="219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05240" y="2421000"/>
            <a:ext cx="90360" cy="33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0920" y="2406600"/>
            <a:ext cx="857160" cy="525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8120" y="2373480"/>
            <a:ext cx="90360" cy="33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17840" y="2633760"/>
            <a:ext cx="123840" cy="74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0280" y="2308320"/>
            <a:ext cx="36720" cy="100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98920" y="2286000"/>
            <a:ext cx="36360" cy="122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94040" y="2286000"/>
            <a:ext cx="34920" cy="122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4120" y="2286000"/>
            <a:ext cx="34920" cy="122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2286000"/>
            <a:ext cx="33480" cy="122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99000" y="2286000"/>
            <a:ext cx="33120" cy="122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2360" y="2459160"/>
            <a:ext cx="33120" cy="77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30640" y="2459160"/>
            <a:ext cx="33480" cy="77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6640" y="2425680"/>
            <a:ext cx="49320" cy="31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02000" y="2233440"/>
            <a:ext cx="182520" cy="38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26040" y="2459160"/>
            <a:ext cx="33120" cy="77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92640" y="2459160"/>
            <a:ext cx="31680" cy="77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rot="5400000">
            <a:off x="3130560" y="2370240"/>
            <a:ext cx="92160" cy="1396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424160" y="2443320"/>
            <a:ext cx="544320" cy="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935000" y="2270160"/>
            <a:ext cx="993960" cy="1159920"/>
            <a:chOff x="1935000" y="2270160"/>
            <a:chExt cx="993960" cy="1159920"/>
          </a:xfrm>
        </p:grpSpPr>
        <p:sp>
          <p:nvSpPr>
            <p:cNvPr id="180" name=""/>
            <p:cNvSpPr/>
            <p:nvPr/>
          </p:nvSpPr>
          <p:spPr>
            <a:xfrm>
              <a:off x="2813400" y="2455200"/>
              <a:ext cx="30600" cy="135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35000" y="2424240"/>
              <a:ext cx="91440" cy="33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80360" y="2427480"/>
              <a:ext cx="48600" cy="3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66440" y="2450160"/>
              <a:ext cx="33840" cy="78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3640" y="2449080"/>
              <a:ext cx="33840" cy="79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1560" y="2451960"/>
              <a:ext cx="33840" cy="104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30760" y="2335680"/>
              <a:ext cx="34920" cy="10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9040" y="2317320"/>
              <a:ext cx="33840" cy="127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24880" y="2317320"/>
              <a:ext cx="34920" cy="127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26040" y="2317320"/>
              <a:ext cx="33840" cy="127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27200" y="2317320"/>
              <a:ext cx="34920" cy="127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28040" y="2317320"/>
              <a:ext cx="34920" cy="127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15280" y="2404800"/>
              <a:ext cx="869760" cy="67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35000" y="2556000"/>
              <a:ext cx="113400" cy="78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90280" y="2296800"/>
              <a:ext cx="183600" cy="60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8640" y="2455200"/>
              <a:ext cx="3276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90280" y="2270160"/>
              <a:ext cx="18576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30160" y="2133720"/>
            <a:ext cx="740880" cy="712440"/>
            <a:chOff x="830160" y="2133720"/>
            <a:chExt cx="740880" cy="712440"/>
          </a:xfrm>
        </p:grpSpPr>
        <p:sp>
          <p:nvSpPr>
            <p:cNvPr id="198" name=""/>
            <p:cNvSpPr/>
            <p:nvPr/>
          </p:nvSpPr>
          <p:spPr>
            <a:xfrm rot="5400000">
              <a:off x="977040" y="2521440"/>
              <a:ext cx="96480" cy="261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1176840" y="2012400"/>
              <a:ext cx="65160" cy="361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1126800" y="2192760"/>
              <a:ext cx="177120" cy="425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1161000" y="2401560"/>
              <a:ext cx="78840" cy="297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1475280" y="2181960"/>
              <a:ext cx="78840" cy="112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890640" y="2360520"/>
              <a:ext cx="51840" cy="172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1462680" y="2391120"/>
              <a:ext cx="37800" cy="103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1101240" y="2270520"/>
              <a:ext cx="27000" cy="66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923400" y="2393280"/>
              <a:ext cx="20160" cy="43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1495800" y="2391480"/>
              <a:ext cx="18720" cy="42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1520" y="2133720"/>
              <a:ext cx="25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13120" y="2493360"/>
              <a:ext cx="1836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45720" y="2602440"/>
              <a:ext cx="19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0960" y="2399040"/>
              <a:ext cx="1836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1411560" y="2654640"/>
              <a:ext cx="48600" cy="30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9240840" y="3995640"/>
            <a:ext cx="198360" cy="18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9281880" y="4000320"/>
            <a:ext cx="19080" cy="316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8571600" y="3931200"/>
            <a:ext cx="19080" cy="554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069480" y="3984120"/>
            <a:ext cx="255600" cy="274680"/>
            <a:chOff x="9069480" y="3984120"/>
            <a:chExt cx="255600" cy="274680"/>
          </a:xfrm>
        </p:grpSpPr>
        <p:sp>
          <p:nvSpPr>
            <p:cNvPr id="217" name=""/>
            <p:cNvSpPr/>
            <p:nvPr/>
          </p:nvSpPr>
          <p:spPr>
            <a:xfrm rot="10800000">
              <a:off x="9069480" y="4142160"/>
              <a:ext cx="25560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0800000">
              <a:off x="9107640" y="3984120"/>
              <a:ext cx="18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rot="10800000">
            <a:off x="8488080" y="4113360"/>
            <a:ext cx="120600" cy="69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0800000">
            <a:off x="8507520" y="3967200"/>
            <a:ext cx="714240" cy="100080"/>
          </a:xfrm>
          <a:custGeom>
            <a:avLst/>
            <a:gdLst/>
            <a:ahLst/>
            <a:rect l="l" t="t" r="r" b="b"/>
            <a:pathLst>
              <a:path w="4560" h="576">
                <a:moveTo>
                  <a:pt x="4512" y="192"/>
                </a:moveTo>
                <a:lnTo>
                  <a:pt x="4416" y="192"/>
                </a:lnTo>
                <a:lnTo>
                  <a:pt x="4416" y="0"/>
                </a:lnTo>
                <a:lnTo>
                  <a:pt x="3840" y="0"/>
                </a:lnTo>
                <a:lnTo>
                  <a:pt x="3840" y="240"/>
                </a:lnTo>
                <a:lnTo>
                  <a:pt x="0" y="240"/>
                </a:lnTo>
                <a:lnTo>
                  <a:pt x="0" y="576"/>
                </a:lnTo>
                <a:lnTo>
                  <a:pt x="4560" y="576"/>
                </a:lnTo>
                <a:lnTo>
                  <a:pt x="4560" y="192"/>
                </a:lnTo>
                <a:lnTo>
                  <a:pt x="4464" y="192"/>
                </a:lnTo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9127800" y="3851280"/>
            <a:ext cx="52200" cy="115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8985240" y="3851280"/>
            <a:ext cx="52560" cy="115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8696160" y="4025520"/>
            <a:ext cx="60480" cy="158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8859600" y="4024080"/>
            <a:ext cx="6012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8650080" y="3868560"/>
            <a:ext cx="37800" cy="100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9221400" y="3981240"/>
            <a:ext cx="87480" cy="29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8410320" y="3976560"/>
            <a:ext cx="96840" cy="30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8764560" y="3784320"/>
            <a:ext cx="115920" cy="7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800000">
            <a:off x="8508960" y="3819600"/>
            <a:ext cx="52560" cy="92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8344440" y="3802680"/>
            <a:ext cx="3668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 rot="10800000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9381960" y="3367080"/>
            <a:ext cx="9216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985960" y="42210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164440" y="3987720"/>
            <a:ext cx="247680" cy="18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rot="10800000">
            <a:off x="6216480" y="4221000"/>
            <a:ext cx="9072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19000" y="41688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776640" y="3975120"/>
            <a:ext cx="544680" cy="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7277040" y="3728520"/>
            <a:ext cx="184320" cy="88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923600" y="3906000"/>
            <a:ext cx="36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 rot="10800000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586280" y="3871440"/>
            <a:ext cx="17640" cy="27000"/>
            <a:chOff x="7586280" y="3871440"/>
            <a:chExt cx="17640" cy="27000"/>
          </a:xfrm>
        </p:grpSpPr>
        <p:sp>
          <p:nvSpPr>
            <p:cNvPr id="240" name=""/>
            <p:cNvSpPr/>
            <p:nvPr/>
          </p:nvSpPr>
          <p:spPr>
            <a:xfrm flipV="1">
              <a:off x="7594920" y="3891240"/>
              <a:ext cx="0" cy="6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594920" y="3884760"/>
              <a:ext cx="0" cy="61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89880" y="3878280"/>
              <a:ext cx="9000" cy="1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" y="8996"/>
                  </a:moveTo>
                  <a:arcTo wR="10800" hR="10800" stAng="-10222984" swAng="100979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" y="8996"/>
                  </a:moveTo>
                  <a:arcTo wR="10800" hR="10800" stAng="-10222984" swAng="10097910"/>
                </a:path>
              </a:pathLst>
            </a:custGeom>
            <a:noFill/>
            <a:ln cap="rnd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594920" y="3872880"/>
              <a:ext cx="0" cy="6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0800000">
              <a:off x="7586280" y="3871440"/>
              <a:ext cx="17640" cy="27000"/>
            </a:xfrm>
            <a:prstGeom prst="rect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273440" y="3674880"/>
            <a:ext cx="904680" cy="461880"/>
            <a:chOff x="7273440" y="3674880"/>
            <a:chExt cx="904680" cy="461880"/>
          </a:xfrm>
        </p:grpSpPr>
        <p:sp>
          <p:nvSpPr>
            <p:cNvPr id="246" name=""/>
            <p:cNvSpPr/>
            <p:nvPr/>
          </p:nvSpPr>
          <p:spPr>
            <a:xfrm rot="10800000">
              <a:off x="7273440" y="3744000"/>
              <a:ext cx="18468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8054280" y="3674880"/>
              <a:ext cx="51120" cy="9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8147160" y="3996720"/>
              <a:ext cx="20520" cy="29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 rot="10800000">
              <a:off x="7974360" y="3825360"/>
              <a:ext cx="130680" cy="96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 rot="10800000">
              <a:off x="7619760" y="4047480"/>
              <a:ext cx="156600" cy="88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 rot="10800000">
              <a:off x="7401240" y="3913560"/>
              <a:ext cx="691560" cy="102600"/>
            </a:xfrm>
            <a:custGeom>
              <a:avLst/>
              <a:gdLst/>
              <a:ahLst/>
              <a:rect l="l" t="t" r="r" b="b"/>
              <a:pathLst>
                <a:path w="4560" h="576">
                  <a:moveTo>
                    <a:pt x="4512" y="192"/>
                  </a:moveTo>
                  <a:lnTo>
                    <a:pt x="4416" y="192"/>
                  </a:lnTo>
                  <a:lnTo>
                    <a:pt x="4416" y="0"/>
                  </a:lnTo>
                  <a:lnTo>
                    <a:pt x="3840" y="0"/>
                  </a:lnTo>
                  <a:lnTo>
                    <a:pt x="3840" y="240"/>
                  </a:lnTo>
                  <a:lnTo>
                    <a:pt x="0" y="240"/>
                  </a:lnTo>
                  <a:lnTo>
                    <a:pt x="0" y="576"/>
                  </a:lnTo>
                  <a:lnTo>
                    <a:pt x="4560" y="576"/>
                  </a:lnTo>
                  <a:lnTo>
                    <a:pt x="4560" y="192"/>
                  </a:lnTo>
                  <a:lnTo>
                    <a:pt x="4464" y="192"/>
                  </a:ln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7750080" y="3790440"/>
              <a:ext cx="57600" cy="165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7336800" y="3992400"/>
              <a:ext cx="20520" cy="29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 rot="10800000">
              <a:off x="8004600" y="4016520"/>
              <a:ext cx="50400" cy="12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 rot="10800000">
              <a:off x="7865640" y="4016520"/>
              <a:ext cx="51120" cy="12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10800000">
              <a:off x="7584120" y="3790440"/>
              <a:ext cx="57600" cy="165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10800000">
              <a:off x="7540560" y="4015440"/>
              <a:ext cx="36000" cy="10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 rot="10800000">
              <a:off x="8094960" y="3969360"/>
              <a:ext cx="83160" cy="3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10800000">
              <a:off x="7308360" y="3965040"/>
              <a:ext cx="93960" cy="30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322320" y="42926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41960" y="4067280"/>
            <a:ext cx="1000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241960" y="3827520"/>
            <a:ext cx="1440" cy="2476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495680" y="3620880"/>
            <a:ext cx="777960" cy="282240"/>
            <a:chOff x="4495680" y="3620880"/>
            <a:chExt cx="777960" cy="282240"/>
          </a:xfrm>
        </p:grpSpPr>
        <p:sp>
          <p:nvSpPr>
            <p:cNvPr id="264" name=""/>
            <p:cNvSpPr/>
            <p:nvPr/>
          </p:nvSpPr>
          <p:spPr>
            <a:xfrm rot="10800000">
              <a:off x="4999680" y="3650400"/>
              <a:ext cx="225720" cy="9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4857480" y="3621240"/>
              <a:ext cx="34920" cy="74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0800000">
              <a:off x="4495680" y="3652200"/>
              <a:ext cx="498240" cy="209520"/>
            </a:xfrm>
            <a:custGeom>
              <a:avLst/>
              <a:gdLst/>
              <a:ahLst/>
              <a:rect l="l" t="t" r="r" b="b"/>
              <a:pathLst>
                <a:path w="3504" h="1344">
                  <a:moveTo>
                    <a:pt x="0" y="1344"/>
                  </a:moveTo>
                  <a:lnTo>
                    <a:pt x="672" y="1344"/>
                  </a:lnTo>
                  <a:lnTo>
                    <a:pt x="672" y="528"/>
                  </a:lnTo>
                  <a:lnTo>
                    <a:pt x="3504" y="528"/>
                  </a:lnTo>
                  <a:lnTo>
                    <a:pt x="3504" y="0"/>
                  </a:lnTo>
                  <a:lnTo>
                    <a:pt x="2928" y="0"/>
                  </a:lnTo>
                  <a:lnTo>
                    <a:pt x="2592" y="144"/>
                  </a:lnTo>
                  <a:lnTo>
                    <a:pt x="0" y="14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0800000">
              <a:off x="4523400" y="3673080"/>
              <a:ext cx="443520" cy="165240"/>
            </a:xfrm>
            <a:custGeom>
              <a:avLst/>
              <a:gdLst/>
              <a:ahLst/>
              <a:rect l="l" t="t" r="r" b="b"/>
              <a:pathLst>
                <a:path w="3120" h="1056">
                  <a:moveTo>
                    <a:pt x="3120" y="192"/>
                  </a:moveTo>
                  <a:lnTo>
                    <a:pt x="3120" y="0"/>
                  </a:lnTo>
                  <a:lnTo>
                    <a:pt x="2736" y="0"/>
                  </a:lnTo>
                  <a:lnTo>
                    <a:pt x="2400" y="144"/>
                  </a:lnTo>
                  <a:lnTo>
                    <a:pt x="0" y="144"/>
                  </a:lnTo>
                  <a:lnTo>
                    <a:pt x="0" y="1056"/>
                  </a:lnTo>
                  <a:lnTo>
                    <a:pt x="288" y="1056"/>
                  </a:lnTo>
                  <a:lnTo>
                    <a:pt x="288" y="240"/>
                  </a:lnTo>
                  <a:lnTo>
                    <a:pt x="3120" y="240"/>
                  </a:lnTo>
                  <a:lnTo>
                    <a:pt x="3120" y="144"/>
                  </a:lnTo>
                  <a:lnTo>
                    <a:pt x="3120" y="9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4762440" y="3839760"/>
              <a:ext cx="68040" cy="59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892400" y="3690000"/>
              <a:ext cx="183240" cy="36720"/>
              <a:chOff x="4892400" y="3690000"/>
              <a:chExt cx="183240" cy="36720"/>
            </a:xfrm>
          </p:grpSpPr>
          <p:sp>
            <p:nvSpPr>
              <p:cNvPr id="270" name=""/>
              <p:cNvSpPr/>
              <p:nvPr/>
            </p:nvSpPr>
            <p:spPr>
              <a:xfrm rot="10800000">
                <a:off x="4892400" y="3711960"/>
                <a:ext cx="183240" cy="147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0800000">
                <a:off x="5014800" y="3690000"/>
                <a:ext cx="20160" cy="219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0800000">
                <a:off x="5014800" y="3697200"/>
                <a:ext cx="13320" cy="1476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rot="10800000">
              <a:off x="5232960" y="3629520"/>
              <a:ext cx="14040" cy="262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0">
              <a:off x="5215320" y="3765960"/>
              <a:ext cx="2052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5215320" y="3769200"/>
              <a:ext cx="13320" cy="151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5243400" y="3769920"/>
              <a:ext cx="13320" cy="1404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5068800" y="3742920"/>
              <a:ext cx="48960" cy="68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0800000">
              <a:off x="5171400" y="3629520"/>
              <a:ext cx="102240" cy="13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0800000">
              <a:off x="4891320" y="3620880"/>
              <a:ext cx="122760" cy="225000"/>
            </a:xfrm>
            <a:custGeom>
              <a:avLst/>
              <a:gdLst/>
              <a:ahLst/>
              <a:rect l="l" t="t" r="r" b="b"/>
              <a:pathLst>
                <a:path w="864" h="1440">
                  <a:moveTo>
                    <a:pt x="0" y="0"/>
                  </a:moveTo>
                  <a:lnTo>
                    <a:pt x="0" y="1296"/>
                  </a:lnTo>
                  <a:lnTo>
                    <a:pt x="432" y="1296"/>
                  </a:lnTo>
                  <a:lnTo>
                    <a:pt x="432" y="1440"/>
                  </a:lnTo>
                  <a:lnTo>
                    <a:pt x="864" y="14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0800000">
              <a:off x="4885560" y="3697200"/>
              <a:ext cx="129600" cy="149760"/>
            </a:xfrm>
            <a:custGeom>
              <a:avLst/>
              <a:gdLst/>
              <a:ahLst/>
              <a:rect l="l" t="t" r="r" b="b"/>
              <a:pathLst>
                <a:path w="912" h="960">
                  <a:moveTo>
                    <a:pt x="912" y="960"/>
                  </a:moveTo>
                  <a:lnTo>
                    <a:pt x="91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0800000">
              <a:off x="4760640" y="3811320"/>
              <a:ext cx="7200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5015520" y="3658680"/>
              <a:ext cx="18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rot="10800000">
            <a:off x="5103720" y="37303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65800" y="4068720"/>
            <a:ext cx="0" cy="4399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19880" y="3724200"/>
            <a:ext cx="23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7600" y="3960720"/>
            <a:ext cx="44640" cy="231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10240" y="4159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6786360" y="3714840"/>
            <a:ext cx="60120" cy="120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6503040" y="3606120"/>
            <a:ext cx="34920" cy="312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501960" y="3757320"/>
            <a:ext cx="133200" cy="444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6563160" y="4061520"/>
            <a:ext cx="88920" cy="271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6833880" y="3924360"/>
            <a:ext cx="33480" cy="119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53080" y="4040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6375960" y="4024800"/>
            <a:ext cx="25560" cy="68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05560" y="39466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6195600" y="4017960"/>
            <a:ext cx="204840" cy="9972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144" y="0"/>
                </a:moveTo>
                <a:lnTo>
                  <a:pt x="0" y="0"/>
                </a:lnTo>
                <a:lnTo>
                  <a:pt x="0" y="432"/>
                </a:lnTo>
                <a:lnTo>
                  <a:pt x="1104" y="432"/>
                </a:lnTo>
                <a:lnTo>
                  <a:pt x="1104" y="288"/>
                </a:lnTo>
                <a:lnTo>
                  <a:pt x="144" y="288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62680" y="4003560"/>
            <a:ext cx="47880" cy="19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6213240" y="3978360"/>
            <a:ext cx="44280" cy="219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6472440" y="4042440"/>
            <a:ext cx="14400" cy="219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6837840" y="4096440"/>
            <a:ext cx="19080" cy="586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684320" y="4516560"/>
            <a:ext cx="1584360" cy="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92600" y="4067280"/>
            <a:ext cx="1800" cy="4442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449600" y="4070520"/>
            <a:ext cx="2476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15640" y="42991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311280" y="4067280"/>
            <a:ext cx="3459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4071960" y="4173480"/>
            <a:ext cx="163440" cy="46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08280" y="3798720"/>
            <a:ext cx="928800" cy="566640"/>
            <a:chOff x="3608280" y="3798720"/>
            <a:chExt cx="928800" cy="566640"/>
          </a:xfrm>
        </p:grpSpPr>
        <p:sp>
          <p:nvSpPr>
            <p:cNvPr id="308" name=""/>
            <p:cNvSpPr/>
            <p:nvPr/>
          </p:nvSpPr>
          <p:spPr>
            <a:xfrm rot="10800000">
              <a:off x="3769920" y="3987360"/>
              <a:ext cx="582120" cy="148320"/>
            </a:xfrm>
            <a:custGeom>
              <a:avLst/>
              <a:gdLst/>
              <a:ahLst/>
              <a:rect l="l" t="t" r="r" b="b"/>
              <a:pathLst>
                <a:path w="2972" h="647">
                  <a:moveTo>
                    <a:pt x="0" y="403"/>
                  </a:moveTo>
                  <a:lnTo>
                    <a:pt x="707" y="403"/>
                  </a:lnTo>
                  <a:lnTo>
                    <a:pt x="707" y="605"/>
                  </a:lnTo>
                  <a:lnTo>
                    <a:pt x="1178" y="605"/>
                  </a:lnTo>
                  <a:lnTo>
                    <a:pt x="1178" y="403"/>
                  </a:lnTo>
                  <a:lnTo>
                    <a:pt x="2405" y="403"/>
                  </a:lnTo>
                  <a:lnTo>
                    <a:pt x="2405" y="646"/>
                  </a:lnTo>
                  <a:lnTo>
                    <a:pt x="2971" y="646"/>
                  </a:lnTo>
                  <a:lnTo>
                    <a:pt x="2971" y="0"/>
                  </a:lnTo>
                  <a:lnTo>
                    <a:pt x="2593" y="0"/>
                  </a:lnTo>
                  <a:lnTo>
                    <a:pt x="2593" y="121"/>
                  </a:lnTo>
                  <a:lnTo>
                    <a:pt x="0" y="121"/>
                  </a:lnTo>
                  <a:lnTo>
                    <a:pt x="0" y="403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0000">
              <a:off x="4323240" y="4025160"/>
              <a:ext cx="2844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800000">
              <a:off x="4119840" y="3958560"/>
              <a:ext cx="13320" cy="33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946320" y="4007880"/>
              <a:ext cx="28440" cy="33840"/>
              <a:chOff x="3946320" y="4007880"/>
              <a:chExt cx="28440" cy="33840"/>
            </a:xfrm>
          </p:grpSpPr>
          <p:sp>
            <p:nvSpPr>
              <p:cNvPr id="312" name=""/>
              <p:cNvSpPr/>
              <p:nvPr/>
            </p:nvSpPr>
            <p:spPr>
              <a:xfrm rot="10800000">
                <a:off x="3961080" y="4007880"/>
                <a:ext cx="13680" cy="33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0800000">
                <a:off x="3946320" y="4007880"/>
                <a:ext cx="13680" cy="33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rot="10800000">
              <a:off x="3795840" y="3816720"/>
              <a:ext cx="181440" cy="56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044240" y="3837960"/>
              <a:ext cx="82440" cy="43200"/>
              <a:chOff x="4044240" y="3837960"/>
              <a:chExt cx="82440" cy="43200"/>
            </a:xfrm>
          </p:grpSpPr>
          <p:sp>
            <p:nvSpPr>
              <p:cNvPr id="316" name=""/>
              <p:cNvSpPr/>
              <p:nvPr/>
            </p:nvSpPr>
            <p:spPr>
              <a:xfrm rot="10800000">
                <a:off x="4044240" y="3837960"/>
                <a:ext cx="52200" cy="43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0800000">
                <a:off x="4097520" y="3837960"/>
                <a:ext cx="29160" cy="25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0800000">
                <a:off x="4109400" y="3866400"/>
                <a:ext cx="6120" cy="7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rot="10800000">
              <a:off x="4297680" y="4169880"/>
              <a:ext cx="102960" cy="51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0800000">
              <a:off x="3981240" y="4186080"/>
              <a:ext cx="28440" cy="33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0800000">
              <a:off x="3925800" y="4186080"/>
              <a:ext cx="29880" cy="33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0000">
              <a:off x="4352040" y="4050720"/>
              <a:ext cx="160920" cy="39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0800000">
              <a:off x="3608280" y="4052160"/>
              <a:ext cx="162000" cy="41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0800000">
              <a:off x="4376880" y="4034520"/>
              <a:ext cx="2844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0800000">
              <a:off x="3733560" y="4035240"/>
              <a:ext cx="28440" cy="15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800000">
              <a:off x="4144680" y="3798720"/>
              <a:ext cx="68760" cy="167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204080" y="3892320"/>
              <a:ext cx="33480" cy="33840"/>
              <a:chOff x="4204080" y="3892320"/>
              <a:chExt cx="33480" cy="33840"/>
            </a:xfrm>
          </p:grpSpPr>
          <p:sp>
            <p:nvSpPr>
              <p:cNvPr id="328" name=""/>
              <p:cNvSpPr/>
              <p:nvPr/>
            </p:nvSpPr>
            <p:spPr>
              <a:xfrm rot="10800000">
                <a:off x="4204080" y="3892320"/>
                <a:ext cx="24120" cy="33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0800000">
                <a:off x="4230360" y="3907080"/>
                <a:ext cx="7200" cy="6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rot="10800000">
              <a:off x="4428360" y="3926880"/>
              <a:ext cx="29880" cy="15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0800000">
              <a:off x="4383000" y="3933720"/>
              <a:ext cx="44280" cy="53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453560" y="3807720"/>
              <a:ext cx="83520" cy="51120"/>
              <a:chOff x="4453560" y="3807720"/>
              <a:chExt cx="83520" cy="51120"/>
            </a:xfrm>
          </p:grpSpPr>
          <p:sp>
            <p:nvSpPr>
              <p:cNvPr id="333" name=""/>
              <p:cNvSpPr/>
              <p:nvPr/>
            </p:nvSpPr>
            <p:spPr>
              <a:xfrm rot="10800000">
                <a:off x="4453560" y="3807720"/>
                <a:ext cx="52560" cy="511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0800000">
                <a:off x="4507560" y="3807720"/>
                <a:ext cx="29520" cy="298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0800000">
                <a:off x="4520520" y="3839760"/>
                <a:ext cx="6120" cy="86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4314240" y="3807720"/>
              <a:ext cx="84240" cy="51120"/>
              <a:chOff x="4314240" y="3807720"/>
              <a:chExt cx="84240" cy="51120"/>
            </a:xfrm>
          </p:grpSpPr>
          <p:sp>
            <p:nvSpPr>
              <p:cNvPr id="337" name=""/>
              <p:cNvSpPr/>
              <p:nvPr/>
            </p:nvSpPr>
            <p:spPr>
              <a:xfrm rot="10800000">
                <a:off x="4314240" y="3807720"/>
                <a:ext cx="53280" cy="511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4368600" y="3807720"/>
                <a:ext cx="29880" cy="40680"/>
                <a:chOff x="4368600" y="3807720"/>
                <a:chExt cx="29880" cy="40680"/>
              </a:xfrm>
            </p:grpSpPr>
            <p:sp>
              <p:nvSpPr>
                <p:cNvPr id="339" name=""/>
                <p:cNvSpPr/>
                <p:nvPr/>
              </p:nvSpPr>
              <p:spPr>
                <a:xfrm rot="10800000">
                  <a:off x="4368600" y="3807720"/>
                  <a:ext cx="29880" cy="3024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0800000">
                  <a:off x="4381200" y="3839760"/>
                  <a:ext cx="6480" cy="864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 rot="10800000">
              <a:off x="4064040" y="4120920"/>
              <a:ext cx="184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 rot="10800000">
            <a:off x="3779640" y="3819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12160" y="43149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122200" y="4067280"/>
            <a:ext cx="3459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2417400" y="3836880"/>
            <a:ext cx="189000" cy="525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3097080" y="3827160"/>
            <a:ext cx="336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 rot="10800000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0800000">
            <a:off x="1425240" y="42271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2037960" y="3831840"/>
            <a:ext cx="42840" cy="87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0800000">
            <a:off x="1317240" y="3987720"/>
            <a:ext cx="749160" cy="171360"/>
          </a:xfrm>
          <a:custGeom>
            <a:avLst/>
            <a:gdLst/>
            <a:ahLst/>
            <a:rect l="l" t="t" r="r" b="b"/>
            <a:pathLst>
              <a:path w="5041" h="638">
                <a:moveTo>
                  <a:pt x="0" y="467"/>
                </a:moveTo>
                <a:lnTo>
                  <a:pt x="2826" y="467"/>
                </a:lnTo>
                <a:lnTo>
                  <a:pt x="2826" y="552"/>
                </a:lnTo>
                <a:lnTo>
                  <a:pt x="3202" y="552"/>
                </a:lnTo>
                <a:lnTo>
                  <a:pt x="3202" y="467"/>
                </a:lnTo>
                <a:lnTo>
                  <a:pt x="4710" y="467"/>
                </a:lnTo>
                <a:lnTo>
                  <a:pt x="4710" y="637"/>
                </a:lnTo>
                <a:lnTo>
                  <a:pt x="5040" y="637"/>
                </a:lnTo>
                <a:lnTo>
                  <a:pt x="5040" y="621"/>
                </a:lnTo>
                <a:lnTo>
                  <a:pt x="5040" y="0"/>
                </a:lnTo>
                <a:lnTo>
                  <a:pt x="4568" y="0"/>
                </a:lnTo>
                <a:lnTo>
                  <a:pt x="4568" y="212"/>
                </a:lnTo>
                <a:lnTo>
                  <a:pt x="3202" y="212"/>
                </a:lnTo>
                <a:lnTo>
                  <a:pt x="3202" y="84"/>
                </a:lnTo>
                <a:lnTo>
                  <a:pt x="2826" y="84"/>
                </a:lnTo>
                <a:lnTo>
                  <a:pt x="2826" y="169"/>
                </a:lnTo>
                <a:lnTo>
                  <a:pt x="2826" y="212"/>
                </a:lnTo>
                <a:lnTo>
                  <a:pt x="0" y="212"/>
                </a:lnTo>
                <a:lnTo>
                  <a:pt x="0" y="467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0800000">
            <a:off x="1891800" y="4103280"/>
            <a:ext cx="96840" cy="111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0800000">
            <a:off x="1890360" y="3924000"/>
            <a:ext cx="96840" cy="111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1703160" y="3924000"/>
            <a:ext cx="96840" cy="111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0800000">
            <a:off x="1701360" y="4103280"/>
            <a:ext cx="96840" cy="111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1422360" y="4103280"/>
            <a:ext cx="98640" cy="111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2066760" y="4048200"/>
            <a:ext cx="82800" cy="38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0800000">
            <a:off x="1337760" y="4268520"/>
            <a:ext cx="181080" cy="60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0800000">
            <a:off x="1393560" y="3832200"/>
            <a:ext cx="112680" cy="100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0800000">
            <a:off x="2081160" y="4089240"/>
            <a:ext cx="36720" cy="2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0800000">
            <a:off x="1226880" y="4089240"/>
            <a:ext cx="36360" cy="2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1881360" y="3929040"/>
            <a:ext cx="3362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0800000">
            <a:off x="1633320" y="3947760"/>
            <a:ext cx="14040" cy="49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1360" y="1790640"/>
            <a:ext cx="0" cy="7016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434520" y="2421000"/>
            <a:ext cx="1440" cy="158436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8397720" y="2179800"/>
            <a:ext cx="1049400" cy="458280"/>
            <a:chOff x="8397720" y="2179800"/>
            <a:chExt cx="1049400" cy="458280"/>
          </a:xfrm>
        </p:grpSpPr>
        <p:sp>
          <p:nvSpPr>
            <p:cNvPr id="365" name=""/>
            <p:cNvSpPr/>
            <p:nvPr/>
          </p:nvSpPr>
          <p:spPr>
            <a:xfrm>
              <a:off x="8428680" y="2456640"/>
              <a:ext cx="34560" cy="216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411120" y="2467800"/>
              <a:ext cx="34920" cy="148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936640" y="2274840"/>
              <a:ext cx="49320" cy="140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825400" y="2274840"/>
              <a:ext cx="48600" cy="139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141120" y="2307960"/>
              <a:ext cx="41040" cy="105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823240" y="2472840"/>
              <a:ext cx="49320" cy="129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82320" y="2179800"/>
              <a:ext cx="49320" cy="87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03680" y="2179800"/>
              <a:ext cx="171000" cy="79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98520" y="2378160"/>
              <a:ext cx="793800" cy="94680"/>
            </a:xfrm>
            <a:custGeom>
              <a:avLst/>
              <a:gdLst/>
              <a:ahLst/>
              <a:rect l="l" t="t" r="r" b="b"/>
              <a:pathLst>
                <a:path w="4049" h="427">
                  <a:moveTo>
                    <a:pt x="3953" y="152"/>
                  </a:moveTo>
                  <a:lnTo>
                    <a:pt x="3953" y="15"/>
                  </a:lnTo>
                  <a:lnTo>
                    <a:pt x="3953" y="0"/>
                  </a:lnTo>
                  <a:lnTo>
                    <a:pt x="3475" y="0"/>
                  </a:lnTo>
                  <a:lnTo>
                    <a:pt x="3475" y="157"/>
                  </a:lnTo>
                  <a:lnTo>
                    <a:pt x="0" y="152"/>
                  </a:lnTo>
                  <a:lnTo>
                    <a:pt x="0" y="426"/>
                  </a:lnTo>
                  <a:lnTo>
                    <a:pt x="4048" y="426"/>
                  </a:lnTo>
                  <a:lnTo>
                    <a:pt x="4048" y="152"/>
                  </a:lnTo>
                  <a:lnTo>
                    <a:pt x="3953" y="152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09040" y="2274840"/>
              <a:ext cx="49320" cy="138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14160" y="2274840"/>
              <a:ext cx="49320" cy="138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43920" y="2274840"/>
              <a:ext cx="48240" cy="138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97720" y="2424600"/>
              <a:ext cx="99720" cy="392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292680" y="2180880"/>
              <a:ext cx="154440" cy="288000"/>
            </a:xfrm>
            <a:custGeom>
              <a:avLst/>
              <a:gdLst/>
              <a:ahLst/>
              <a:rect l="l" t="t" r="r" b="b"/>
              <a:pathLst>
                <a:path w="864" h="1296">
                  <a:moveTo>
                    <a:pt x="0" y="1296"/>
                  </a:moveTo>
                  <a:lnTo>
                    <a:pt x="864" y="1296"/>
                  </a:lnTo>
                  <a:lnTo>
                    <a:pt x="864" y="0"/>
                  </a:lnTo>
                  <a:lnTo>
                    <a:pt x="672" y="0"/>
                  </a:lnTo>
                  <a:lnTo>
                    <a:pt x="672" y="1104"/>
                  </a:lnTo>
                  <a:lnTo>
                    <a:pt x="0" y="1104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5760" y="2541240"/>
              <a:ext cx="101880" cy="96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 rot="16200000">
            <a:off x="5431680" y="4445640"/>
            <a:ext cx="9216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639680" y="4219560"/>
            <a:ext cx="9036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98120" y="3857760"/>
            <a:ext cx="100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0-SC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30200" y="4070520"/>
            <a:ext cx="892080" cy="0"/>
          </a:xfrm>
          <a:prstGeom prst="line">
            <a:avLst/>
          </a:prstGeom>
          <a:ln w="248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3320" y="41767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rot="16200000">
            <a:off x="748800" y="3998160"/>
            <a:ext cx="92160" cy="1378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0800000">
            <a:off x="3951360" y="6210000"/>
            <a:ext cx="43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55120" y="56894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89480" y="6170760"/>
            <a:ext cx="41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0800000">
            <a:off x="4677840" y="6012000"/>
            <a:ext cx="3204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0800000">
            <a:off x="4424040" y="5813280"/>
            <a:ext cx="18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0800000">
            <a:off x="4759200" y="59353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2635200" y="5864400"/>
            <a:ext cx="687600" cy="1648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0800000">
            <a:off x="3270240" y="5886360"/>
            <a:ext cx="287280" cy="82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8520" bIns="38520" anchor="ctr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2519280" y="5851080"/>
            <a:ext cx="66600" cy="164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0800000">
            <a:off x="2762280" y="6035400"/>
            <a:ext cx="115920" cy="284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5840" bIns="-15840" anchor="ctr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2418840" y="5920920"/>
            <a:ext cx="311400" cy="142920"/>
          </a:xfrm>
          <a:custGeom>
            <a:avLst/>
            <a:gdLst/>
            <a:ahLst/>
            <a:rect l="l" t="t" r="r" b="b"/>
            <a:pathLst>
              <a:path w="1393" h="577">
                <a:moveTo>
                  <a:pt x="527" y="0"/>
                </a:moveTo>
                <a:lnTo>
                  <a:pt x="527" y="246"/>
                </a:lnTo>
                <a:lnTo>
                  <a:pt x="0" y="246"/>
                </a:lnTo>
                <a:lnTo>
                  <a:pt x="0" y="576"/>
                </a:lnTo>
                <a:lnTo>
                  <a:pt x="1392" y="576"/>
                </a:lnTo>
                <a:lnTo>
                  <a:pt x="1392" y="0"/>
                </a:lnTo>
                <a:lnTo>
                  <a:pt x="527" y="0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0800000">
            <a:off x="3301560" y="5878440"/>
            <a:ext cx="18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0800000">
            <a:off x="2460240" y="5886000"/>
            <a:ext cx="1825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0800000">
            <a:off x="2720520" y="5853240"/>
            <a:ext cx="18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0800000">
            <a:off x="2828880" y="6116760"/>
            <a:ext cx="426960" cy="77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3480" bIns="334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2903400" y="6129360"/>
            <a:ext cx="277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3425400" y="6110280"/>
            <a:ext cx="165240" cy="69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5560" bIns="25560" anchor="ctr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3322440" y="5887800"/>
            <a:ext cx="106200" cy="129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0800000">
            <a:off x="3278160" y="5900400"/>
            <a:ext cx="18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2644560" y="6046920"/>
            <a:ext cx="8388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42320" y="56786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51080" y="5614920"/>
            <a:ext cx="506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Armario Hazma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676520" y="6084720"/>
            <a:ext cx="792000" cy="18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0800000">
            <a:off x="1374480" y="6219360"/>
            <a:ext cx="65160" cy="141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26840" y="5901840"/>
            <a:ext cx="757080" cy="109800"/>
            <a:chOff x="726840" y="5901840"/>
            <a:chExt cx="757080" cy="109800"/>
          </a:xfrm>
        </p:grpSpPr>
        <p:sp>
          <p:nvSpPr>
            <p:cNvPr id="411" name=""/>
            <p:cNvSpPr/>
            <p:nvPr/>
          </p:nvSpPr>
          <p:spPr>
            <a:xfrm rot="10800000">
              <a:off x="780840" y="5986440"/>
              <a:ext cx="703080" cy="25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780840" y="5944320"/>
              <a:ext cx="703080" cy="25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0800000">
              <a:off x="780840" y="5901840"/>
              <a:ext cx="703080" cy="25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0800000">
              <a:off x="726840" y="5901840"/>
              <a:ext cx="54000" cy="10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 rot="10800000">
            <a:off x="726840" y="6037200"/>
            <a:ext cx="757080" cy="171360"/>
          </a:xfrm>
          <a:custGeom>
            <a:avLst/>
            <a:gdLst/>
            <a:ahLst/>
            <a:rect l="l" t="t" r="r" b="b"/>
            <a:pathLst>
              <a:path w="2784" h="912">
                <a:moveTo>
                  <a:pt x="0" y="912"/>
                </a:moveTo>
                <a:lnTo>
                  <a:pt x="2784" y="912"/>
                </a:lnTo>
                <a:lnTo>
                  <a:pt x="2784" y="576"/>
                </a:lnTo>
                <a:lnTo>
                  <a:pt x="2544" y="576"/>
                </a:lnTo>
                <a:lnTo>
                  <a:pt x="2544" y="288"/>
                </a:lnTo>
                <a:lnTo>
                  <a:pt x="2304" y="288"/>
                </a:lnTo>
                <a:lnTo>
                  <a:pt x="2304" y="0"/>
                </a:lnTo>
                <a:lnTo>
                  <a:pt x="0" y="0"/>
                </a:lnTo>
                <a:lnTo>
                  <a:pt x="0" y="912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0800000">
            <a:off x="1388880" y="6026040"/>
            <a:ext cx="82440" cy="38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0800000">
            <a:off x="796680" y="6026040"/>
            <a:ext cx="82440" cy="38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0800000">
            <a:off x="740880" y="6001920"/>
            <a:ext cx="41400" cy="34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0800000">
            <a:off x="1441440" y="5977080"/>
            <a:ext cx="187200" cy="33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0800000">
            <a:off x="1447560" y="5874840"/>
            <a:ext cx="261720" cy="219240"/>
          </a:xfrm>
          <a:custGeom>
            <a:avLst/>
            <a:gdLst/>
            <a:ahLst/>
            <a:rect l="l" t="t" r="r" b="b"/>
            <a:pathLst>
              <a:path w="912" h="864">
                <a:moveTo>
                  <a:pt x="912" y="480"/>
                </a:moveTo>
                <a:lnTo>
                  <a:pt x="96" y="480"/>
                </a:lnTo>
                <a:lnTo>
                  <a:pt x="96" y="0"/>
                </a:lnTo>
                <a:lnTo>
                  <a:pt x="0" y="0"/>
                </a:lnTo>
                <a:lnTo>
                  <a:pt x="0" y="864"/>
                </a:lnTo>
                <a:lnTo>
                  <a:pt x="912" y="864"/>
                </a:lnTo>
                <a:lnTo>
                  <a:pt x="912" y="768"/>
                </a:lnTo>
                <a:lnTo>
                  <a:pt x="96" y="768"/>
                </a:lnTo>
                <a:lnTo>
                  <a:pt x="96" y="576"/>
                </a:lnTo>
                <a:lnTo>
                  <a:pt x="912" y="576"/>
                </a:lnTo>
                <a:lnTo>
                  <a:pt x="912" y="48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1580760" y="5837040"/>
            <a:ext cx="82440" cy="37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1382400" y="5692680"/>
            <a:ext cx="27000" cy="331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1404720" y="5967360"/>
            <a:ext cx="27000" cy="14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0800000">
            <a:off x="988560" y="5878440"/>
            <a:ext cx="27000" cy="354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0800000">
            <a:off x="1346040" y="5878440"/>
            <a:ext cx="28800" cy="354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0800000">
            <a:off x="1017360" y="6051240"/>
            <a:ext cx="330120" cy="12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800000">
            <a:off x="1017360" y="6219720"/>
            <a:ext cx="330120" cy="129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1003320" y="6152760"/>
            <a:ext cx="357120" cy="176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1153800" y="6135840"/>
            <a:ext cx="19080" cy="23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0800000">
            <a:off x="1174680" y="6141600"/>
            <a:ext cx="14400" cy="126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153800" y="6171840"/>
            <a:ext cx="27000" cy="12600"/>
            <a:chOff x="1153800" y="6171840"/>
            <a:chExt cx="27000" cy="12600"/>
          </a:xfrm>
        </p:grpSpPr>
        <p:sp>
          <p:nvSpPr>
            <p:cNvPr id="432" name=""/>
            <p:cNvSpPr/>
            <p:nvPr/>
          </p:nvSpPr>
          <p:spPr>
            <a:xfrm rot="10800000">
              <a:off x="1153800" y="6171840"/>
              <a:ext cx="2700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1167480" y="6171840"/>
              <a:ext cx="13320" cy="126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 rot="10800000">
            <a:off x="1412640" y="5981400"/>
            <a:ext cx="14040" cy="126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368360" y="5967000"/>
            <a:ext cx="12600" cy="25560"/>
            <a:chOff x="1368360" y="5967000"/>
            <a:chExt cx="12600" cy="25560"/>
          </a:xfrm>
        </p:grpSpPr>
        <p:sp>
          <p:nvSpPr>
            <p:cNvPr id="436" name=""/>
            <p:cNvSpPr/>
            <p:nvPr/>
          </p:nvSpPr>
          <p:spPr>
            <a:xfrm rot="16200000">
              <a:off x="1361880" y="5973480"/>
              <a:ext cx="2556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1368360" y="5979960"/>
              <a:ext cx="12600" cy="126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H="1" flipV="1">
            <a:off x="945720" y="6195600"/>
            <a:ext cx="574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1561680" y="6195960"/>
            <a:ext cx="27000" cy="23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947880" y="6240600"/>
            <a:ext cx="25200" cy="23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rot="16200000">
            <a:off x="1996920" y="5840280"/>
            <a:ext cx="90360" cy="138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9240" y="5710320"/>
            <a:ext cx="8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80/1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313240" y="3272040"/>
            <a:ext cx="863280" cy="996480"/>
            <a:chOff x="5313240" y="3272040"/>
            <a:chExt cx="863280" cy="996480"/>
          </a:xfrm>
        </p:grpSpPr>
        <p:sp>
          <p:nvSpPr>
            <p:cNvPr id="444" name=""/>
            <p:cNvSpPr/>
            <p:nvPr/>
          </p:nvSpPr>
          <p:spPr>
            <a:xfrm rot="10800000">
              <a:off x="5313240" y="4003200"/>
              <a:ext cx="754560" cy="87480"/>
            </a:xfrm>
            <a:custGeom>
              <a:avLst/>
              <a:gdLst/>
              <a:ahLst/>
              <a:rect l="l" t="t" r="r" b="b"/>
              <a:pathLst>
                <a:path w="5520" h="528">
                  <a:moveTo>
                    <a:pt x="528" y="192"/>
                  </a:moveTo>
                  <a:lnTo>
                    <a:pt x="528" y="0"/>
                  </a:lnTo>
                  <a:lnTo>
                    <a:pt x="144" y="0"/>
                  </a:lnTo>
                  <a:lnTo>
                    <a:pt x="144" y="288"/>
                  </a:lnTo>
                  <a:lnTo>
                    <a:pt x="0" y="288"/>
                  </a:lnTo>
                  <a:lnTo>
                    <a:pt x="0" y="432"/>
                  </a:lnTo>
                  <a:lnTo>
                    <a:pt x="144" y="432"/>
                  </a:lnTo>
                  <a:lnTo>
                    <a:pt x="144" y="480"/>
                  </a:lnTo>
                  <a:lnTo>
                    <a:pt x="4368" y="480"/>
                  </a:lnTo>
                  <a:lnTo>
                    <a:pt x="4368" y="528"/>
                  </a:lnTo>
                  <a:lnTo>
                    <a:pt x="4704" y="528"/>
                  </a:lnTo>
                  <a:lnTo>
                    <a:pt x="4704" y="480"/>
                  </a:lnTo>
                  <a:lnTo>
                    <a:pt x="5520" y="480"/>
                  </a:lnTo>
                  <a:lnTo>
                    <a:pt x="5520" y="0"/>
                  </a:lnTo>
                  <a:lnTo>
                    <a:pt x="4032" y="0"/>
                  </a:lnTo>
                  <a:lnTo>
                    <a:pt x="4032" y="192"/>
                  </a:lnTo>
                  <a:lnTo>
                    <a:pt x="3552" y="192"/>
                  </a:lnTo>
                  <a:lnTo>
                    <a:pt x="3552" y="48"/>
                  </a:lnTo>
                  <a:lnTo>
                    <a:pt x="3264" y="48"/>
                  </a:lnTo>
                  <a:lnTo>
                    <a:pt x="3264" y="192"/>
                  </a:lnTo>
                  <a:lnTo>
                    <a:pt x="528" y="19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0800000">
              <a:off x="5877720" y="3891240"/>
              <a:ext cx="39240" cy="11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0800000">
              <a:off x="5772960" y="3891240"/>
              <a:ext cx="43200" cy="11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800000">
              <a:off x="5666400" y="3891240"/>
              <a:ext cx="42120" cy="11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0800000">
              <a:off x="5565240" y="3891240"/>
              <a:ext cx="42120" cy="11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0800000">
              <a:off x="5461560" y="3855600"/>
              <a:ext cx="69840" cy="48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0800000">
              <a:off x="5663880" y="4106520"/>
              <a:ext cx="261000" cy="54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0800000">
              <a:off x="5963400" y="3868920"/>
              <a:ext cx="39240" cy="115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0800000">
              <a:off x="6069600" y="3875400"/>
              <a:ext cx="20160" cy="32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0800000">
              <a:off x="6155640" y="3875400"/>
              <a:ext cx="20880" cy="32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800000">
              <a:off x="6112080" y="3875400"/>
              <a:ext cx="20880" cy="32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800000">
              <a:off x="5989320" y="3947040"/>
              <a:ext cx="13320" cy="87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5982480" y="3955320"/>
              <a:ext cx="133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960520" y="3852360"/>
              <a:ext cx="215640" cy="31320"/>
              <a:chOff x="5960520" y="3852360"/>
              <a:chExt cx="215640" cy="31320"/>
            </a:xfrm>
          </p:grpSpPr>
          <p:sp>
            <p:nvSpPr>
              <p:cNvPr id="458" name=""/>
              <p:cNvSpPr/>
              <p:nvPr/>
            </p:nvSpPr>
            <p:spPr>
              <a:xfrm rot="10800000">
                <a:off x="5960520" y="3852360"/>
                <a:ext cx="215640" cy="15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0800000">
                <a:off x="6039720" y="3868200"/>
                <a:ext cx="14400" cy="154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10800000">
                <a:off x="6039720" y="3868200"/>
                <a:ext cx="7200" cy="75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 flipH="1" rot="10800000">
              <a:off x="5982840" y="3956400"/>
              <a:ext cx="6480" cy="75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0800000">
              <a:off x="5693400" y="402372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0800000">
              <a:off x="5401440" y="3272040"/>
              <a:ext cx="18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0800000">
              <a:off x="6032160" y="3907800"/>
              <a:ext cx="1440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0800000">
              <a:off x="5975280" y="4111920"/>
              <a:ext cx="77760" cy="58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459400" y="415764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0-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695720" y="1314000"/>
            <a:ext cx="1162440" cy="525600"/>
            <a:chOff x="7695720" y="1314000"/>
            <a:chExt cx="1162440" cy="525600"/>
          </a:xfrm>
        </p:grpSpPr>
        <p:sp>
          <p:nvSpPr>
            <p:cNvPr id="468" name=""/>
            <p:cNvSpPr/>
            <p:nvPr/>
          </p:nvSpPr>
          <p:spPr>
            <a:xfrm rot="10800000">
              <a:off x="8622000" y="1765440"/>
              <a:ext cx="236160" cy="74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0800000">
              <a:off x="7695720" y="1376640"/>
              <a:ext cx="122760" cy="92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0800000">
              <a:off x="8602920" y="1595160"/>
              <a:ext cx="46440" cy="137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0800000">
              <a:off x="8447760" y="1594440"/>
              <a:ext cx="46080" cy="162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8278200" y="1363320"/>
              <a:ext cx="46440" cy="161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0800000">
              <a:off x="8278200" y="1594440"/>
              <a:ext cx="46440" cy="162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0800000">
              <a:off x="8078400" y="1595160"/>
              <a:ext cx="46080" cy="137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8445600" y="1387800"/>
              <a:ext cx="46080" cy="137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0800000">
              <a:off x="7925400" y="1594080"/>
              <a:ext cx="46440" cy="161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0800000">
              <a:off x="7924680" y="1363320"/>
              <a:ext cx="46080" cy="161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0800000">
              <a:off x="8078400" y="1363320"/>
              <a:ext cx="46080" cy="161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7764480" y="1680840"/>
              <a:ext cx="63720" cy="131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0800000">
              <a:off x="8744400" y="1536480"/>
              <a:ext cx="75240" cy="44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800000">
              <a:off x="7713360" y="1537920"/>
              <a:ext cx="96480" cy="43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6200000">
              <a:off x="8730000" y="1459080"/>
              <a:ext cx="69840" cy="18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0800000">
              <a:off x="7723800" y="1514880"/>
              <a:ext cx="5760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0800000">
              <a:off x="8586360" y="1314000"/>
              <a:ext cx="63720" cy="130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0800000">
            <a:off x="2448000" y="4087800"/>
            <a:ext cx="46080" cy="2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0800000">
            <a:off x="3260520" y="4033800"/>
            <a:ext cx="21960" cy="2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0800000">
            <a:off x="3286080" y="4087800"/>
            <a:ext cx="46080" cy="2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0800000">
            <a:off x="2533320" y="3984480"/>
            <a:ext cx="684360" cy="168480"/>
          </a:xfrm>
          <a:custGeom>
            <a:avLst/>
            <a:gdLst/>
            <a:ahLst/>
            <a:rect l="l" t="t" r="r" b="b"/>
            <a:pathLst>
              <a:path w="4201" h="743">
                <a:moveTo>
                  <a:pt x="4200" y="202"/>
                </a:moveTo>
                <a:lnTo>
                  <a:pt x="3931" y="202"/>
                </a:lnTo>
                <a:lnTo>
                  <a:pt x="3931" y="0"/>
                </a:lnTo>
                <a:lnTo>
                  <a:pt x="3217" y="0"/>
                </a:lnTo>
                <a:lnTo>
                  <a:pt x="3217" y="202"/>
                </a:lnTo>
                <a:lnTo>
                  <a:pt x="0" y="202"/>
                </a:lnTo>
                <a:lnTo>
                  <a:pt x="0" y="539"/>
                </a:lnTo>
                <a:lnTo>
                  <a:pt x="3440" y="539"/>
                </a:lnTo>
                <a:lnTo>
                  <a:pt x="3440" y="742"/>
                </a:lnTo>
                <a:lnTo>
                  <a:pt x="3931" y="742"/>
                </a:lnTo>
                <a:lnTo>
                  <a:pt x="3931" y="539"/>
                </a:lnTo>
                <a:lnTo>
                  <a:pt x="4200" y="539"/>
                </a:lnTo>
                <a:lnTo>
                  <a:pt x="4200" y="202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0800000">
            <a:off x="3063960" y="3876840"/>
            <a:ext cx="63360" cy="155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904840" y="3876840"/>
            <a:ext cx="65160" cy="155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10800000">
            <a:off x="2752200" y="3876840"/>
            <a:ext cx="65160" cy="155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0800000">
            <a:off x="3218040" y="4048200"/>
            <a:ext cx="142560" cy="41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0800000">
            <a:off x="2417760" y="4048200"/>
            <a:ext cx="115920" cy="41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0800000">
            <a:off x="3247920" y="3852720"/>
            <a:ext cx="38160" cy="82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0800000">
            <a:off x="2790360" y="4132080"/>
            <a:ext cx="120600" cy="66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2979720" y="4122360"/>
            <a:ext cx="123840" cy="88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0800000">
            <a:off x="2422080" y="3712680"/>
            <a:ext cx="1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6649560" y="1761840"/>
            <a:ext cx="32040" cy="889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6533640" y="1306080"/>
            <a:ext cx="63720" cy="1731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10800000">
            <a:off x="5778360" y="1457280"/>
            <a:ext cx="46080" cy="475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10800000">
            <a:off x="5676480" y="1740960"/>
            <a:ext cx="203400" cy="730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5692320" y="1455840"/>
            <a:ext cx="978120" cy="125280"/>
          </a:xfrm>
          <a:custGeom>
            <a:avLst/>
            <a:gdLst/>
            <a:ahLst/>
            <a:rect l="l" t="t" r="r" b="b"/>
            <a:pathLst>
              <a:path w="4897" h="529">
                <a:moveTo>
                  <a:pt x="4896" y="336"/>
                </a:moveTo>
                <a:lnTo>
                  <a:pt x="4896" y="144"/>
                </a:lnTo>
                <a:lnTo>
                  <a:pt x="4752" y="144"/>
                </a:lnTo>
                <a:lnTo>
                  <a:pt x="4752" y="0"/>
                </a:lnTo>
                <a:lnTo>
                  <a:pt x="4320" y="0"/>
                </a:lnTo>
                <a:lnTo>
                  <a:pt x="4320" y="144"/>
                </a:lnTo>
                <a:lnTo>
                  <a:pt x="0" y="144"/>
                </a:lnTo>
                <a:lnTo>
                  <a:pt x="0" y="384"/>
                </a:lnTo>
                <a:lnTo>
                  <a:pt x="4464" y="384"/>
                </a:lnTo>
                <a:lnTo>
                  <a:pt x="4464" y="528"/>
                </a:lnTo>
                <a:lnTo>
                  <a:pt x="4752" y="528"/>
                </a:lnTo>
                <a:lnTo>
                  <a:pt x="4752" y="384"/>
                </a:lnTo>
                <a:lnTo>
                  <a:pt x="4896" y="384"/>
                </a:lnTo>
                <a:lnTo>
                  <a:pt x="4896" y="288"/>
                </a:lnTo>
              </a:path>
            </a:pathLst>
          </a:custGeom>
          <a:solidFill>
            <a:srgbClr val="00cc99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0800000">
            <a:off x="6533640" y="1547280"/>
            <a:ext cx="63720" cy="1731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6310440" y="1547280"/>
            <a:ext cx="63360" cy="1731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6094440" y="1545840"/>
            <a:ext cx="46080" cy="1191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0800000">
            <a:off x="6670800" y="1512720"/>
            <a:ext cx="115920" cy="4608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800000">
            <a:off x="5582880" y="1504800"/>
            <a:ext cx="111240" cy="4464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6025680" y="1257120"/>
            <a:ext cx="322200" cy="1602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0800000">
            <a:off x="5543280" y="1506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10800000">
            <a:off x="5680080" y="17157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10800000">
            <a:off x="6005520" y="134604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0771800">
            <a:off x="5854680" y="1328760"/>
            <a:ext cx="123840" cy="763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0800000">
            <a:off x="5610240" y="1652760"/>
            <a:ext cx="46080" cy="237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0800000">
            <a:off x="5870520" y="1606320"/>
            <a:ext cx="46080" cy="219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9148680" y="1290600"/>
            <a:ext cx="218880" cy="533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915400" y="18288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8520" y="44280"/>
            <a:ext cx="1584360" cy="11415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6 – Máquinas: 1 – Estaciones: 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bajo la banc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salpicaduras y vapores del canal rápi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rreras de tejido absorbente, barreras de arena y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instalación de cuñas de estanque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22240" y="1276200"/>
            <a:ext cx="959040" cy="497160"/>
          </a:xfrm>
          <a:custGeom>
            <a:avLst/>
            <a:gdLst/>
            <a:ahLst/>
            <a:rect l="l" t="t" r="r" b="b"/>
            <a:pathLst>
              <a:path w="604" h="305">
                <a:moveTo>
                  <a:pt x="103" y="27"/>
                </a:moveTo>
                <a:cubicBezTo>
                  <a:pt x="96" y="28"/>
                  <a:pt x="88" y="27"/>
                  <a:pt x="82" y="30"/>
                </a:cubicBezTo>
                <a:cubicBezTo>
                  <a:pt x="68" y="36"/>
                  <a:pt x="69" y="63"/>
                  <a:pt x="55" y="72"/>
                </a:cubicBezTo>
                <a:cubicBezTo>
                  <a:pt x="53" y="78"/>
                  <a:pt x="51" y="84"/>
                  <a:pt x="49" y="90"/>
                </a:cubicBezTo>
                <a:cubicBezTo>
                  <a:pt x="48" y="93"/>
                  <a:pt x="46" y="99"/>
                  <a:pt x="46" y="99"/>
                </a:cubicBezTo>
                <a:cubicBezTo>
                  <a:pt x="52" y="118"/>
                  <a:pt x="25" y="112"/>
                  <a:pt x="10" y="114"/>
                </a:cubicBezTo>
                <a:cubicBezTo>
                  <a:pt x="0" y="129"/>
                  <a:pt x="5" y="144"/>
                  <a:pt x="22" y="150"/>
                </a:cubicBezTo>
                <a:cubicBezTo>
                  <a:pt x="29" y="157"/>
                  <a:pt x="49" y="165"/>
                  <a:pt x="49" y="165"/>
                </a:cubicBezTo>
                <a:cubicBezTo>
                  <a:pt x="46" y="183"/>
                  <a:pt x="38" y="192"/>
                  <a:pt x="19" y="198"/>
                </a:cubicBezTo>
                <a:cubicBezTo>
                  <a:pt x="6" y="218"/>
                  <a:pt x="25" y="231"/>
                  <a:pt x="43" y="237"/>
                </a:cubicBezTo>
                <a:cubicBezTo>
                  <a:pt x="47" y="237"/>
                  <a:pt x="96" y="230"/>
                  <a:pt x="109" y="237"/>
                </a:cubicBezTo>
                <a:cubicBezTo>
                  <a:pt x="116" y="240"/>
                  <a:pt x="115" y="251"/>
                  <a:pt x="118" y="258"/>
                </a:cubicBezTo>
                <a:cubicBezTo>
                  <a:pt x="127" y="280"/>
                  <a:pt x="126" y="295"/>
                  <a:pt x="151" y="303"/>
                </a:cubicBezTo>
                <a:cubicBezTo>
                  <a:pt x="159" y="301"/>
                  <a:pt x="172" y="305"/>
                  <a:pt x="175" y="297"/>
                </a:cubicBezTo>
                <a:cubicBezTo>
                  <a:pt x="177" y="291"/>
                  <a:pt x="181" y="279"/>
                  <a:pt x="181" y="279"/>
                </a:cubicBezTo>
                <a:cubicBezTo>
                  <a:pt x="180" y="266"/>
                  <a:pt x="180" y="253"/>
                  <a:pt x="178" y="240"/>
                </a:cubicBezTo>
                <a:cubicBezTo>
                  <a:pt x="177" y="236"/>
                  <a:pt x="171" y="235"/>
                  <a:pt x="172" y="231"/>
                </a:cubicBezTo>
                <a:cubicBezTo>
                  <a:pt x="173" y="227"/>
                  <a:pt x="178" y="227"/>
                  <a:pt x="181" y="225"/>
                </a:cubicBezTo>
                <a:cubicBezTo>
                  <a:pt x="231" y="232"/>
                  <a:pt x="277" y="229"/>
                  <a:pt x="319" y="201"/>
                </a:cubicBezTo>
                <a:cubicBezTo>
                  <a:pt x="376" y="206"/>
                  <a:pt x="360" y="210"/>
                  <a:pt x="433" y="207"/>
                </a:cubicBezTo>
                <a:cubicBezTo>
                  <a:pt x="446" y="208"/>
                  <a:pt x="459" y="208"/>
                  <a:pt x="472" y="210"/>
                </a:cubicBezTo>
                <a:cubicBezTo>
                  <a:pt x="478" y="211"/>
                  <a:pt x="490" y="216"/>
                  <a:pt x="490" y="216"/>
                </a:cubicBezTo>
                <a:cubicBezTo>
                  <a:pt x="534" y="211"/>
                  <a:pt x="550" y="209"/>
                  <a:pt x="604" y="207"/>
                </a:cubicBezTo>
                <a:cubicBezTo>
                  <a:pt x="601" y="187"/>
                  <a:pt x="600" y="170"/>
                  <a:pt x="589" y="153"/>
                </a:cubicBezTo>
                <a:cubicBezTo>
                  <a:pt x="590" y="130"/>
                  <a:pt x="591" y="107"/>
                  <a:pt x="592" y="84"/>
                </a:cubicBezTo>
                <a:cubicBezTo>
                  <a:pt x="592" y="77"/>
                  <a:pt x="601" y="30"/>
                  <a:pt x="592" y="27"/>
                </a:cubicBezTo>
                <a:cubicBezTo>
                  <a:pt x="556" y="16"/>
                  <a:pt x="516" y="25"/>
                  <a:pt x="478" y="24"/>
                </a:cubicBezTo>
                <a:cubicBezTo>
                  <a:pt x="436" y="10"/>
                  <a:pt x="494" y="10"/>
                  <a:pt x="403" y="15"/>
                </a:cubicBezTo>
                <a:cubicBezTo>
                  <a:pt x="363" y="28"/>
                  <a:pt x="267" y="8"/>
                  <a:pt x="223" y="6"/>
                </a:cubicBezTo>
                <a:cubicBezTo>
                  <a:pt x="206" y="0"/>
                  <a:pt x="190" y="2"/>
                  <a:pt x="175" y="12"/>
                </a:cubicBezTo>
                <a:cubicBezTo>
                  <a:pt x="166" y="38"/>
                  <a:pt x="122" y="26"/>
                  <a:pt x="103" y="27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84" idx="2"/>
            <a:endCxn id="518" idx="0"/>
          </p:cNvCxnSpPr>
          <p:nvPr/>
        </p:nvCxnSpPr>
        <p:spPr>
          <a:xfrm flipH="1" rot="16200000">
            <a:off x="807840" y="1291680"/>
            <a:ext cx="187920" cy="16200"/>
          </a:xfrm>
          <a:prstGeom prst="bentConnector4">
            <a:avLst>
              <a:gd name="adj1" fmla="val -120921"/>
              <a:gd name="adj2" fmla="val -2013636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28520" y="4637160"/>
            <a:ext cx="2448000" cy="821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B3 – Máquinas: 1 – Estaciones: pór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bajo pór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caen gotas de taladrina de las piez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ndejas en el su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diseñar bandejas selladas a la base para conducir la taladrina al ca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84520" y="306864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la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01600" y="3863880"/>
            <a:ext cx="355680" cy="522360"/>
          </a:xfrm>
          <a:custGeom>
            <a:avLst/>
            <a:gdLst/>
            <a:ahLst/>
            <a:rect l="l" t="t" r="r" b="b"/>
            <a:pathLst>
              <a:path w="224" h="329">
                <a:moveTo>
                  <a:pt x="122" y="14"/>
                </a:moveTo>
                <a:cubicBezTo>
                  <a:pt x="114" y="16"/>
                  <a:pt x="104" y="15"/>
                  <a:pt x="98" y="20"/>
                </a:cubicBezTo>
                <a:cubicBezTo>
                  <a:pt x="71" y="41"/>
                  <a:pt x="122" y="45"/>
                  <a:pt x="68" y="32"/>
                </a:cubicBezTo>
                <a:cubicBezTo>
                  <a:pt x="56" y="34"/>
                  <a:pt x="43" y="32"/>
                  <a:pt x="32" y="38"/>
                </a:cubicBezTo>
                <a:cubicBezTo>
                  <a:pt x="19" y="46"/>
                  <a:pt x="32" y="92"/>
                  <a:pt x="32" y="92"/>
                </a:cubicBezTo>
                <a:cubicBezTo>
                  <a:pt x="35" y="98"/>
                  <a:pt x="44" y="100"/>
                  <a:pt x="50" y="104"/>
                </a:cubicBezTo>
                <a:cubicBezTo>
                  <a:pt x="42" y="136"/>
                  <a:pt x="18" y="151"/>
                  <a:pt x="8" y="182"/>
                </a:cubicBezTo>
                <a:cubicBezTo>
                  <a:pt x="10" y="202"/>
                  <a:pt x="0" y="227"/>
                  <a:pt x="14" y="242"/>
                </a:cubicBezTo>
                <a:cubicBezTo>
                  <a:pt x="93" y="329"/>
                  <a:pt x="57" y="168"/>
                  <a:pt x="74" y="290"/>
                </a:cubicBezTo>
                <a:cubicBezTo>
                  <a:pt x="88" y="288"/>
                  <a:pt x="102" y="283"/>
                  <a:pt x="116" y="284"/>
                </a:cubicBezTo>
                <a:cubicBezTo>
                  <a:pt x="170" y="289"/>
                  <a:pt x="100" y="307"/>
                  <a:pt x="152" y="290"/>
                </a:cubicBezTo>
                <a:cubicBezTo>
                  <a:pt x="154" y="274"/>
                  <a:pt x="149" y="255"/>
                  <a:pt x="158" y="242"/>
                </a:cubicBezTo>
                <a:cubicBezTo>
                  <a:pt x="164" y="234"/>
                  <a:pt x="178" y="238"/>
                  <a:pt x="188" y="236"/>
                </a:cubicBezTo>
                <a:cubicBezTo>
                  <a:pt x="208" y="231"/>
                  <a:pt x="206" y="230"/>
                  <a:pt x="224" y="218"/>
                </a:cubicBezTo>
                <a:cubicBezTo>
                  <a:pt x="220" y="166"/>
                  <a:pt x="222" y="128"/>
                  <a:pt x="194" y="86"/>
                </a:cubicBezTo>
                <a:cubicBezTo>
                  <a:pt x="187" y="19"/>
                  <a:pt x="190" y="0"/>
                  <a:pt x="122" y="14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22" idx="0"/>
            <a:endCxn id="520" idx="0"/>
          </p:cNvCxnSpPr>
          <p:nvPr/>
        </p:nvCxnSpPr>
        <p:spPr>
          <a:xfrm flipH="1" flipV="1" rot="10800000">
            <a:off x="1114200" y="4152600"/>
            <a:ext cx="238680" cy="484560"/>
          </a:xfrm>
          <a:prstGeom prst="bentConnector4">
            <a:avLst>
              <a:gd name="adj1" fmla="val -508761"/>
              <a:gd name="adj2" fmla="val -103494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6753240" y="5805360"/>
            <a:ext cx="2448000" cy="981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21 – Máquinas: 1 – Estaciones: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protecciones laterales y orificios para tuberías no son estan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silicona alrededor de racores, cartones en el su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sellar unión entre protecciones fijas con una chapa sold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45240" y="3949560"/>
            <a:ext cx="411480" cy="365400"/>
          </a:xfrm>
          <a:custGeom>
            <a:avLst/>
            <a:gdLst/>
            <a:ahLst/>
            <a:rect l="l" t="t" r="r" b="b"/>
            <a:pathLst>
              <a:path w="304" h="230">
                <a:moveTo>
                  <a:pt x="173" y="10"/>
                </a:moveTo>
                <a:cubicBezTo>
                  <a:pt x="157" y="11"/>
                  <a:pt x="140" y="10"/>
                  <a:pt x="125" y="14"/>
                </a:cubicBezTo>
                <a:cubicBezTo>
                  <a:pt x="113" y="18"/>
                  <a:pt x="122" y="35"/>
                  <a:pt x="101" y="42"/>
                </a:cubicBezTo>
                <a:cubicBezTo>
                  <a:pt x="87" y="28"/>
                  <a:pt x="82" y="19"/>
                  <a:pt x="69" y="38"/>
                </a:cubicBezTo>
                <a:cubicBezTo>
                  <a:pt x="63" y="69"/>
                  <a:pt x="63" y="52"/>
                  <a:pt x="29" y="58"/>
                </a:cubicBezTo>
                <a:cubicBezTo>
                  <a:pt x="11" y="86"/>
                  <a:pt x="16" y="73"/>
                  <a:pt x="9" y="94"/>
                </a:cubicBezTo>
                <a:cubicBezTo>
                  <a:pt x="10" y="118"/>
                  <a:pt x="0" y="146"/>
                  <a:pt x="13" y="166"/>
                </a:cubicBezTo>
                <a:cubicBezTo>
                  <a:pt x="21" y="178"/>
                  <a:pt x="42" y="168"/>
                  <a:pt x="57" y="170"/>
                </a:cubicBezTo>
                <a:cubicBezTo>
                  <a:pt x="78" y="173"/>
                  <a:pt x="93" y="185"/>
                  <a:pt x="113" y="190"/>
                </a:cubicBezTo>
                <a:cubicBezTo>
                  <a:pt x="117" y="207"/>
                  <a:pt x="133" y="220"/>
                  <a:pt x="149" y="230"/>
                </a:cubicBezTo>
                <a:cubicBezTo>
                  <a:pt x="165" y="225"/>
                  <a:pt x="181" y="219"/>
                  <a:pt x="197" y="214"/>
                </a:cubicBezTo>
                <a:cubicBezTo>
                  <a:pt x="205" y="211"/>
                  <a:pt x="221" y="206"/>
                  <a:pt x="221" y="206"/>
                </a:cubicBezTo>
                <a:cubicBezTo>
                  <a:pt x="227" y="182"/>
                  <a:pt x="229" y="160"/>
                  <a:pt x="249" y="146"/>
                </a:cubicBezTo>
                <a:cubicBezTo>
                  <a:pt x="297" y="156"/>
                  <a:pt x="304" y="138"/>
                  <a:pt x="273" y="62"/>
                </a:cubicBezTo>
                <a:cubicBezTo>
                  <a:pt x="269" y="53"/>
                  <a:pt x="254" y="59"/>
                  <a:pt x="245" y="58"/>
                </a:cubicBezTo>
                <a:cubicBezTo>
                  <a:pt x="239" y="49"/>
                  <a:pt x="232" y="17"/>
                  <a:pt x="229" y="14"/>
                </a:cubicBezTo>
                <a:cubicBezTo>
                  <a:pt x="215" y="0"/>
                  <a:pt x="187" y="3"/>
                  <a:pt x="173" y="1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67720" y="3648240"/>
            <a:ext cx="461880" cy="501480"/>
          </a:xfrm>
          <a:custGeom>
            <a:avLst/>
            <a:gdLst/>
            <a:ahLst/>
            <a:rect l="l" t="t" r="r" b="b"/>
            <a:pathLst>
              <a:path w="229" h="228">
                <a:moveTo>
                  <a:pt x="48" y="12"/>
                </a:moveTo>
                <a:cubicBezTo>
                  <a:pt x="11" y="21"/>
                  <a:pt x="52" y="6"/>
                  <a:pt x="28" y="44"/>
                </a:cubicBezTo>
                <a:cubicBezTo>
                  <a:pt x="23" y="52"/>
                  <a:pt x="4" y="60"/>
                  <a:pt x="4" y="60"/>
                </a:cubicBezTo>
                <a:cubicBezTo>
                  <a:pt x="10" y="78"/>
                  <a:pt x="18" y="70"/>
                  <a:pt x="24" y="88"/>
                </a:cubicBezTo>
                <a:cubicBezTo>
                  <a:pt x="19" y="128"/>
                  <a:pt x="18" y="114"/>
                  <a:pt x="0" y="140"/>
                </a:cubicBezTo>
                <a:cubicBezTo>
                  <a:pt x="5" y="173"/>
                  <a:pt x="8" y="167"/>
                  <a:pt x="40" y="172"/>
                </a:cubicBezTo>
                <a:cubicBezTo>
                  <a:pt x="41" y="179"/>
                  <a:pt x="38" y="189"/>
                  <a:pt x="44" y="192"/>
                </a:cubicBezTo>
                <a:cubicBezTo>
                  <a:pt x="55" y="197"/>
                  <a:pt x="115" y="201"/>
                  <a:pt x="136" y="208"/>
                </a:cubicBezTo>
                <a:cubicBezTo>
                  <a:pt x="229" y="203"/>
                  <a:pt x="212" y="228"/>
                  <a:pt x="204" y="132"/>
                </a:cubicBezTo>
                <a:cubicBezTo>
                  <a:pt x="203" y="125"/>
                  <a:pt x="201" y="119"/>
                  <a:pt x="200" y="112"/>
                </a:cubicBezTo>
                <a:cubicBezTo>
                  <a:pt x="203" y="108"/>
                  <a:pt x="204" y="103"/>
                  <a:pt x="208" y="100"/>
                </a:cubicBezTo>
                <a:cubicBezTo>
                  <a:pt x="213" y="97"/>
                  <a:pt x="221" y="100"/>
                  <a:pt x="224" y="96"/>
                </a:cubicBezTo>
                <a:cubicBezTo>
                  <a:pt x="229" y="89"/>
                  <a:pt x="209" y="72"/>
                  <a:pt x="208" y="72"/>
                </a:cubicBezTo>
                <a:cubicBezTo>
                  <a:pt x="191" y="59"/>
                  <a:pt x="177" y="55"/>
                  <a:pt x="160" y="44"/>
                </a:cubicBezTo>
                <a:cubicBezTo>
                  <a:pt x="157" y="48"/>
                  <a:pt x="157" y="58"/>
                  <a:pt x="152" y="56"/>
                </a:cubicBezTo>
                <a:cubicBezTo>
                  <a:pt x="131" y="48"/>
                  <a:pt x="115" y="13"/>
                  <a:pt x="96" y="0"/>
                </a:cubicBezTo>
                <a:cubicBezTo>
                  <a:pt x="81" y="4"/>
                  <a:pt x="64" y="12"/>
                  <a:pt x="48" y="12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832880" y="47520"/>
            <a:ext cx="2016000" cy="901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4 – Máquinas: 1 – Estaciones: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en later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no hay estanqueidad en las protecc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aumentar el perfil de la chapa arriba. Construir deflectores exterior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77120" y="1266840"/>
            <a:ext cx="428400" cy="588960"/>
          </a:xfrm>
          <a:custGeom>
            <a:avLst/>
            <a:gdLst/>
            <a:ahLst/>
            <a:rect l="l" t="t" r="r" b="b"/>
            <a:pathLst>
              <a:path w="270" h="371">
                <a:moveTo>
                  <a:pt x="108" y="0"/>
                </a:moveTo>
                <a:cubicBezTo>
                  <a:pt x="46" y="9"/>
                  <a:pt x="78" y="8"/>
                  <a:pt x="36" y="36"/>
                </a:cubicBezTo>
                <a:cubicBezTo>
                  <a:pt x="28" y="48"/>
                  <a:pt x="20" y="60"/>
                  <a:pt x="12" y="72"/>
                </a:cubicBezTo>
                <a:cubicBezTo>
                  <a:pt x="5" y="83"/>
                  <a:pt x="0" y="108"/>
                  <a:pt x="0" y="108"/>
                </a:cubicBezTo>
                <a:cubicBezTo>
                  <a:pt x="7" y="168"/>
                  <a:pt x="9" y="154"/>
                  <a:pt x="24" y="198"/>
                </a:cubicBezTo>
                <a:cubicBezTo>
                  <a:pt x="22" y="221"/>
                  <a:pt x="11" y="281"/>
                  <a:pt x="24" y="306"/>
                </a:cubicBezTo>
                <a:cubicBezTo>
                  <a:pt x="28" y="314"/>
                  <a:pt x="41" y="313"/>
                  <a:pt x="48" y="318"/>
                </a:cubicBezTo>
                <a:cubicBezTo>
                  <a:pt x="87" y="346"/>
                  <a:pt x="45" y="329"/>
                  <a:pt x="84" y="342"/>
                </a:cubicBezTo>
                <a:cubicBezTo>
                  <a:pt x="219" y="336"/>
                  <a:pt x="236" y="371"/>
                  <a:pt x="270" y="270"/>
                </a:cubicBezTo>
                <a:cubicBezTo>
                  <a:pt x="265" y="191"/>
                  <a:pt x="262" y="119"/>
                  <a:pt x="192" y="72"/>
                </a:cubicBezTo>
                <a:cubicBezTo>
                  <a:pt x="160" y="24"/>
                  <a:pt x="202" y="82"/>
                  <a:pt x="162" y="42"/>
                </a:cubicBezTo>
                <a:cubicBezTo>
                  <a:pt x="157" y="37"/>
                  <a:pt x="156" y="29"/>
                  <a:pt x="150" y="24"/>
                </a:cubicBezTo>
                <a:cubicBezTo>
                  <a:pt x="138" y="14"/>
                  <a:pt x="121" y="13"/>
                  <a:pt x="108" y="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0800000">
            <a:off x="7626240" y="1296720"/>
            <a:ext cx="1175040" cy="539640"/>
          </a:xfrm>
          <a:custGeom>
            <a:avLst/>
            <a:gdLst/>
            <a:ahLst/>
            <a:rect l="l" t="t" r="r" b="b"/>
            <a:pathLst>
              <a:path w="740" h="340">
                <a:moveTo>
                  <a:pt x="200" y="35"/>
                </a:moveTo>
                <a:cubicBezTo>
                  <a:pt x="150" y="37"/>
                  <a:pt x="100" y="34"/>
                  <a:pt x="50" y="41"/>
                </a:cubicBezTo>
                <a:cubicBezTo>
                  <a:pt x="31" y="44"/>
                  <a:pt x="32" y="66"/>
                  <a:pt x="26" y="77"/>
                </a:cubicBezTo>
                <a:cubicBezTo>
                  <a:pt x="19" y="90"/>
                  <a:pt x="2" y="113"/>
                  <a:pt x="2" y="113"/>
                </a:cubicBezTo>
                <a:cubicBezTo>
                  <a:pt x="4" y="159"/>
                  <a:pt x="0" y="206"/>
                  <a:pt x="8" y="251"/>
                </a:cubicBezTo>
                <a:cubicBezTo>
                  <a:pt x="9" y="257"/>
                  <a:pt x="20" y="256"/>
                  <a:pt x="26" y="257"/>
                </a:cubicBezTo>
                <a:cubicBezTo>
                  <a:pt x="84" y="267"/>
                  <a:pt x="114" y="269"/>
                  <a:pt x="170" y="275"/>
                </a:cubicBezTo>
                <a:cubicBezTo>
                  <a:pt x="186" y="340"/>
                  <a:pt x="513" y="302"/>
                  <a:pt x="590" y="299"/>
                </a:cubicBezTo>
                <a:cubicBezTo>
                  <a:pt x="630" y="239"/>
                  <a:pt x="577" y="265"/>
                  <a:pt x="710" y="257"/>
                </a:cubicBezTo>
                <a:cubicBezTo>
                  <a:pt x="716" y="255"/>
                  <a:pt x="724" y="256"/>
                  <a:pt x="728" y="251"/>
                </a:cubicBezTo>
                <a:cubicBezTo>
                  <a:pt x="735" y="241"/>
                  <a:pt x="740" y="215"/>
                  <a:pt x="740" y="215"/>
                </a:cubicBezTo>
                <a:cubicBezTo>
                  <a:pt x="738" y="173"/>
                  <a:pt x="737" y="131"/>
                  <a:pt x="734" y="89"/>
                </a:cubicBezTo>
                <a:cubicBezTo>
                  <a:pt x="732" y="63"/>
                  <a:pt x="714" y="62"/>
                  <a:pt x="692" y="47"/>
                </a:cubicBezTo>
                <a:cubicBezTo>
                  <a:pt x="621" y="0"/>
                  <a:pt x="657" y="23"/>
                  <a:pt x="512" y="23"/>
                </a:cubicBezTo>
                <a:lnTo>
                  <a:pt x="200" y="35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38160"/>
            <a:ext cx="1655640" cy="8751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5 – Máquinas: 1 – Estaciones: 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unión zona de carga con estación no es estanc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regularm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modificar saliente, tapar abertura, sellar un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28" idx="0"/>
            <a:endCxn id="530" idx="2"/>
          </p:cNvCxnSpPr>
          <p:nvPr/>
        </p:nvCxnSpPr>
        <p:spPr>
          <a:xfrm flipV="1" rot="16200000">
            <a:off x="6546600" y="1145520"/>
            <a:ext cx="468000" cy="2880"/>
          </a:xfrm>
          <a:prstGeom prst="bentConnector3">
            <a:avLst>
              <a:gd name="adj1" fmla="val 62201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6742080" y="3817800"/>
            <a:ext cx="252360" cy="195480"/>
          </a:xfrm>
          <a:custGeom>
            <a:avLst/>
            <a:gdLst/>
            <a:ahLst/>
            <a:rect l="l" t="t" r="r" b="b"/>
            <a:pathLst>
              <a:path w="159" h="123">
                <a:moveTo>
                  <a:pt x="81" y="9"/>
                </a:moveTo>
                <a:cubicBezTo>
                  <a:pt x="31" y="13"/>
                  <a:pt x="25" y="0"/>
                  <a:pt x="13" y="37"/>
                </a:cubicBezTo>
                <a:cubicBezTo>
                  <a:pt x="22" y="110"/>
                  <a:pt x="0" y="98"/>
                  <a:pt x="49" y="105"/>
                </a:cubicBezTo>
                <a:cubicBezTo>
                  <a:pt x="53" y="106"/>
                  <a:pt x="58" y="106"/>
                  <a:pt x="61" y="109"/>
                </a:cubicBezTo>
                <a:cubicBezTo>
                  <a:pt x="64" y="112"/>
                  <a:pt x="61" y="121"/>
                  <a:pt x="65" y="121"/>
                </a:cubicBezTo>
                <a:cubicBezTo>
                  <a:pt x="86" y="123"/>
                  <a:pt x="108" y="118"/>
                  <a:pt x="129" y="117"/>
                </a:cubicBezTo>
                <a:cubicBezTo>
                  <a:pt x="157" y="98"/>
                  <a:pt x="159" y="49"/>
                  <a:pt x="129" y="29"/>
                </a:cubicBezTo>
                <a:cubicBezTo>
                  <a:pt x="116" y="9"/>
                  <a:pt x="104" y="3"/>
                  <a:pt x="81" y="9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297" idx="2"/>
            <a:endCxn id="534" idx="0"/>
          </p:cNvCxnSpPr>
          <p:nvPr/>
        </p:nvCxnSpPr>
        <p:spPr>
          <a:xfrm flipH="1" rot="16200000">
            <a:off x="6536520" y="4372200"/>
            <a:ext cx="702000" cy="2160"/>
          </a:xfrm>
          <a:prstGeom prst="bentConnector3">
            <a:avLst>
              <a:gd name="adj1" fmla="val 50436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535" name=""/>
          <p:cNvSpPr/>
          <p:nvPr/>
        </p:nvSpPr>
        <p:spPr>
          <a:xfrm rot="201600">
            <a:off x="6608880" y="2149560"/>
            <a:ext cx="1174680" cy="539640"/>
          </a:xfrm>
          <a:custGeom>
            <a:avLst/>
            <a:gdLst/>
            <a:ahLst/>
            <a:rect l="l" t="t" r="r" b="b"/>
            <a:pathLst>
              <a:path w="740" h="340">
                <a:moveTo>
                  <a:pt x="200" y="35"/>
                </a:moveTo>
                <a:cubicBezTo>
                  <a:pt x="150" y="37"/>
                  <a:pt x="100" y="34"/>
                  <a:pt x="50" y="41"/>
                </a:cubicBezTo>
                <a:cubicBezTo>
                  <a:pt x="31" y="44"/>
                  <a:pt x="32" y="66"/>
                  <a:pt x="26" y="77"/>
                </a:cubicBezTo>
                <a:cubicBezTo>
                  <a:pt x="19" y="90"/>
                  <a:pt x="2" y="113"/>
                  <a:pt x="2" y="113"/>
                </a:cubicBezTo>
                <a:cubicBezTo>
                  <a:pt x="4" y="159"/>
                  <a:pt x="0" y="206"/>
                  <a:pt x="8" y="251"/>
                </a:cubicBezTo>
                <a:cubicBezTo>
                  <a:pt x="9" y="257"/>
                  <a:pt x="20" y="256"/>
                  <a:pt x="26" y="257"/>
                </a:cubicBezTo>
                <a:cubicBezTo>
                  <a:pt x="84" y="267"/>
                  <a:pt x="114" y="269"/>
                  <a:pt x="170" y="275"/>
                </a:cubicBezTo>
                <a:cubicBezTo>
                  <a:pt x="186" y="340"/>
                  <a:pt x="513" y="302"/>
                  <a:pt x="590" y="299"/>
                </a:cubicBezTo>
                <a:cubicBezTo>
                  <a:pt x="630" y="239"/>
                  <a:pt x="577" y="265"/>
                  <a:pt x="710" y="257"/>
                </a:cubicBezTo>
                <a:cubicBezTo>
                  <a:pt x="716" y="255"/>
                  <a:pt x="724" y="256"/>
                  <a:pt x="728" y="251"/>
                </a:cubicBezTo>
                <a:cubicBezTo>
                  <a:pt x="735" y="241"/>
                  <a:pt x="740" y="215"/>
                  <a:pt x="740" y="215"/>
                </a:cubicBezTo>
                <a:cubicBezTo>
                  <a:pt x="738" y="173"/>
                  <a:pt x="737" y="131"/>
                  <a:pt x="734" y="89"/>
                </a:cubicBezTo>
                <a:cubicBezTo>
                  <a:pt x="732" y="63"/>
                  <a:pt x="714" y="62"/>
                  <a:pt x="692" y="47"/>
                </a:cubicBezTo>
                <a:cubicBezTo>
                  <a:pt x="621" y="0"/>
                  <a:pt x="657" y="23"/>
                  <a:pt x="512" y="23"/>
                </a:cubicBezTo>
                <a:lnTo>
                  <a:pt x="200" y="35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0"/>
            <a:endCxn id="537" idx="0"/>
          </p:cNvCxnSpPr>
          <p:nvPr/>
        </p:nvCxnSpPr>
        <p:spPr>
          <a:xfrm flipH="1">
            <a:off x="7400880" y="2589120"/>
            <a:ext cx="326880" cy="192600"/>
          </a:xfrm>
          <a:prstGeom prst="bentConnector4">
            <a:avLst>
              <a:gd name="adj1" fmla="val -278280"/>
              <a:gd name="adj2" fmla="val -329400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538" name=""/>
          <p:cNvCxnSpPr>
            <a:stCxn id="529" idx="0"/>
            <a:endCxn id="527" idx="2"/>
          </p:cNvCxnSpPr>
          <p:nvPr/>
        </p:nvCxnSpPr>
        <p:spPr>
          <a:xfrm flipV="1">
            <a:off x="8788680" y="949320"/>
            <a:ext cx="52560" cy="489600"/>
          </a:xfrm>
          <a:prstGeom prst="bentConnector2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539" name=""/>
          <p:cNvSpPr/>
          <p:nvPr/>
        </p:nvSpPr>
        <p:spPr>
          <a:xfrm rot="201600">
            <a:off x="5024520" y="2149560"/>
            <a:ext cx="1174680" cy="539640"/>
          </a:xfrm>
          <a:custGeom>
            <a:avLst/>
            <a:gdLst/>
            <a:ahLst/>
            <a:rect l="l" t="t" r="r" b="b"/>
            <a:pathLst>
              <a:path w="740" h="340">
                <a:moveTo>
                  <a:pt x="200" y="35"/>
                </a:moveTo>
                <a:cubicBezTo>
                  <a:pt x="150" y="37"/>
                  <a:pt x="100" y="34"/>
                  <a:pt x="50" y="41"/>
                </a:cubicBezTo>
                <a:cubicBezTo>
                  <a:pt x="31" y="44"/>
                  <a:pt x="32" y="66"/>
                  <a:pt x="26" y="77"/>
                </a:cubicBezTo>
                <a:cubicBezTo>
                  <a:pt x="19" y="90"/>
                  <a:pt x="2" y="113"/>
                  <a:pt x="2" y="113"/>
                </a:cubicBezTo>
                <a:cubicBezTo>
                  <a:pt x="4" y="159"/>
                  <a:pt x="0" y="206"/>
                  <a:pt x="8" y="251"/>
                </a:cubicBezTo>
                <a:cubicBezTo>
                  <a:pt x="9" y="257"/>
                  <a:pt x="20" y="256"/>
                  <a:pt x="26" y="257"/>
                </a:cubicBezTo>
                <a:cubicBezTo>
                  <a:pt x="84" y="267"/>
                  <a:pt x="114" y="269"/>
                  <a:pt x="170" y="275"/>
                </a:cubicBezTo>
                <a:cubicBezTo>
                  <a:pt x="186" y="340"/>
                  <a:pt x="513" y="302"/>
                  <a:pt x="590" y="299"/>
                </a:cubicBezTo>
                <a:cubicBezTo>
                  <a:pt x="630" y="239"/>
                  <a:pt x="577" y="265"/>
                  <a:pt x="710" y="257"/>
                </a:cubicBezTo>
                <a:cubicBezTo>
                  <a:pt x="716" y="255"/>
                  <a:pt x="724" y="256"/>
                  <a:pt x="728" y="251"/>
                </a:cubicBezTo>
                <a:cubicBezTo>
                  <a:pt x="735" y="241"/>
                  <a:pt x="740" y="215"/>
                  <a:pt x="740" y="215"/>
                </a:cubicBezTo>
                <a:cubicBezTo>
                  <a:pt x="738" y="173"/>
                  <a:pt x="737" y="131"/>
                  <a:pt x="734" y="89"/>
                </a:cubicBezTo>
                <a:cubicBezTo>
                  <a:pt x="732" y="63"/>
                  <a:pt x="714" y="62"/>
                  <a:pt x="692" y="47"/>
                </a:cubicBezTo>
                <a:cubicBezTo>
                  <a:pt x="621" y="0"/>
                  <a:pt x="657" y="23"/>
                  <a:pt x="512" y="23"/>
                </a:cubicBezTo>
                <a:lnTo>
                  <a:pt x="200" y="35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9" idx="0"/>
            <a:endCxn id="541" idx="0"/>
          </p:cNvCxnSpPr>
          <p:nvPr/>
        </p:nvCxnSpPr>
        <p:spPr>
          <a:xfrm rot="5400000">
            <a:off x="5155560" y="2652120"/>
            <a:ext cx="214200" cy="45360"/>
          </a:xfrm>
          <a:prstGeom prst="bentConnector3">
            <a:avLst>
              <a:gd name="adj1" fmla="val 68518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2647800" y="4543560"/>
            <a:ext cx="1513080" cy="109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Derrames de taladrina o aceite de lubricación que puedan provocar accidentes o generar vahos nocivos. Generalmente solucionar un problema de este tipo tendrá un coste elevad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Manchas y salpicaduras que resulten molestas sin llegar a generar un riesgo de accidente o intoxicación. Su corrección no será excesivamente car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92880" y="2781360"/>
            <a:ext cx="2016000" cy="901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8 – Máquinas: 1 – Estaciones: 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en later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no hay estanqueidad en las protecc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aumentar el perfil de la chapa arriba y construir deflectores interio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2160" y="2781360"/>
            <a:ext cx="2016360" cy="821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7 – Máquinas: 1 – Estaciones: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en later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las protecciones están por fuera de la banc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soldar deflector hacia d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80240" y="4724280"/>
            <a:ext cx="2016000" cy="8751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22 – Máquinas: 1 – Estaciones: 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la taladrina cae fuera de la bandeja y protecciones con encaje por d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regularm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poner encaje por fuera y modificar canal entre máquina y transporta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121600" y="4581360"/>
            <a:ext cx="1712880" cy="981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20 – Máquinas: 1 – Estaciones: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protecciones laterales y orificios para tuberías no son estan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silicona alrededor de racores, cartones en el su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sellar la unión entre protecciones fijas con una chapa sold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0"/>
            <a:endCxn id="543" idx="0"/>
          </p:cNvCxnSpPr>
          <p:nvPr/>
        </p:nvCxnSpPr>
        <p:spPr>
          <a:xfrm flipH="1" rot="16200000">
            <a:off x="8611920" y="4214880"/>
            <a:ext cx="511200" cy="222120"/>
          </a:xfrm>
          <a:prstGeom prst="bentConnector3">
            <a:avLst>
              <a:gd name="adj1" fmla="val 53417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545" name=""/>
          <p:cNvSpPr/>
          <p:nvPr/>
        </p:nvSpPr>
        <p:spPr>
          <a:xfrm>
            <a:off x="103320" y="6381720"/>
            <a:ext cx="5313240" cy="276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ncisco Burgada Vilaplan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ágina 1 de 1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emisión: 13/02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W:\DEP\area-d\FBurgada\puntos negros Paco\layout lineas\CU-2008-1.ppt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revisión: 13/03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25" idx="0"/>
            <a:endCxn id="524" idx="0"/>
          </p:cNvCxnSpPr>
          <p:nvPr/>
        </p:nvCxnSpPr>
        <p:spPr>
          <a:xfrm>
            <a:off x="7882560" y="4181400"/>
            <a:ext cx="95040" cy="1624320"/>
          </a:xfrm>
          <a:prstGeom prst="bentConnector4">
            <a:avLst>
              <a:gd name="adj1" fmla="val 300380"/>
              <a:gd name="adj2" fmla="val 54112"/>
            </a:avLst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4:15:22Z</dcterms:created>
  <dc:creator>jgasco</dc:creator>
  <dc:description/>
  <dc:language>en-US</dc:language>
  <cp:lastModifiedBy>fburgada</cp:lastModifiedBy>
  <dcterms:modified xsi:type="dcterms:W3CDTF">2008-06-27T07:11:11Z</dcterms:modified>
  <cp:revision>52</cp:revision>
  <dc:subject/>
  <dc:title>Presentación de PowerPoint</dc:title>
</cp:coreProperties>
</file>